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664325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6636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2"/>
          </p:nvPr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855720" y="74268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3"/>
          </p:nvPr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4"/>
          </p:nvPr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00191-8EC1-46DA-AE59-427DA41DF3A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 txBox="1"/>
          <p:nvPr/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4B7D2-20F9-44E9-A086-5EFE78C712D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 txBox="1"/>
          <p:nvPr/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906480" y="768240"/>
            <a:ext cx="4923000" cy="369252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15840" y="4692240"/>
            <a:ext cx="488952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 txBox="1"/>
          <p:nvPr/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16D40-F11E-4345-9840-7482E6AF42A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906480" y="768240"/>
            <a:ext cx="4923000" cy="369252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15840" y="4692240"/>
            <a:ext cx="488952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 txBox="1"/>
          <p:nvPr/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F5A1C-221A-4001-BC1F-C308B2F685B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 txBox="1"/>
          <p:nvPr/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011240" y="83340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877680" y="4703760"/>
            <a:ext cx="49021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347DA-6BC8-4875-AFBD-E23EDCC8E38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 txBox="1"/>
          <p:nvPr/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868320" y="74916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361800" y="4559040"/>
            <a:ext cx="5934240" cy="48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 txBox="1"/>
          <p:nvPr/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9B99F-E422-4FB8-8CAF-C530CD68695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900000" y="768240"/>
            <a:ext cx="4923000" cy="369252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914400" y="4984560"/>
            <a:ext cx="488808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903240" y="4567320"/>
            <a:ext cx="2633760" cy="347040"/>
            <a:chOff x="903240" y="4567320"/>
            <a:chExt cx="2633760" cy="347040"/>
          </a:xfrm>
        </p:grpSpPr>
        <p:sp>
          <p:nvSpPr>
            <p:cNvPr id="785" name=""/>
            <p:cNvSpPr/>
            <p:nvPr/>
          </p:nvSpPr>
          <p:spPr>
            <a:xfrm>
              <a:off x="903240" y="4567320"/>
              <a:ext cx="263376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0" bIns="45360" anchor="t">
              <a:spAutoFit/>
            </a:bodyPr>
            <a:p>
              <a:pPr algn="ctr">
                <a:lnSpc>
                  <a:spcPts val="2373"/>
                </a:lnSpc>
                <a:spcBef>
                  <a:spcPts val="1001"/>
                </a:spcBef>
                <a:tabLst>
                  <a:tab algn="l" pos="0"/>
                  <a:tab algn="l" pos="90504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TRICTLY CONFIDENT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903240" y="4567320"/>
              <a:ext cx="255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903240" y="4870440"/>
              <a:ext cx="255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 txBox="1"/>
          <p:nvPr/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5DC68-F932-414E-BDF3-FCECEDCBA7E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905040" y="768240"/>
            <a:ext cx="4924440" cy="369252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15840" y="4692240"/>
            <a:ext cx="488952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 txBox="1"/>
          <p:nvPr/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59585-79B4-4E05-AD32-654B1EF67D8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905040" y="768240"/>
            <a:ext cx="4924440" cy="369252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915840" y="4692240"/>
            <a:ext cx="488952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 txBox="1"/>
          <p:nvPr/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D8414-5FAD-427D-B9C1-99F807EBCD8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905040" y="77148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14400" y="4692240"/>
            <a:ext cx="488952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 txBox="1"/>
          <p:nvPr/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45193-834D-4E6F-86F2-71968D4089A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8557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66720" y="4870440"/>
            <a:ext cx="5329440" cy="42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 txBox="1"/>
          <p:nvPr/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4AAB4-3D54-4579-B7D0-E2A7C42A2FA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906480" y="768240"/>
            <a:ext cx="4923000" cy="369252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15840" y="4692240"/>
            <a:ext cx="488952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177640" y="6453000"/>
            <a:ext cx="65530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Siemens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fld id="{EB3900DB-21C9-4ABF-99AA-DCCFFB69A50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Swif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413920" y="0"/>
            <a:ext cx="730080" cy="7192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14280" y="6122880"/>
            <a:ext cx="2054160" cy="4572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8108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6036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53964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ims.icn.siemens.de/livelink/livelink/Open/331502833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ims.icn.siemens.de/livelink/livelink/Open/329897340" TargetMode="External"/><Relationship Id="rId2" Type="http://schemas.openxmlformats.org/officeDocument/2006/relationships/hyperlink" Target="https://ims.icn.siemens.de/livelink/livelink/Open/332091627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12920" y="4248000"/>
            <a:ext cx="8318160" cy="2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eike Evangelista, Munich, 01.07.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60200" y="154080"/>
            <a:ext cx="8821800" cy="26445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12560" y="3152880"/>
            <a:ext cx="873108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iemens COM MD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wift M0 Declaration </a:t>
            </a:r>
            <a:br>
              <a:rPr sz="28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Delta Doc to M0 Document HW+Producti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Featur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3.2 Featuring (2/3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 of Features - Hard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5" name=""/>
          <p:cNvGraphicFramePr/>
          <p:nvPr/>
        </p:nvGraphicFramePr>
        <p:xfrm>
          <a:off x="210960" y="1079640"/>
          <a:ext cx="6204240" cy="5281560"/>
        </p:xfrm>
        <a:graphic>
          <a:graphicData uri="http://schemas.openxmlformats.org/drawingml/2006/table">
            <a:tbl>
              <a:tblPr/>
              <a:tblGrid>
                <a:gridCol w="2775240"/>
                <a:gridCol w="3429000"/>
              </a:tblGrid>
              <a:tr h="229680">
                <a:tc gridSpan="2">
                  <a:txBody>
                    <a:bodyPr lIns="0" rIns="0" tIns="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W Feat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uencies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0, 1800, 19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nsmission Mode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PRS/EGPRS(EDGE) class 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56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mary Displ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x320, 256k color, TFT, 2 in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condary Displ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1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uch Scre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me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 Mpix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lash (ligh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L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56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r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luetoo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 (TI-Solutio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1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reless Sensor Connectiv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ilt-in Sens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05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-G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dio Broadca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C/AAC+/AAC++/MP3/AMR NB/MIDI/WA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56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lticolor LED (Keypa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 foil illumi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tte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70 mA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Sanyo battery pa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236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nd Audio Jack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de ke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+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7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aring Aid Compati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96" name=""/>
          <p:cNvSpPr/>
          <p:nvPr/>
        </p:nvSpPr>
        <p:spPr>
          <a:xfrm>
            <a:off x="6510600" y="1617840"/>
            <a:ext cx="1506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= SAR Target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,8 W/kg 1gr. ave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8067600" y="963720"/>
            <a:ext cx="8510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Source: Bach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Featur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3.2 Featuring (3/3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vs. Requirements – as of 29.06.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96840" y="1054080"/>
            <a:ext cx="8551800" cy="23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333440"/>
                <a:tab algn="l" pos="2482920"/>
                <a:tab algn="l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op Level Requirement Li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333440"/>
                <a:tab algn="l" pos="2482920"/>
                <a:tab algn="l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333440"/>
                <a:tab algn="l" pos="2482920"/>
                <a:tab algn="l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333440"/>
                <a:tab algn="l" pos="2482920"/>
                <a:tab algn="l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333440"/>
                <a:tab algn="l" pos="2482920"/>
                <a:tab algn="l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333440"/>
                <a:tab algn="l" pos="2482920"/>
                <a:tab algn="l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howstopper* in Summer, if not implemented in Rel. 3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333440"/>
                <a:tab algn="l" pos="2482920"/>
                <a:tab algn="l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708320" y="954000"/>
            <a:ext cx="12092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Source: Evangelis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2" name=""/>
          <p:cNvGraphicFramePr/>
          <p:nvPr/>
        </p:nvGraphicFramePr>
        <p:xfrm>
          <a:off x="387360" y="1571760"/>
          <a:ext cx="914400" cy="79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7360" y="1571760"/>
                    <a:ext cx="91440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4" name=""/>
          <p:cNvGraphicFramePr/>
          <p:nvPr/>
        </p:nvGraphicFramePr>
        <p:xfrm>
          <a:off x="203040" y="3129120"/>
          <a:ext cx="7086600" cy="2261880"/>
        </p:xfrm>
        <a:graphic>
          <a:graphicData uri="http://schemas.openxmlformats.org/drawingml/2006/table">
            <a:tbl>
              <a:tblPr/>
              <a:tblGrid>
                <a:gridCol w="6110280"/>
                <a:gridCol w="976320"/>
              </a:tblGrid>
              <a:tr h="228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riptio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yp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MA DRM 2.0 (incl. Java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ne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yncML 1.1.2 DM/DS (settings update; also for SWUOTA)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ne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MA PoC for S-Gold2 based 75 Gen produc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ne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.264 decode - based on SW solution  (tbd.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neral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ckward compatibility of Rel. 3 with Rel. 2 products (Swift, Ibis, Brambling, Polaris, Plove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ne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dafone UI application flow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Vodaf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ckup&amp;help (enhancement according to OGDR3.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Oran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cket video progressive download (enhancement according to OGDR3.1 -- FastTrack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Oran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diak (poc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Orang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Ja2.5 li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i-mod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i-Mode DR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i-mo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5" name=""/>
          <p:cNvSpPr/>
          <p:nvPr/>
        </p:nvSpPr>
        <p:spPr>
          <a:xfrm>
            <a:off x="241200" y="5673600"/>
            <a:ext cx="6293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3300"/>
                </a:solidFill>
                <a:latin typeface="Arial"/>
              </a:rPr>
              <a:t>* Swift will not be accepted in Global Operator portfolio! Estimated volume impact up to 700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15720" y="28260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3.4 User Interface (1/8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I Hard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14360" y="1412640"/>
            <a:ext cx="5859360" cy="46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VG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isp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ew layout principles including a permanent status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ne color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ED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for service light ind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p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5-way navigation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end-/end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 softke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a player front key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access to music &amp; vide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oker key = Direct calling key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access to one end user defined addressbook 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sh-to-talk side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mera side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olume side key (+/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8" name=""/>
          <p:cNvGraphicFramePr/>
          <p:nvPr/>
        </p:nvGraphicFramePr>
        <p:xfrm>
          <a:off x="6354720" y="1749600"/>
          <a:ext cx="1938240" cy="36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4720" y="1749600"/>
                    <a:ext cx="1938240" cy="36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0" name=""/>
          <p:cNvSpPr/>
          <p:nvPr/>
        </p:nvSpPr>
        <p:spPr>
          <a:xfrm>
            <a:off x="5804280" y="2106720"/>
            <a:ext cx="56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6052320" y="2868480"/>
            <a:ext cx="281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8325720" y="2093760"/>
            <a:ext cx="59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olum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7180200" y="1794960"/>
            <a:ext cx="260280" cy="206280"/>
            <a:chOff x="7180200" y="1794960"/>
            <a:chExt cx="260280" cy="206280"/>
          </a:xfrm>
        </p:grpSpPr>
        <p:sp>
          <p:nvSpPr>
            <p:cNvPr id="714" name=""/>
            <p:cNvSpPr/>
            <p:nvPr/>
          </p:nvSpPr>
          <p:spPr>
            <a:xfrm>
              <a:off x="7281720" y="1882440"/>
              <a:ext cx="58320" cy="57240"/>
            </a:xfrm>
            <a:prstGeom prst="ellipse">
              <a:avLst/>
            </a:prstGeom>
            <a:solidFill>
              <a:srgbClr val="ff232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V="1">
              <a:off x="7219800" y="1794960"/>
              <a:ext cx="220320" cy="206280"/>
            </a:xfrm>
            <a:prstGeom prst="line">
              <a:avLst/>
            </a:prstGeom>
            <a:ln w="9360">
              <a:solidFill>
                <a:srgbClr val="ff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208640" y="1795320"/>
              <a:ext cx="202680" cy="201600"/>
            </a:xfrm>
            <a:prstGeom prst="line">
              <a:avLst/>
            </a:prstGeom>
            <a:ln w="9360">
              <a:solidFill>
                <a:srgbClr val="ff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180200" y="1911240"/>
              <a:ext cx="260280" cy="0"/>
            </a:xfrm>
            <a:prstGeom prst="line">
              <a:avLst/>
            </a:prstGeom>
            <a:ln w="9360">
              <a:solidFill>
                <a:srgbClr val="ff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7151400" y="155412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Unser Inte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832160" y="944640"/>
            <a:ext cx="10918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Source: Grudsz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4 Financials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Financial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11120" y="2563920"/>
            <a:ext cx="830736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d2435"/>
                </a:solidFill>
                <a:latin typeface="Arial"/>
              </a:rPr>
              <a:t>Removed for confidentiality reason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6d2435"/>
                </a:solidFill>
                <a:latin typeface="Arial"/>
              </a:rPr>
              <a:t>Contact Th. Teistler or A. Hauenste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1 Project Schedule - Preliminar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estones and Synchronization Poi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22200" y="1517760"/>
            <a:ext cx="7688160" cy="35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M0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13.04.2005 reached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01.07.2005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01.07.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S0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5.04.2005 reached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19.08.2005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19.08.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6.08.2005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6.08.2005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6.08.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S15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2.07.2005 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6.08.2005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6.08.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30.09.2005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30.09.2005 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30.09.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S25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16.12.2005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3.12.2005 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7.01.200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M2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17.02.2006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17.02.2006 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17.03.200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S3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03.03.2006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03.03.2006 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31.03.200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PS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17.04.2006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17.04.2006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tb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DS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8.04.2006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8.04.2006 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6.05.200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S4 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31.07.2006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31.07.2006 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31.07.200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M3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tbd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tbd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tb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450680" y="1179360"/>
            <a:ext cx="1665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 u="sng">
                <a:solidFill>
                  <a:srgbClr val="000000"/>
                </a:solidFill>
                <a:uFillTx/>
                <a:latin typeface="Arial"/>
              </a:rPr>
              <a:t>w/ SW Platf. Int‘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0" y="5364000"/>
            <a:ext cx="914400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u="sng">
                <a:solidFill>
                  <a:srgbClr val="ff3300"/>
                </a:solidFill>
                <a:uFillTx/>
                <a:latin typeface="Arial"/>
              </a:rPr>
              <a:t>All Milestones and Synchronization Points have to be reworked with Target DS mid of March by CW29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000000"/>
                </a:solidFill>
                <a:latin typeface="Arial"/>
              </a:rPr>
              <a:t>Schedules of predevopment Projects will be incorporated in HW and SW platform decla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000000"/>
                </a:solidFill>
                <a:latin typeface="Arial"/>
                <a:ea typeface="宋体"/>
              </a:rPr>
              <a:t>Contact: Michael Crutziger (HW), Ulrike Harke (SW), Michael Weigang (overa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604200" y="1179360"/>
            <a:ext cx="1252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 u="sng">
                <a:solidFill>
                  <a:srgbClr val="000000"/>
                </a:solidFill>
                <a:uFillTx/>
                <a:latin typeface="Arial"/>
              </a:rPr>
              <a:t>Chinese SW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123640" y="1179360"/>
            <a:ext cx="1631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 u="sng">
                <a:solidFill>
                  <a:srgbClr val="000000"/>
                </a:solidFill>
                <a:uFillTx/>
                <a:latin typeface="Arial"/>
              </a:rPr>
              <a:t>HW+Produc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22920" y="1179360"/>
            <a:ext cx="915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 u="sng">
                <a:solidFill>
                  <a:srgbClr val="000000"/>
                </a:solidFill>
                <a:uFillTx/>
                <a:latin typeface="Arial"/>
              </a:rPr>
              <a:t>Planni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212760" y="6491160"/>
            <a:ext cx="82249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d2435"/>
                </a:solidFill>
                <a:latin typeface="Arial"/>
              </a:rPr>
              <a:t>5.2 Project Organization (</a:t>
            </a:r>
            <a:r>
              <a:rPr b="1" lang="de-DE" sz="2000" spc="-1" strike="noStrike">
                <a:solidFill>
                  <a:srgbClr val="6d2435"/>
                </a:solidFill>
                <a:latin typeface="Arial"/>
              </a:rPr>
              <a:t>2/3)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D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4" name=""/>
          <p:cNvGraphicFramePr/>
          <p:nvPr/>
        </p:nvGraphicFramePr>
        <p:xfrm>
          <a:off x="314280" y="1093680"/>
          <a:ext cx="7505640" cy="5734080"/>
        </p:xfrm>
        <a:graphic>
          <a:graphicData uri="http://schemas.openxmlformats.org/drawingml/2006/table">
            <a:tbl>
              <a:tblPr/>
              <a:tblGrid>
                <a:gridCol w="1701720"/>
                <a:gridCol w="49320"/>
                <a:gridCol w="1684440"/>
                <a:gridCol w="48960"/>
                <a:gridCol w="1914840"/>
                <a:gridCol w="48960"/>
                <a:gridCol w="2057400"/>
              </a:tblGrid>
              <a:tr h="228600"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chnical Projectmanager (PL-T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ckmann, Jürg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Project Planning, Interface PBM, Mechanics, Production, Material, Procurement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us Hohenleitn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Interface 85er Platform, Hardware, Software, Systemtest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28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&amp;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duction / Materi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alitiy Managem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D TLM MD LC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M H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Swif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hroeter, Di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ühling, Heik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bbinghaus, Ralp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rchtenbreiter, Andre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exander Macu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PT1 SMD / Reflo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FM Rad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Lars Mittelstaed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M S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Christensen, Steh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Mike Hess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hmann, Ulric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PT2.1 FBG-Te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Georg Rosskothe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chl, Christi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PT2.2 Device-Te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Barth, Michael (Rohde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cure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Displ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en, Thom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PT3 Assembly&amp;Packaging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unzel, Jör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Hässel, Uw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ter Müll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Kolauch, Volker - Swif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Batter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Signal Process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Liebenow, Corneli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Ralf Zo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PT4 Prototype Sho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Came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Bonau Hans-Geor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Heid, Mar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rv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hroeder, Nadi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kämper, Thom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D Q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hreiber, Micha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iller, Diet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 2 Swif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P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hl, Eri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cessor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rtenschlager, Siegfri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napmeyer, Je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735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d2435"/>
                </a:solidFill>
                <a:latin typeface="Arial"/>
              </a:rPr>
              <a:t>5.1 Project Organization (3/3)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lisation Team Jour Fixe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8" name=""/>
          <p:cNvGraphicFramePr/>
          <p:nvPr/>
        </p:nvGraphicFramePr>
        <p:xfrm>
          <a:off x="646200" y="1428840"/>
          <a:ext cx="7785000" cy="4000320"/>
        </p:xfrm>
        <a:graphic>
          <a:graphicData uri="http://schemas.openxmlformats.org/drawingml/2006/table">
            <a:tbl>
              <a:tblPr/>
              <a:tblGrid>
                <a:gridCol w="2352600"/>
                <a:gridCol w="2300400"/>
                <a:gridCol w="1563480"/>
                <a:gridCol w="1568520"/>
              </a:tblGrid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part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lephone num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cessor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scher, Kla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AD 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246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unzel, Jör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 D PE M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30 386 302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plic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nderlein, Ti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PBM 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563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istler Thom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PBM BA PG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290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 PL (after M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en Bo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PBM B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22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igt, Rudolp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SM C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239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TO (until M0, informed until M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ucas, Carl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CTO TS T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239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GPM (after M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N.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C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cura, Alexand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D FK MM LC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2842 95 54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CM (vor M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hmal, Kat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PBM PM M PC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263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-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ckmann, J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PD PG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2761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-T 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henleitner Mark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PD PG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476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vangelista, Heik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PBM PG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466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MM (ater M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N.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rtfolio Management (until M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ra, Rodolf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PBM 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291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ühling, Heik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QM PL PG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465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rv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iel An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CC S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370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uenstein, Alfr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PBM PG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460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E (until M0, informed until M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udszus, Robe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SM 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404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M Swif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rnbach Micha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PBM BO V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474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87000" y="279000"/>
            <a:ext cx="6553080" cy="6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3 Ressources at M0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210960" y="1270080"/>
            <a:ext cx="7758360" cy="31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1333440"/>
                <a:tab algn="l" pos="2482920"/>
                <a:tab algn="l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D ressources provided by the department from M0 to M1 (planning on work-package level available in Primavera showing dedicated resources by name). Resources are reserved up to M3 (rough plan in Primavera available)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1333440"/>
                <a:tab algn="l" pos="2482920"/>
                <a:tab algn="l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a-Team from M0 to M1 staffed, apart from GPM and PMM (only needed 4 wks before M1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387000" y="279000"/>
            <a:ext cx="6553080" cy="6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4 Risk Assessment (1/8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-te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4" name=""/>
          <p:cNvGraphicFramePr/>
          <p:nvPr/>
        </p:nvGraphicFramePr>
        <p:xfrm>
          <a:off x="165240" y="1155600"/>
          <a:ext cx="8708760" cy="5110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240" y="1155600"/>
                    <a:ext cx="8708760" cy="511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87000" y="279000"/>
            <a:ext cx="6553080" cy="6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4 Risk Assessment (2/8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-te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8" name=""/>
          <p:cNvGraphicFramePr/>
          <p:nvPr/>
        </p:nvGraphicFramePr>
        <p:xfrm>
          <a:off x="166680" y="1162080"/>
          <a:ext cx="8648640" cy="5133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" y="1162080"/>
                    <a:ext cx="864864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Overview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62120" y="1279440"/>
            <a:ext cx="7619760" cy="43005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65000" y="2384280"/>
            <a:ext cx="3729240" cy="889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5000" y="3468600"/>
            <a:ext cx="3729240" cy="72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5000" y="4365720"/>
            <a:ext cx="3729240" cy="690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5000" y="5230800"/>
            <a:ext cx="3729240" cy="17136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5000" y="2044800"/>
            <a:ext cx="3729240" cy="17136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30680" y="1279440"/>
            <a:ext cx="3729240" cy="36036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30680" y="1814400"/>
            <a:ext cx="3729240" cy="1810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30680" y="2208240"/>
            <a:ext cx="3729240" cy="123336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87000" y="279000"/>
            <a:ext cx="6553080" cy="6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4 Risk Assessment (3/8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-te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166680" y="1149480"/>
          <a:ext cx="8750160" cy="5116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" y="1149480"/>
                    <a:ext cx="8750160" cy="51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4 Risk Assessment (4/8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6" name=""/>
          <p:cNvGraphicFramePr/>
          <p:nvPr/>
        </p:nvGraphicFramePr>
        <p:xfrm>
          <a:off x="192240" y="1117440"/>
          <a:ext cx="8694720" cy="5226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240" y="1117440"/>
                    <a:ext cx="8694720" cy="522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4 Risk Assessment (5/8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0" name=""/>
          <p:cNvGraphicFramePr/>
          <p:nvPr/>
        </p:nvGraphicFramePr>
        <p:xfrm>
          <a:off x="184320" y="1154160"/>
          <a:ext cx="8683560" cy="473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320" y="1154160"/>
                    <a:ext cx="8683560" cy="47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4 Risk Assessment (6/8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4" name=""/>
          <p:cNvGraphicFramePr/>
          <p:nvPr/>
        </p:nvGraphicFramePr>
        <p:xfrm>
          <a:off x="166680" y="1058760"/>
          <a:ext cx="8669520" cy="5504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" y="1058760"/>
                    <a:ext cx="866952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4 Risk Assessment (7/8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8" name=""/>
          <p:cNvGraphicFramePr/>
          <p:nvPr/>
        </p:nvGraphicFramePr>
        <p:xfrm>
          <a:off x="216000" y="1074600"/>
          <a:ext cx="8618400" cy="547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1074600"/>
                    <a:ext cx="8618400" cy="54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4 Risk Assessment (8/8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2" name=""/>
          <p:cNvGraphicFramePr/>
          <p:nvPr/>
        </p:nvGraphicFramePr>
        <p:xfrm>
          <a:off x="192240" y="1225440"/>
          <a:ext cx="8775720" cy="3171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240" y="1225440"/>
                    <a:ext cx="8775720" cy="31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4" name=""/>
          <p:cNvGraphicFramePr/>
          <p:nvPr/>
        </p:nvGraphicFramePr>
        <p:xfrm>
          <a:off x="901800" y="1036800"/>
          <a:ext cx="7421400" cy="543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1800" y="1036800"/>
                    <a:ext cx="7421400" cy="54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387000" y="281160"/>
            <a:ext cx="6553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5 M0 Signatures Swift 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M0 Sign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700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A. Change History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7640" y="1459080"/>
            <a:ext cx="1274760" cy="23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9.04.2005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01.07.2005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08.07.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17840" y="1459080"/>
            <a:ext cx="1018800" cy="23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s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.1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26800" y="1459080"/>
            <a:ext cx="2039760" cy="26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ike Evangelista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eike Evangelista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eike Evangelista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03880" y="1459080"/>
            <a:ext cx="3678120" cy="23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0 HW + Production Delta template cre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pdate all sections, include sign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pdate p.9. „added 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7000" y="279000"/>
            <a:ext cx="6553080" cy="6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B. Open Issues</a:t>
            </a:r>
            <a:br>
              <a:rPr sz="2400"/>
            </a:b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87360" y="1862280"/>
          <a:ext cx="8486640" cy="4060800"/>
        </p:xfrm>
        <a:graphic>
          <a:graphicData uri="http://schemas.openxmlformats.org/drawingml/2006/table">
            <a:tbl>
              <a:tblPr/>
              <a:tblGrid>
                <a:gridCol w="4695840"/>
                <a:gridCol w="2192400"/>
                <a:gridCol w="1598400"/>
              </a:tblGrid>
              <a:tr h="51732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i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til wh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8888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ove Project timeline and DS back mid of March 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 Platform</a:t>
                      </a:r>
                      <a:br>
                        <a:rPr sz="1600"/>
                      </a:b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 Kockmann/ B. Sh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W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ise variant concept (operator variant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Hauenstein - AP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ise Packaging and UM concep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. Evangelis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W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ise AD Portfolio depending on result on BT Stereo C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. Fisch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W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e final branding and final nam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. Schm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ff Rea team with GPM and PMM (starting 4 wks before M1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Hauenste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W29/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sion of single source risks and evaluate measures if necess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. Evangelista/ </a:t>
                      </a:r>
                      <a:br>
                        <a:rPr sz="1600"/>
                      </a:b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Macu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W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6d2435"/>
                </a:solidFill>
                <a:latin typeface="Arial"/>
              </a:rPr>
              <a:t>C. Swift-Project Folders &amp; Document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1481040"/>
            <a:ext cx="2664000" cy="4839480"/>
          </a:xfrm>
          <a:prstGeom prst="rect">
            <a:avLst/>
          </a:prstGeom>
          <a:solidFill>
            <a:srgbClr val="d2d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troduction &amp; Product Profil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duct Profil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ndows of opportunit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husiasm model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n differentiation within MP portfoli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rategy &amp; Positionin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ighlight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rget Group &amp; Product Stor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 Product Argument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erformance Profil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eti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6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WO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7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fecycle Managemen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mited Edition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9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cessorie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1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plication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1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les Strateg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ign &amp; Mechanic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2.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aturin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atform Concep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5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6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riant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7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ser Manual / Packagin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duc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9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ualit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1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ustomer C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1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tent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inanc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wift Business Ca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nsitivity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portunit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imeline and Project Organisa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.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rget Project Schedu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duct Project Organis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.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.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sk Assess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.5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0 Signatur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90960" y="2800440"/>
            <a:ext cx="2732040" cy="641520"/>
          </a:xfrm>
          <a:prstGeom prst="rect">
            <a:avLst/>
          </a:prstGeom>
          <a:solidFill>
            <a:srgbClr val="d2d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Design Doc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sign Renderings and Mock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sign Decision Matri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sign Acceptance Test Resul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19920" y="1482840"/>
            <a:ext cx="2717640" cy="519840"/>
          </a:xfrm>
          <a:prstGeom prst="rect">
            <a:avLst/>
          </a:prstGeom>
          <a:solidFill>
            <a:srgbClr val="d2d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Q-Gate M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Q-Gate M0 HW+Production held on 08.04.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Q-Gate M0 to be held on 06.07.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90960" y="3459240"/>
            <a:ext cx="2732040" cy="398160"/>
          </a:xfrm>
          <a:prstGeom prst="rect">
            <a:avLst/>
          </a:prstGeom>
          <a:solidFill>
            <a:srgbClr val="d2d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Steckbrief at  M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eleased on 26.06.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94200" y="4308480"/>
            <a:ext cx="2732040" cy="398160"/>
          </a:xfrm>
          <a:prstGeom prst="rect">
            <a:avLst/>
          </a:pr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HW archite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latform Overview and Site Strateg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19920" y="3408480"/>
            <a:ext cx="2717640" cy="641520"/>
          </a:xfrm>
          <a:prstGeom prst="rect">
            <a:avLst/>
          </a:prstGeom>
          <a:solidFill>
            <a:srgbClr val="d2d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M0 deliver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0 HW+Production documen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0 Delta documenta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0 signatur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94200" y="3876840"/>
            <a:ext cx="2732040" cy="398160"/>
          </a:xfrm>
          <a:prstGeom prst="rect">
            <a:avLst/>
          </a:pr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SW feature 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tailed PD SW feature li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94200" y="4861080"/>
            <a:ext cx="2732040" cy="641520"/>
          </a:xfrm>
          <a:prstGeom prst="rect">
            <a:avLst/>
          </a:pr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User 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I principles: UI stylegui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I concepts: basic description for new concep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I usability test resul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94200" y="5919840"/>
            <a:ext cx="2732040" cy="519840"/>
          </a:xfrm>
          <a:prstGeom prst="rect">
            <a:avLst/>
          </a:pr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Milestones &amp; res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lestones and ressources until M1 planned in Primave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2046240"/>
            <a:ext cx="2717640" cy="641520"/>
          </a:xfrm>
          <a:prstGeom prst="rect">
            <a:avLst/>
          </a:prstGeom>
          <a:solidFill>
            <a:srgbClr val="d2d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PSR M0 Decla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SR approval on M0 HW+Production on 04.05.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SR approval on M0 on 13.07.05</a:t>
            </a:r>
            <a:r>
              <a:rPr b="0" lang="en-GB" sz="800" spc="-1" strike="noStrike">
                <a:solidFill>
                  <a:srgbClr val="ff3300"/>
                </a:solidFill>
                <a:latin typeface="Arial"/>
              </a:rPr>
              <a:t> (tb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4600" y="1058760"/>
            <a:ext cx="2668680" cy="398520"/>
          </a:xfrm>
          <a:custGeom>
            <a:avLst/>
            <a:gdLst>
              <a:gd name="textAreaLeft" fmla="*/ 0 w 2668680"/>
              <a:gd name="textAreaRight" fmla="*/ 2669040 w 266868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0a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12920" y="1058760"/>
            <a:ext cx="2724480" cy="398520"/>
          </a:xfrm>
          <a:custGeom>
            <a:avLst/>
            <a:gdLst>
              <a:gd name="textAreaLeft" fmla="*/ 0 w 2724480"/>
              <a:gd name="textAreaRight" fmla="*/ 2724840 w 272448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0a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6680" y="1058760"/>
            <a:ext cx="2709720" cy="398520"/>
          </a:xfrm>
          <a:custGeom>
            <a:avLst/>
            <a:gdLst>
              <a:gd name="textAreaLeft" fmla="*/ 0 w 2709720"/>
              <a:gd name="textAreaRight" fmla="*/ 2710080 w 2709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0a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1960" y="1155600"/>
            <a:ext cx="2436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M0 Docu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48440" y="1155600"/>
            <a:ext cx="247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roject control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13000" y="1041480"/>
            <a:ext cx="24876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ccompanying docum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9920" y="5695920"/>
            <a:ext cx="2692440" cy="231840"/>
          </a:xfrm>
          <a:prstGeom prst="rect">
            <a:avLst/>
          </a:pr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19920" y="5965920"/>
            <a:ext cx="2692440" cy="304920"/>
          </a:xfrm>
          <a:prstGeom prst="rect">
            <a:avLst/>
          </a:prstGeom>
          <a:solidFill>
            <a:srgbClr val="d2d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 Swift related documentation can be found at:</a:t>
            </a:r>
            <a:br>
              <a:rPr sz="1000"/>
            </a:br>
            <a:r>
              <a:rPr b="0" lang="en-GB" sz="1000" spc="-1" strike="noStrike" u="sng">
                <a:solidFill>
                  <a:srgbClr val="d46028"/>
                </a:solidFill>
                <a:uFillTx/>
                <a:latin typeface="Arial"/>
                <a:hlinkClick r:id="rId1"/>
              </a:rPr>
              <a:t>https://ims.icn.siemens.de/livelink/livelink/Open/3315028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19920" y="5740560"/>
            <a:ext cx="1330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D internal docu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944720" y="3209400"/>
            <a:ext cx="1149480" cy="6670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14440" y="4033800"/>
            <a:ext cx="1644840" cy="716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63560" y="4146480"/>
            <a:ext cx="1395720" cy="36216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533600" y="3733560"/>
            <a:ext cx="1560600" cy="29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47720" y="4308480"/>
            <a:ext cx="14464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33600" y="6105600"/>
            <a:ext cx="1560600" cy="2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22800" y="2851200"/>
            <a:ext cx="2718000" cy="519840"/>
          </a:xfrm>
          <a:prstGeom prst="rect">
            <a:avLst/>
          </a:prstGeom>
          <a:solidFill>
            <a:srgbClr val="d2d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Team Decla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0 HW+Production on 15.04.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0 (complete) on 01.07.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348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d2435"/>
                </a:solidFill>
                <a:latin typeface="Arial"/>
              </a:rPr>
              <a:t>2.4 Performance Profile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Technolog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53240" y="1054080"/>
            <a:ext cx="1267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urce: K. Sch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7600" y="1262160"/>
            <a:ext cx="8769240" cy="318960"/>
          </a:xfrm>
          <a:prstGeom prst="rect">
            <a:avLst/>
          </a:prstGeom>
          <a:solidFill>
            <a:srgbClr val="afc2c8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7600" y="1625760"/>
            <a:ext cx="8769240" cy="23148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840" y="1328760"/>
            <a:ext cx="1499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9840" y="1658880"/>
            <a:ext cx="1162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7600" y="1889280"/>
            <a:ext cx="8769240" cy="23148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400" y="1922400"/>
            <a:ext cx="148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men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47600" y="2152800"/>
            <a:ext cx="8769240" cy="23148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400" y="2185920"/>
            <a:ext cx="242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ndby Time / Talk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7600" y="2416320"/>
            <a:ext cx="8769240" cy="23148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9480" y="2449440"/>
            <a:ext cx="1186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7600" y="2685960"/>
            <a:ext cx="8769240" cy="23184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9480" y="2719440"/>
            <a:ext cx="1229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36760" y="1658880"/>
            <a:ext cx="90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34240" y="1922400"/>
            <a:ext cx="207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90 x 46.3 x 16.3 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332800" y="2185920"/>
            <a:ext cx="215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p to 330 h / 300 m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31000" y="2449440"/>
            <a:ext cx="4155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62K colours, TFT, 2.0 inches, QVGA, transfl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329920" y="2719440"/>
            <a:ext cx="2931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grated 1.3-megapixel cam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7600" y="2949480"/>
            <a:ext cx="8769240" cy="23328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46160" y="2978280"/>
            <a:ext cx="1060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323080" y="2978280"/>
            <a:ext cx="2029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proved LED fl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7600" y="3492360"/>
            <a:ext cx="8769240" cy="319320"/>
          </a:xfrm>
          <a:prstGeom prst="rect">
            <a:avLst/>
          </a:prstGeom>
          <a:solidFill>
            <a:srgbClr val="afc2c8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7600" y="3855960"/>
            <a:ext cx="8769240" cy="23184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120" y="3559320"/>
            <a:ext cx="1439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040" y="3889440"/>
            <a:ext cx="1425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7600" y="4119480"/>
            <a:ext cx="8769240" cy="23184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760" y="4152960"/>
            <a:ext cx="1424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47600" y="4383000"/>
            <a:ext cx="8769240" cy="23184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400" y="4416480"/>
            <a:ext cx="223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ree Memory Capa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7600" y="4646520"/>
            <a:ext cx="8769240" cy="23184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400" y="4680000"/>
            <a:ext cx="174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rnet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47600" y="4910040"/>
            <a:ext cx="8769240" cy="23184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9120" y="4943520"/>
            <a:ext cx="1628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twork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7600" y="5173560"/>
            <a:ext cx="8769240" cy="23184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120" y="5207040"/>
            <a:ext cx="1621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47600" y="5437080"/>
            <a:ext cx="8769240" cy="23184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400" y="5470560"/>
            <a:ext cx="1518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ne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334960" y="3889440"/>
            <a:ext cx="3437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MS, extra-long SMS, ptt, IMPS, e-mai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332800" y="4152960"/>
            <a:ext cx="3225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P3, AAC, AAC+(+), 3D Java 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331360" y="4416480"/>
            <a:ext cx="396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 to 16 MB internal memory, MicroSD card s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337120" y="4680000"/>
            <a:ext cx="1290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P 2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30280" y="4943520"/>
            <a:ext cx="249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i-band 900 / 1800 / 19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334240" y="5207040"/>
            <a:ext cx="291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PRS / EDGE Multislot Class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337480" y="5470560"/>
            <a:ext cx="139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uetooth</a:t>
            </a:r>
            <a:r>
              <a:rPr b="0" lang="en-GB" sz="11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47600" y="3214800"/>
            <a:ext cx="8769240" cy="23328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6160" y="3243240"/>
            <a:ext cx="1171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323080" y="3243240"/>
            <a:ext cx="1724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-Ion 570 mA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7600" y="5700600"/>
            <a:ext cx="8769240" cy="23184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4080" y="5734080"/>
            <a:ext cx="2489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deo recording / playb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318400" y="5734080"/>
            <a:ext cx="4440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additionally streaming and progressive download</a:t>
            </a:r>
            <a:r>
              <a:rPr b="0" lang="en-GB" sz="11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3480" y="2811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d2435"/>
                </a:solidFill>
                <a:latin typeface="Arial"/>
              </a:rPr>
              <a:t>2.9 Accessorie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unch: 03/06, Portfolio: all region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Accessori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2000" y="1165320"/>
            <a:ext cx="1469880" cy="788760"/>
          </a:xfrm>
          <a:prstGeom prst="rect">
            <a:avLst/>
          </a:prstGeom>
          <a:solidFill>
            <a:srgbClr val="42677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-19080" y="1425600"/>
            <a:ext cx="1272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sh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&amp; Car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31880" y="1165320"/>
            <a:ext cx="1468440" cy="788760"/>
          </a:xfrm>
          <a:prstGeom prst="rect">
            <a:avLst/>
          </a:prstGeom>
          <a:solidFill>
            <a:srgbClr val="42677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446120" y="1514520"/>
            <a:ext cx="120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100320" y="1165320"/>
            <a:ext cx="1468440" cy="788760"/>
          </a:xfrm>
          <a:prstGeom prst="rect">
            <a:avLst/>
          </a:prstGeom>
          <a:solidFill>
            <a:srgbClr val="42677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54400" y="1200240"/>
            <a:ext cx="7412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660760" y="1569960"/>
            <a:ext cx="91800" cy="179640"/>
          </a:xfrm>
          <a:custGeom>
            <a:avLst/>
            <a:gdLst/>
            <a:ahLst/>
            <a:rect l="l" t="t" r="r" b="b"/>
            <a:pathLst>
              <a:path w="424" h="831">
                <a:moveTo>
                  <a:pt x="88" y="689"/>
                </a:moveTo>
                <a:lnTo>
                  <a:pt x="235" y="689"/>
                </a:lnTo>
                <a:lnTo>
                  <a:pt x="239" y="689"/>
                </a:lnTo>
                <a:lnTo>
                  <a:pt x="242" y="688"/>
                </a:lnTo>
                <a:lnTo>
                  <a:pt x="245" y="686"/>
                </a:lnTo>
                <a:lnTo>
                  <a:pt x="248" y="683"/>
                </a:lnTo>
                <a:lnTo>
                  <a:pt x="253" y="677"/>
                </a:lnTo>
                <a:lnTo>
                  <a:pt x="253" y="674"/>
                </a:lnTo>
                <a:lnTo>
                  <a:pt x="254" y="671"/>
                </a:lnTo>
                <a:lnTo>
                  <a:pt x="253" y="665"/>
                </a:lnTo>
                <a:lnTo>
                  <a:pt x="253" y="661"/>
                </a:lnTo>
                <a:lnTo>
                  <a:pt x="251" y="658"/>
                </a:lnTo>
                <a:lnTo>
                  <a:pt x="248" y="655"/>
                </a:lnTo>
                <a:lnTo>
                  <a:pt x="245" y="652"/>
                </a:lnTo>
                <a:lnTo>
                  <a:pt x="242" y="650"/>
                </a:lnTo>
                <a:lnTo>
                  <a:pt x="239" y="649"/>
                </a:lnTo>
                <a:lnTo>
                  <a:pt x="235" y="649"/>
                </a:lnTo>
                <a:lnTo>
                  <a:pt x="88" y="649"/>
                </a:lnTo>
                <a:lnTo>
                  <a:pt x="83" y="649"/>
                </a:lnTo>
                <a:lnTo>
                  <a:pt x="80" y="650"/>
                </a:lnTo>
                <a:lnTo>
                  <a:pt x="77" y="652"/>
                </a:lnTo>
                <a:lnTo>
                  <a:pt x="74" y="655"/>
                </a:lnTo>
                <a:lnTo>
                  <a:pt x="70" y="661"/>
                </a:lnTo>
                <a:lnTo>
                  <a:pt x="70" y="664"/>
                </a:lnTo>
                <a:lnTo>
                  <a:pt x="68" y="667"/>
                </a:lnTo>
                <a:lnTo>
                  <a:pt x="70" y="673"/>
                </a:lnTo>
                <a:lnTo>
                  <a:pt x="70" y="676"/>
                </a:lnTo>
                <a:lnTo>
                  <a:pt x="71" y="680"/>
                </a:lnTo>
                <a:lnTo>
                  <a:pt x="74" y="683"/>
                </a:lnTo>
                <a:lnTo>
                  <a:pt x="77" y="686"/>
                </a:lnTo>
                <a:lnTo>
                  <a:pt x="80" y="688"/>
                </a:lnTo>
                <a:lnTo>
                  <a:pt x="83" y="689"/>
                </a:lnTo>
                <a:lnTo>
                  <a:pt x="88" y="689"/>
                </a:lnTo>
                <a:close/>
                <a:moveTo>
                  <a:pt x="419" y="0"/>
                </a:moveTo>
                <a:lnTo>
                  <a:pt x="109" y="0"/>
                </a:lnTo>
                <a:lnTo>
                  <a:pt x="98" y="2"/>
                </a:lnTo>
                <a:lnTo>
                  <a:pt x="88" y="3"/>
                </a:lnTo>
                <a:lnTo>
                  <a:pt x="77" y="5"/>
                </a:lnTo>
                <a:lnTo>
                  <a:pt x="67" y="9"/>
                </a:lnTo>
                <a:lnTo>
                  <a:pt x="58" y="14"/>
                </a:lnTo>
                <a:lnTo>
                  <a:pt x="49" y="20"/>
                </a:lnTo>
                <a:lnTo>
                  <a:pt x="40" y="26"/>
                </a:lnTo>
                <a:lnTo>
                  <a:pt x="32" y="33"/>
                </a:lnTo>
                <a:lnTo>
                  <a:pt x="24" y="41"/>
                </a:lnTo>
                <a:lnTo>
                  <a:pt x="18" y="48"/>
                </a:lnTo>
                <a:lnTo>
                  <a:pt x="14" y="57"/>
                </a:lnTo>
                <a:lnTo>
                  <a:pt x="9" y="68"/>
                </a:lnTo>
                <a:lnTo>
                  <a:pt x="5" y="77"/>
                </a:lnTo>
                <a:lnTo>
                  <a:pt x="2" y="87"/>
                </a:lnTo>
                <a:lnTo>
                  <a:pt x="0" y="99"/>
                </a:lnTo>
                <a:lnTo>
                  <a:pt x="0" y="110"/>
                </a:lnTo>
                <a:lnTo>
                  <a:pt x="0" y="722"/>
                </a:lnTo>
                <a:lnTo>
                  <a:pt x="0" y="733"/>
                </a:lnTo>
                <a:lnTo>
                  <a:pt x="2" y="743"/>
                </a:lnTo>
                <a:lnTo>
                  <a:pt x="5" y="754"/>
                </a:lnTo>
                <a:lnTo>
                  <a:pt x="9" y="764"/>
                </a:lnTo>
                <a:lnTo>
                  <a:pt x="14" y="773"/>
                </a:lnTo>
                <a:lnTo>
                  <a:pt x="18" y="782"/>
                </a:lnTo>
                <a:lnTo>
                  <a:pt x="24" y="792"/>
                </a:lnTo>
                <a:lnTo>
                  <a:pt x="32" y="799"/>
                </a:lnTo>
                <a:lnTo>
                  <a:pt x="40" y="807"/>
                </a:lnTo>
                <a:lnTo>
                  <a:pt x="49" y="813"/>
                </a:lnTo>
                <a:lnTo>
                  <a:pt x="58" y="819"/>
                </a:lnTo>
                <a:lnTo>
                  <a:pt x="67" y="823"/>
                </a:lnTo>
                <a:lnTo>
                  <a:pt x="77" y="826"/>
                </a:lnTo>
                <a:lnTo>
                  <a:pt x="88" y="829"/>
                </a:lnTo>
                <a:lnTo>
                  <a:pt x="98" y="831"/>
                </a:lnTo>
                <a:lnTo>
                  <a:pt x="109" y="831"/>
                </a:lnTo>
                <a:lnTo>
                  <a:pt x="419" y="831"/>
                </a:lnTo>
                <a:lnTo>
                  <a:pt x="419" y="822"/>
                </a:lnTo>
                <a:lnTo>
                  <a:pt x="421" y="796"/>
                </a:lnTo>
                <a:lnTo>
                  <a:pt x="422" y="703"/>
                </a:lnTo>
                <a:lnTo>
                  <a:pt x="424" y="570"/>
                </a:lnTo>
                <a:lnTo>
                  <a:pt x="424" y="418"/>
                </a:lnTo>
                <a:lnTo>
                  <a:pt x="424" y="266"/>
                </a:lnTo>
                <a:lnTo>
                  <a:pt x="422" y="133"/>
                </a:lnTo>
                <a:lnTo>
                  <a:pt x="422" y="80"/>
                </a:lnTo>
                <a:lnTo>
                  <a:pt x="421" y="38"/>
                </a:lnTo>
                <a:lnTo>
                  <a:pt x="419" y="11"/>
                </a:lnTo>
                <a:lnTo>
                  <a:pt x="41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660760" y="1481040"/>
            <a:ext cx="25200" cy="23760"/>
          </a:xfrm>
          <a:custGeom>
            <a:avLst/>
            <a:gdLst/>
            <a:ahLst/>
            <a:rect l="l" t="t" r="r" b="b"/>
            <a:pathLst>
              <a:path w="119" h="115">
                <a:moveTo>
                  <a:pt x="119" y="18"/>
                </a:moveTo>
                <a:lnTo>
                  <a:pt x="99" y="19"/>
                </a:lnTo>
                <a:lnTo>
                  <a:pt x="80" y="27"/>
                </a:lnTo>
                <a:lnTo>
                  <a:pt x="63" y="34"/>
                </a:lnTo>
                <a:lnTo>
                  <a:pt x="48" y="48"/>
                </a:lnTo>
                <a:lnTo>
                  <a:pt x="36" y="61"/>
                </a:lnTo>
                <a:lnTo>
                  <a:pt x="27" y="79"/>
                </a:lnTo>
                <a:lnTo>
                  <a:pt x="21" y="96"/>
                </a:lnTo>
                <a:lnTo>
                  <a:pt x="19" y="115"/>
                </a:lnTo>
                <a:lnTo>
                  <a:pt x="0" y="114"/>
                </a:lnTo>
                <a:lnTo>
                  <a:pt x="1" y="93"/>
                </a:lnTo>
                <a:lnTo>
                  <a:pt x="9" y="72"/>
                </a:lnTo>
                <a:lnTo>
                  <a:pt x="19" y="51"/>
                </a:lnTo>
                <a:lnTo>
                  <a:pt x="35" y="33"/>
                </a:lnTo>
                <a:lnTo>
                  <a:pt x="51" y="19"/>
                </a:lnTo>
                <a:lnTo>
                  <a:pt x="71" y="10"/>
                </a:lnTo>
                <a:lnTo>
                  <a:pt x="93" y="1"/>
                </a:lnTo>
                <a:lnTo>
                  <a:pt x="116" y="0"/>
                </a:lnTo>
                <a:lnTo>
                  <a:pt x="119" y="18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660760" y="1504800"/>
            <a:ext cx="4680" cy="2160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660760" y="1720800"/>
            <a:ext cx="25200" cy="25560"/>
          </a:xfrm>
          <a:custGeom>
            <a:avLst/>
            <a:gdLst/>
            <a:ahLst/>
            <a:rect l="l" t="t" r="r" b="b"/>
            <a:pathLst>
              <a:path w="117" h="119">
                <a:moveTo>
                  <a:pt x="19" y="0"/>
                </a:moveTo>
                <a:lnTo>
                  <a:pt x="21" y="21"/>
                </a:lnTo>
                <a:lnTo>
                  <a:pt x="27" y="39"/>
                </a:lnTo>
                <a:lnTo>
                  <a:pt x="36" y="56"/>
                </a:lnTo>
                <a:lnTo>
                  <a:pt x="48" y="70"/>
                </a:lnTo>
                <a:lnTo>
                  <a:pt x="62" y="83"/>
                </a:lnTo>
                <a:lnTo>
                  <a:pt x="78" y="91"/>
                </a:lnTo>
                <a:lnTo>
                  <a:pt x="98" y="97"/>
                </a:lnTo>
                <a:lnTo>
                  <a:pt x="117" y="100"/>
                </a:lnTo>
                <a:lnTo>
                  <a:pt x="116" y="119"/>
                </a:lnTo>
                <a:lnTo>
                  <a:pt x="95" y="116"/>
                </a:lnTo>
                <a:lnTo>
                  <a:pt x="71" y="109"/>
                </a:lnTo>
                <a:lnTo>
                  <a:pt x="51" y="100"/>
                </a:lnTo>
                <a:lnTo>
                  <a:pt x="35" y="85"/>
                </a:lnTo>
                <a:lnTo>
                  <a:pt x="19" y="67"/>
                </a:lnTo>
                <a:lnTo>
                  <a:pt x="9" y="47"/>
                </a:lnTo>
                <a:lnTo>
                  <a:pt x="1" y="24"/>
                </a:lnTo>
                <a:lnTo>
                  <a:pt x="0" y="2"/>
                </a:lnTo>
                <a:lnTo>
                  <a:pt x="19" y="0"/>
                </a:lnTo>
                <a:close/>
              </a:path>
            </a:pathLst>
          </a:custGeom>
          <a:solidFill>
            <a:srgbClr val="42677e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660760" y="1720800"/>
            <a:ext cx="4680" cy="360"/>
          </a:xfrm>
          <a:custGeom>
            <a:avLst/>
            <a:gdLst/>
            <a:ahLst/>
            <a:rect l="l" t="t" r="r" b="b"/>
            <a:pathLst>
              <a:path w="21" h="2">
                <a:moveTo>
                  <a:pt x="1" y="0"/>
                </a:moveTo>
                <a:lnTo>
                  <a:pt x="0" y="2"/>
                </a:lnTo>
                <a:lnTo>
                  <a:pt x="19" y="0"/>
                </a:lnTo>
                <a:lnTo>
                  <a:pt x="21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744640" y="1535040"/>
            <a:ext cx="6480" cy="208080"/>
          </a:xfrm>
          <a:custGeom>
            <a:avLst/>
            <a:gdLst/>
            <a:ahLst/>
            <a:rect l="l" t="t" r="r" b="b"/>
            <a:pathLst>
              <a:path w="27" h="972">
                <a:moveTo>
                  <a:pt x="8" y="972"/>
                </a:moveTo>
                <a:lnTo>
                  <a:pt x="8" y="931"/>
                </a:lnTo>
                <a:lnTo>
                  <a:pt x="8" y="823"/>
                </a:lnTo>
                <a:lnTo>
                  <a:pt x="6" y="487"/>
                </a:lnTo>
                <a:lnTo>
                  <a:pt x="0" y="0"/>
                </a:lnTo>
                <a:lnTo>
                  <a:pt x="20" y="0"/>
                </a:lnTo>
                <a:lnTo>
                  <a:pt x="26" y="487"/>
                </a:lnTo>
                <a:lnTo>
                  <a:pt x="27" y="823"/>
                </a:lnTo>
                <a:lnTo>
                  <a:pt x="27" y="931"/>
                </a:lnTo>
                <a:lnTo>
                  <a:pt x="26" y="972"/>
                </a:lnTo>
                <a:lnTo>
                  <a:pt x="8" y="9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746440" y="1741320"/>
            <a:ext cx="4680" cy="5040"/>
          </a:xfrm>
          <a:custGeom>
            <a:avLst/>
            <a:gdLst/>
            <a:ahLst/>
            <a:rect l="l" t="t" r="r" b="b"/>
            <a:pathLst>
              <a:path w="18" h="19">
                <a:moveTo>
                  <a:pt x="9" y="19"/>
                </a:moveTo>
                <a:lnTo>
                  <a:pt x="18" y="19"/>
                </a:lnTo>
                <a:lnTo>
                  <a:pt x="18" y="9"/>
                </a:lnTo>
                <a:lnTo>
                  <a:pt x="0" y="9"/>
                </a:lnTo>
                <a:lnTo>
                  <a:pt x="9" y="0"/>
                </a:lnTo>
                <a:lnTo>
                  <a:pt x="9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744640" y="1509840"/>
            <a:ext cx="16200" cy="27000"/>
          </a:xfrm>
          <a:custGeom>
            <a:avLst/>
            <a:gdLst/>
            <a:ahLst/>
            <a:rect l="l" t="t" r="r" b="b"/>
            <a:pathLst>
              <a:path w="73" h="122">
                <a:moveTo>
                  <a:pt x="0" y="111"/>
                </a:moveTo>
                <a:lnTo>
                  <a:pt x="16" y="122"/>
                </a:lnTo>
                <a:lnTo>
                  <a:pt x="73" y="10"/>
                </a:lnTo>
                <a:lnTo>
                  <a:pt x="57" y="0"/>
                </a:lnTo>
                <a:lnTo>
                  <a:pt x="0" y="1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44640" y="1533600"/>
            <a:ext cx="5040" cy="3240"/>
          </a:xfrm>
          <a:custGeom>
            <a:avLst/>
            <a:gdLst/>
            <a:ahLst/>
            <a:rect l="l" t="t" r="r" b="b"/>
            <a:pathLst>
              <a:path w="20" h="11">
                <a:moveTo>
                  <a:pt x="0" y="5"/>
                </a:moveTo>
                <a:lnTo>
                  <a:pt x="0" y="3"/>
                </a:lnTo>
                <a:lnTo>
                  <a:pt x="2" y="0"/>
                </a:lnTo>
                <a:lnTo>
                  <a:pt x="18" y="11"/>
                </a:lnTo>
                <a:lnTo>
                  <a:pt x="20" y="5"/>
                </a:ln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759040" y="1496880"/>
            <a:ext cx="19080" cy="14400"/>
          </a:xfrm>
          <a:custGeom>
            <a:avLst/>
            <a:gdLst/>
            <a:ahLst/>
            <a:rect l="l" t="t" r="r" b="b"/>
            <a:pathLst>
              <a:path w="95" h="70">
                <a:moveTo>
                  <a:pt x="0" y="54"/>
                </a:moveTo>
                <a:lnTo>
                  <a:pt x="10" y="70"/>
                </a:lnTo>
                <a:lnTo>
                  <a:pt x="95" y="16"/>
                </a:lnTo>
                <a:lnTo>
                  <a:pt x="84" y="0"/>
                </a:lnTo>
                <a:lnTo>
                  <a:pt x="0" y="5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757600" y="1509840"/>
            <a:ext cx="3240" cy="1440"/>
          </a:xfrm>
          <a:custGeom>
            <a:avLst/>
            <a:gdLst/>
            <a:ahLst/>
            <a:rect l="l" t="t" r="r" b="b"/>
            <a:pathLst>
              <a:path w="16" h="16">
                <a:moveTo>
                  <a:pt x="0" y="3"/>
                </a:moveTo>
                <a:lnTo>
                  <a:pt x="1" y="1"/>
                </a:lnTo>
                <a:lnTo>
                  <a:pt x="3" y="0"/>
                </a:lnTo>
                <a:lnTo>
                  <a:pt x="13" y="16"/>
                </a:lnTo>
                <a:lnTo>
                  <a:pt x="16" y="13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771640" y="1490760"/>
            <a:ext cx="7920" cy="7920"/>
          </a:xfrm>
          <a:custGeom>
            <a:avLst/>
            <a:gdLst/>
            <a:ahLst/>
            <a:rect l="l" t="t" r="r" b="b"/>
            <a:pathLst>
              <a:path w="34" h="35">
                <a:moveTo>
                  <a:pt x="16" y="35"/>
                </a:moveTo>
                <a:lnTo>
                  <a:pt x="15" y="24"/>
                </a:lnTo>
                <a:lnTo>
                  <a:pt x="15" y="24"/>
                </a:lnTo>
                <a:lnTo>
                  <a:pt x="7" y="21"/>
                </a:lnTo>
                <a:lnTo>
                  <a:pt x="0" y="14"/>
                </a:lnTo>
                <a:lnTo>
                  <a:pt x="13" y="0"/>
                </a:lnTo>
                <a:lnTo>
                  <a:pt x="21" y="8"/>
                </a:lnTo>
                <a:lnTo>
                  <a:pt x="27" y="9"/>
                </a:lnTo>
                <a:lnTo>
                  <a:pt x="33" y="18"/>
                </a:lnTo>
                <a:lnTo>
                  <a:pt x="34" y="32"/>
                </a:lnTo>
                <a:lnTo>
                  <a:pt x="16" y="35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776680" y="1496880"/>
            <a:ext cx="2880" cy="3240"/>
          </a:xfrm>
          <a:custGeom>
            <a:avLst/>
            <a:gdLst/>
            <a:ahLst/>
            <a:rect l="l" t="t" r="r" b="b"/>
            <a:pathLst>
              <a:path w="18" h="16">
                <a:moveTo>
                  <a:pt x="14" y="16"/>
                </a:moveTo>
                <a:lnTo>
                  <a:pt x="18" y="13"/>
                </a:lnTo>
                <a:lnTo>
                  <a:pt x="18" y="6"/>
                </a:lnTo>
                <a:lnTo>
                  <a:pt x="0" y="9"/>
                </a:lnTo>
                <a:lnTo>
                  <a:pt x="3" y="0"/>
                </a:lnTo>
                <a:lnTo>
                  <a:pt x="14" y="16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754360" y="1481040"/>
            <a:ext cx="20520" cy="14400"/>
          </a:xfrm>
          <a:custGeom>
            <a:avLst/>
            <a:gdLst/>
            <a:ahLst/>
            <a:rect l="l" t="t" r="r" b="b"/>
            <a:pathLst>
              <a:path w="95" h="66">
                <a:moveTo>
                  <a:pt x="82" y="66"/>
                </a:moveTo>
                <a:lnTo>
                  <a:pt x="65" y="45"/>
                </a:lnTo>
                <a:lnTo>
                  <a:pt x="45" y="31"/>
                </a:lnTo>
                <a:lnTo>
                  <a:pt x="23" y="21"/>
                </a:lnTo>
                <a:lnTo>
                  <a:pt x="12" y="19"/>
                </a:lnTo>
                <a:lnTo>
                  <a:pt x="0" y="18"/>
                </a:lnTo>
                <a:lnTo>
                  <a:pt x="0" y="0"/>
                </a:lnTo>
                <a:lnTo>
                  <a:pt x="15" y="1"/>
                </a:lnTo>
                <a:lnTo>
                  <a:pt x="30" y="3"/>
                </a:lnTo>
                <a:lnTo>
                  <a:pt x="56" y="15"/>
                </a:lnTo>
                <a:lnTo>
                  <a:pt x="79" y="31"/>
                </a:lnTo>
                <a:lnTo>
                  <a:pt x="95" y="52"/>
                </a:lnTo>
                <a:lnTo>
                  <a:pt x="82" y="66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771640" y="1490760"/>
            <a:ext cx="3240" cy="4680"/>
          </a:xfrm>
          <a:custGeom>
            <a:avLst/>
            <a:gdLst/>
            <a:ahLst/>
            <a:rect l="l" t="t" r="r" b="b"/>
            <a:pathLst>
              <a:path w="13" h="14">
                <a:moveTo>
                  <a:pt x="0" y="14"/>
                </a:moveTo>
                <a:lnTo>
                  <a:pt x="13" y="0"/>
                </a:lnTo>
                <a:lnTo>
                  <a:pt x="0" y="14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743200" y="1481040"/>
            <a:ext cx="11160" cy="32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39960" y="1481040"/>
            <a:ext cx="4680" cy="3240"/>
          </a:xfrm>
          <a:custGeom>
            <a:avLst/>
            <a:gdLst/>
            <a:ahLst/>
            <a:rect l="l" t="t" r="r" b="b"/>
            <a:pathLst>
              <a:path w="20" h="19">
                <a:moveTo>
                  <a:pt x="9" y="19"/>
                </a:moveTo>
                <a:lnTo>
                  <a:pt x="0" y="19"/>
                </a:lnTo>
                <a:lnTo>
                  <a:pt x="0" y="9"/>
                </a:lnTo>
                <a:lnTo>
                  <a:pt x="20" y="9"/>
                </a:lnTo>
                <a:lnTo>
                  <a:pt x="9" y="0"/>
                </a:lnTo>
                <a:lnTo>
                  <a:pt x="9" y="19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730600" y="1457280"/>
            <a:ext cx="14040" cy="12600"/>
          </a:xfrm>
          <a:custGeom>
            <a:avLst/>
            <a:gdLst/>
            <a:ahLst/>
            <a:rect l="l" t="t" r="r" b="b"/>
            <a:pathLst>
              <a:path w="66" h="65">
                <a:moveTo>
                  <a:pt x="48" y="65"/>
                </a:moveTo>
                <a:lnTo>
                  <a:pt x="47" y="54"/>
                </a:lnTo>
                <a:lnTo>
                  <a:pt x="44" y="47"/>
                </a:lnTo>
                <a:lnTo>
                  <a:pt x="41" y="39"/>
                </a:lnTo>
                <a:lnTo>
                  <a:pt x="36" y="32"/>
                </a:lnTo>
                <a:lnTo>
                  <a:pt x="20" y="23"/>
                </a:lnTo>
                <a:lnTo>
                  <a:pt x="0" y="18"/>
                </a:lnTo>
                <a:lnTo>
                  <a:pt x="5" y="0"/>
                </a:lnTo>
                <a:lnTo>
                  <a:pt x="27" y="5"/>
                </a:lnTo>
                <a:lnTo>
                  <a:pt x="48" y="17"/>
                </a:lnTo>
                <a:lnTo>
                  <a:pt x="56" y="27"/>
                </a:lnTo>
                <a:lnTo>
                  <a:pt x="60" y="38"/>
                </a:lnTo>
                <a:lnTo>
                  <a:pt x="65" y="50"/>
                </a:lnTo>
                <a:lnTo>
                  <a:pt x="66" y="62"/>
                </a:lnTo>
                <a:lnTo>
                  <a:pt x="48" y="65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739960" y="1469880"/>
            <a:ext cx="4680" cy="360"/>
          </a:xfrm>
          <a:custGeom>
            <a:avLst/>
            <a:gdLst/>
            <a:ahLst/>
            <a:rect l="l" t="t" r="r" b="b"/>
            <a:pathLst>
              <a:path w="20" h="3">
                <a:moveTo>
                  <a:pt x="20" y="1"/>
                </a:moveTo>
                <a:lnTo>
                  <a:pt x="18" y="0"/>
                </a:lnTo>
                <a:lnTo>
                  <a:pt x="0" y="3"/>
                </a:lnTo>
                <a:lnTo>
                  <a:pt x="0" y="1"/>
                </a:lnTo>
                <a:lnTo>
                  <a:pt x="20" y="1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709720" y="1457280"/>
            <a:ext cx="22320" cy="32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30600" y="1457280"/>
            <a:ext cx="1440" cy="3240"/>
          </a:xfrm>
          <a:custGeom>
            <a:avLst/>
            <a:gdLst/>
            <a:ahLst/>
            <a:rect l="l" t="t" r="r" b="b"/>
            <a:pathLst>
              <a:path w="5" h="20">
                <a:moveTo>
                  <a:pt x="5" y="0"/>
                </a:moveTo>
                <a:lnTo>
                  <a:pt x="3" y="0"/>
                </a:lnTo>
                <a:lnTo>
                  <a:pt x="3" y="20"/>
                </a:lnTo>
                <a:lnTo>
                  <a:pt x="0" y="18"/>
                </a:lnTo>
                <a:lnTo>
                  <a:pt x="5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695680" y="1457280"/>
            <a:ext cx="15840" cy="12600"/>
          </a:xfrm>
          <a:custGeom>
            <a:avLst/>
            <a:gdLst/>
            <a:ahLst/>
            <a:rect l="l" t="t" r="r" b="b"/>
            <a:pathLst>
              <a:path w="68" h="63">
                <a:moveTo>
                  <a:pt x="68" y="18"/>
                </a:moveTo>
                <a:lnTo>
                  <a:pt x="47" y="23"/>
                </a:lnTo>
                <a:lnTo>
                  <a:pt x="41" y="26"/>
                </a:lnTo>
                <a:lnTo>
                  <a:pt x="35" y="30"/>
                </a:lnTo>
                <a:lnTo>
                  <a:pt x="23" y="48"/>
                </a:lnTo>
                <a:lnTo>
                  <a:pt x="21" y="53"/>
                </a:lnTo>
                <a:lnTo>
                  <a:pt x="20" y="63"/>
                </a:lnTo>
                <a:lnTo>
                  <a:pt x="0" y="62"/>
                </a:lnTo>
                <a:lnTo>
                  <a:pt x="2" y="50"/>
                </a:lnTo>
                <a:lnTo>
                  <a:pt x="6" y="38"/>
                </a:lnTo>
                <a:lnTo>
                  <a:pt x="20" y="18"/>
                </a:lnTo>
                <a:lnTo>
                  <a:pt x="29" y="11"/>
                </a:lnTo>
                <a:lnTo>
                  <a:pt x="39" y="5"/>
                </a:lnTo>
                <a:lnTo>
                  <a:pt x="62" y="0"/>
                </a:lnTo>
                <a:lnTo>
                  <a:pt x="68" y="18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709720" y="1457280"/>
            <a:ext cx="1800" cy="3240"/>
          </a:xfrm>
          <a:custGeom>
            <a:avLst/>
            <a:gdLst/>
            <a:ahLst/>
            <a:rect l="l" t="t" r="r" b="b"/>
            <a:pathLst>
              <a:path w="6" h="20">
                <a:moveTo>
                  <a:pt x="3" y="0"/>
                </a:moveTo>
                <a:lnTo>
                  <a:pt x="0" y="0"/>
                </a:lnTo>
                <a:lnTo>
                  <a:pt x="6" y="18"/>
                </a:lnTo>
                <a:lnTo>
                  <a:pt x="3" y="20"/>
                </a:ln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695680" y="1469880"/>
            <a:ext cx="4680" cy="129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695680" y="1469880"/>
            <a:ext cx="4680" cy="360"/>
          </a:xfrm>
          <a:custGeom>
            <a:avLst/>
            <a:gdLst/>
            <a:ahLst/>
            <a:rect l="l" t="t" r="r" b="b"/>
            <a:pathLst>
              <a:path w="20" h="1">
                <a:moveTo>
                  <a:pt x="0" y="0"/>
                </a:moveTo>
                <a:lnTo>
                  <a:pt x="0" y="1"/>
                </a:lnTo>
                <a:lnTo>
                  <a:pt x="20" y="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685960" y="1481040"/>
            <a:ext cx="12960" cy="32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695680" y="1481040"/>
            <a:ext cx="4680" cy="3240"/>
          </a:xfrm>
          <a:custGeom>
            <a:avLst/>
            <a:gdLst/>
            <a:ahLst/>
            <a:rect l="l" t="t" r="r" b="b"/>
            <a:pathLst>
              <a:path w="20" h="19">
                <a:moveTo>
                  <a:pt x="20" y="9"/>
                </a:moveTo>
                <a:lnTo>
                  <a:pt x="20" y="19"/>
                </a:lnTo>
                <a:lnTo>
                  <a:pt x="11" y="19"/>
                </a:lnTo>
                <a:lnTo>
                  <a:pt x="11" y="0"/>
                </a:lnTo>
                <a:lnTo>
                  <a:pt x="0" y="9"/>
                </a:lnTo>
                <a:lnTo>
                  <a:pt x="20" y="9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685960" y="1481040"/>
            <a:ext cx="360" cy="3240"/>
          </a:xfrm>
          <a:custGeom>
            <a:avLst/>
            <a:gdLst/>
            <a:ahLst/>
            <a:rect l="l" t="t" r="r" b="b"/>
            <a:pathLst>
              <a:path w="3" h="19">
                <a:moveTo>
                  <a:pt x="1" y="0"/>
                </a:moveTo>
                <a:lnTo>
                  <a:pt x="0" y="0"/>
                </a:lnTo>
                <a:lnTo>
                  <a:pt x="3" y="18"/>
                </a:lnTo>
                <a:lnTo>
                  <a:pt x="1" y="19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676600" y="1506600"/>
            <a:ext cx="39600" cy="39600"/>
          </a:xfrm>
          <a:custGeom>
            <a:avLst/>
            <a:gdLst/>
            <a:ahLst/>
            <a:rect l="l" t="t" r="r" b="b"/>
            <a:pathLst>
              <a:path w="184" h="187">
                <a:moveTo>
                  <a:pt x="112" y="169"/>
                </a:moveTo>
                <a:lnTo>
                  <a:pt x="112" y="115"/>
                </a:lnTo>
                <a:lnTo>
                  <a:pt x="166" y="115"/>
                </a:lnTo>
                <a:lnTo>
                  <a:pt x="169" y="113"/>
                </a:lnTo>
                <a:lnTo>
                  <a:pt x="174" y="113"/>
                </a:lnTo>
                <a:lnTo>
                  <a:pt x="177" y="110"/>
                </a:lnTo>
                <a:lnTo>
                  <a:pt x="180" y="109"/>
                </a:lnTo>
                <a:lnTo>
                  <a:pt x="183" y="103"/>
                </a:lnTo>
                <a:lnTo>
                  <a:pt x="184" y="100"/>
                </a:lnTo>
                <a:lnTo>
                  <a:pt x="184" y="95"/>
                </a:lnTo>
                <a:lnTo>
                  <a:pt x="184" y="92"/>
                </a:lnTo>
                <a:lnTo>
                  <a:pt x="184" y="88"/>
                </a:lnTo>
                <a:lnTo>
                  <a:pt x="183" y="85"/>
                </a:lnTo>
                <a:lnTo>
                  <a:pt x="181" y="82"/>
                </a:lnTo>
                <a:lnTo>
                  <a:pt x="180" y="79"/>
                </a:lnTo>
                <a:lnTo>
                  <a:pt x="174" y="76"/>
                </a:lnTo>
                <a:lnTo>
                  <a:pt x="169" y="74"/>
                </a:lnTo>
                <a:lnTo>
                  <a:pt x="166" y="74"/>
                </a:lnTo>
                <a:lnTo>
                  <a:pt x="112" y="74"/>
                </a:lnTo>
                <a:lnTo>
                  <a:pt x="112" y="20"/>
                </a:lnTo>
                <a:lnTo>
                  <a:pt x="112" y="15"/>
                </a:lnTo>
                <a:lnTo>
                  <a:pt x="111" y="12"/>
                </a:lnTo>
                <a:lnTo>
                  <a:pt x="109" y="9"/>
                </a:lnTo>
                <a:lnTo>
                  <a:pt x="106" y="6"/>
                </a:lnTo>
                <a:lnTo>
                  <a:pt x="102" y="2"/>
                </a:lnTo>
                <a:lnTo>
                  <a:pt x="97" y="0"/>
                </a:lnTo>
                <a:lnTo>
                  <a:pt x="94" y="0"/>
                </a:lnTo>
                <a:lnTo>
                  <a:pt x="91" y="0"/>
                </a:lnTo>
                <a:lnTo>
                  <a:pt x="87" y="0"/>
                </a:lnTo>
                <a:lnTo>
                  <a:pt x="84" y="2"/>
                </a:lnTo>
                <a:lnTo>
                  <a:pt x="81" y="3"/>
                </a:lnTo>
                <a:lnTo>
                  <a:pt x="78" y="6"/>
                </a:lnTo>
                <a:lnTo>
                  <a:pt x="73" y="12"/>
                </a:lnTo>
                <a:lnTo>
                  <a:pt x="73" y="15"/>
                </a:lnTo>
                <a:lnTo>
                  <a:pt x="72" y="20"/>
                </a:lnTo>
                <a:lnTo>
                  <a:pt x="72" y="74"/>
                </a:lnTo>
                <a:lnTo>
                  <a:pt x="18" y="74"/>
                </a:lnTo>
                <a:lnTo>
                  <a:pt x="15" y="74"/>
                </a:lnTo>
                <a:lnTo>
                  <a:pt x="10" y="76"/>
                </a:lnTo>
                <a:lnTo>
                  <a:pt x="7" y="77"/>
                </a:lnTo>
                <a:lnTo>
                  <a:pt x="4" y="79"/>
                </a:lnTo>
                <a:lnTo>
                  <a:pt x="1" y="85"/>
                </a:lnTo>
                <a:lnTo>
                  <a:pt x="0" y="88"/>
                </a:lnTo>
                <a:lnTo>
                  <a:pt x="0" y="92"/>
                </a:lnTo>
                <a:lnTo>
                  <a:pt x="0" y="95"/>
                </a:lnTo>
                <a:lnTo>
                  <a:pt x="0" y="100"/>
                </a:lnTo>
                <a:lnTo>
                  <a:pt x="1" y="103"/>
                </a:lnTo>
                <a:lnTo>
                  <a:pt x="3" y="106"/>
                </a:lnTo>
                <a:lnTo>
                  <a:pt x="4" y="109"/>
                </a:lnTo>
                <a:lnTo>
                  <a:pt x="10" y="113"/>
                </a:lnTo>
                <a:lnTo>
                  <a:pt x="15" y="113"/>
                </a:lnTo>
                <a:lnTo>
                  <a:pt x="18" y="115"/>
                </a:lnTo>
                <a:lnTo>
                  <a:pt x="72" y="115"/>
                </a:lnTo>
                <a:lnTo>
                  <a:pt x="72" y="169"/>
                </a:lnTo>
                <a:lnTo>
                  <a:pt x="73" y="172"/>
                </a:lnTo>
                <a:lnTo>
                  <a:pt x="73" y="176"/>
                </a:lnTo>
                <a:lnTo>
                  <a:pt x="75" y="179"/>
                </a:lnTo>
                <a:lnTo>
                  <a:pt x="78" y="181"/>
                </a:lnTo>
                <a:lnTo>
                  <a:pt x="84" y="185"/>
                </a:lnTo>
                <a:lnTo>
                  <a:pt x="87" y="187"/>
                </a:lnTo>
                <a:lnTo>
                  <a:pt x="91" y="187"/>
                </a:lnTo>
                <a:lnTo>
                  <a:pt x="94" y="187"/>
                </a:lnTo>
                <a:lnTo>
                  <a:pt x="97" y="187"/>
                </a:lnTo>
                <a:lnTo>
                  <a:pt x="102" y="185"/>
                </a:lnTo>
                <a:lnTo>
                  <a:pt x="105" y="184"/>
                </a:lnTo>
                <a:lnTo>
                  <a:pt x="106" y="181"/>
                </a:lnTo>
                <a:lnTo>
                  <a:pt x="111" y="176"/>
                </a:lnTo>
                <a:lnTo>
                  <a:pt x="112" y="172"/>
                </a:lnTo>
                <a:lnTo>
                  <a:pt x="112" y="1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41760" y="1469880"/>
            <a:ext cx="2880" cy="129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752560" y="1488960"/>
            <a:ext cx="149400" cy="293760"/>
          </a:xfrm>
          <a:custGeom>
            <a:avLst/>
            <a:gdLst>
              <a:gd name="textAreaLeft" fmla="*/ 13680 w 149400"/>
              <a:gd name="textAreaRight" fmla="*/ 135720 w 149400"/>
              <a:gd name="textAreaTop" fmla="*/ 13680 h 293760"/>
              <a:gd name="textAreaBottom" fmla="*/ 280080 h 293760"/>
            </a:gdLst>
            <a:ahLst/>
            <a:rect l="textAreaLeft" t="textAreaTop" r="textAreaRight" b="textAreaBottom"/>
            <a:pathLst>
              <a:path w="21600" h="42421">
                <a:moveTo>
                  <a:pt x="6840" y="0"/>
                </a:moveTo>
                <a:arcTo wR="6840" hR="6840" stAng="16200000" swAng="-5400000"/>
                <a:lnTo>
                  <a:pt x="0" y="35581"/>
                </a:lnTo>
                <a:arcTo wR="6840" hR="6840" stAng="10800000" swAng="-5400000"/>
                <a:lnTo>
                  <a:pt x="14760" y="42421"/>
                </a:lnTo>
                <a:arcTo wR="6840" hR="6840" stAng="5400000" swAng="-5400000"/>
                <a:lnTo>
                  <a:pt x="21600" y="6840"/>
                </a:lnTo>
                <a:arcTo wR="6840" hR="6840" stAng="0" swAng="-5400000"/>
                <a:close/>
              </a:path>
            </a:pathLst>
          </a:custGeom>
          <a:solidFill>
            <a:srgbClr val="426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44640" y="1479600"/>
            <a:ext cx="169920" cy="309600"/>
          </a:xfrm>
          <a:custGeom>
            <a:avLst/>
            <a:gdLst/>
            <a:ahLst/>
            <a:rect l="l" t="t" r="r" b="b"/>
            <a:pathLst>
              <a:path w="822" h="1509">
                <a:moveTo>
                  <a:pt x="280" y="89"/>
                </a:moveTo>
                <a:lnTo>
                  <a:pt x="259" y="90"/>
                </a:lnTo>
                <a:lnTo>
                  <a:pt x="250" y="92"/>
                </a:lnTo>
                <a:lnTo>
                  <a:pt x="241" y="93"/>
                </a:lnTo>
                <a:lnTo>
                  <a:pt x="232" y="95"/>
                </a:lnTo>
                <a:lnTo>
                  <a:pt x="222" y="98"/>
                </a:lnTo>
                <a:lnTo>
                  <a:pt x="205" y="105"/>
                </a:lnTo>
                <a:lnTo>
                  <a:pt x="196" y="108"/>
                </a:lnTo>
                <a:lnTo>
                  <a:pt x="187" y="113"/>
                </a:lnTo>
                <a:lnTo>
                  <a:pt x="180" y="117"/>
                </a:lnTo>
                <a:lnTo>
                  <a:pt x="172" y="122"/>
                </a:lnTo>
                <a:lnTo>
                  <a:pt x="165" y="128"/>
                </a:lnTo>
                <a:lnTo>
                  <a:pt x="157" y="134"/>
                </a:lnTo>
                <a:lnTo>
                  <a:pt x="150" y="140"/>
                </a:lnTo>
                <a:lnTo>
                  <a:pt x="144" y="146"/>
                </a:lnTo>
                <a:lnTo>
                  <a:pt x="132" y="160"/>
                </a:lnTo>
                <a:lnTo>
                  <a:pt x="120" y="175"/>
                </a:lnTo>
                <a:lnTo>
                  <a:pt x="111" y="191"/>
                </a:lnTo>
                <a:lnTo>
                  <a:pt x="102" y="208"/>
                </a:lnTo>
                <a:lnTo>
                  <a:pt x="96" y="226"/>
                </a:lnTo>
                <a:lnTo>
                  <a:pt x="91" y="244"/>
                </a:lnTo>
                <a:lnTo>
                  <a:pt x="88" y="263"/>
                </a:lnTo>
                <a:lnTo>
                  <a:pt x="87" y="283"/>
                </a:lnTo>
                <a:lnTo>
                  <a:pt x="87" y="1226"/>
                </a:lnTo>
                <a:lnTo>
                  <a:pt x="88" y="1237"/>
                </a:lnTo>
                <a:lnTo>
                  <a:pt x="88" y="1246"/>
                </a:lnTo>
                <a:lnTo>
                  <a:pt x="90" y="1256"/>
                </a:lnTo>
                <a:lnTo>
                  <a:pt x="91" y="1265"/>
                </a:lnTo>
                <a:lnTo>
                  <a:pt x="93" y="1274"/>
                </a:lnTo>
                <a:lnTo>
                  <a:pt x="96" y="1283"/>
                </a:lnTo>
                <a:lnTo>
                  <a:pt x="102" y="1302"/>
                </a:lnTo>
                <a:lnTo>
                  <a:pt x="106" y="1311"/>
                </a:lnTo>
                <a:lnTo>
                  <a:pt x="111" y="1318"/>
                </a:lnTo>
                <a:lnTo>
                  <a:pt x="115" y="1327"/>
                </a:lnTo>
                <a:lnTo>
                  <a:pt x="120" y="1335"/>
                </a:lnTo>
                <a:lnTo>
                  <a:pt x="126" y="1342"/>
                </a:lnTo>
                <a:lnTo>
                  <a:pt x="132" y="1350"/>
                </a:lnTo>
                <a:lnTo>
                  <a:pt x="138" y="1356"/>
                </a:lnTo>
                <a:lnTo>
                  <a:pt x="144" y="1363"/>
                </a:lnTo>
                <a:lnTo>
                  <a:pt x="157" y="1375"/>
                </a:lnTo>
                <a:lnTo>
                  <a:pt x="172" y="1386"/>
                </a:lnTo>
                <a:lnTo>
                  <a:pt x="187" y="1396"/>
                </a:lnTo>
                <a:lnTo>
                  <a:pt x="205" y="1404"/>
                </a:lnTo>
                <a:lnTo>
                  <a:pt x="222" y="1411"/>
                </a:lnTo>
                <a:lnTo>
                  <a:pt x="241" y="1416"/>
                </a:lnTo>
                <a:lnTo>
                  <a:pt x="259" y="1419"/>
                </a:lnTo>
                <a:lnTo>
                  <a:pt x="280" y="1419"/>
                </a:lnTo>
                <a:lnTo>
                  <a:pt x="543" y="1419"/>
                </a:lnTo>
                <a:lnTo>
                  <a:pt x="563" y="1419"/>
                </a:lnTo>
                <a:lnTo>
                  <a:pt x="572" y="1417"/>
                </a:lnTo>
                <a:lnTo>
                  <a:pt x="582" y="1416"/>
                </a:lnTo>
                <a:lnTo>
                  <a:pt x="591" y="1413"/>
                </a:lnTo>
                <a:lnTo>
                  <a:pt x="600" y="1411"/>
                </a:lnTo>
                <a:lnTo>
                  <a:pt x="618" y="1404"/>
                </a:lnTo>
                <a:lnTo>
                  <a:pt x="626" y="1401"/>
                </a:lnTo>
                <a:lnTo>
                  <a:pt x="635" y="1396"/>
                </a:lnTo>
                <a:lnTo>
                  <a:pt x="642" y="1392"/>
                </a:lnTo>
                <a:lnTo>
                  <a:pt x="651" y="1386"/>
                </a:lnTo>
                <a:lnTo>
                  <a:pt x="659" y="1381"/>
                </a:lnTo>
                <a:lnTo>
                  <a:pt x="665" y="1375"/>
                </a:lnTo>
                <a:lnTo>
                  <a:pt x="672" y="1369"/>
                </a:lnTo>
                <a:lnTo>
                  <a:pt x="678" y="1363"/>
                </a:lnTo>
                <a:lnTo>
                  <a:pt x="692" y="1350"/>
                </a:lnTo>
                <a:lnTo>
                  <a:pt x="702" y="1335"/>
                </a:lnTo>
                <a:lnTo>
                  <a:pt x="713" y="1318"/>
                </a:lnTo>
                <a:lnTo>
                  <a:pt x="720" y="1302"/>
                </a:lnTo>
                <a:lnTo>
                  <a:pt x="726" y="1283"/>
                </a:lnTo>
                <a:lnTo>
                  <a:pt x="731" y="1265"/>
                </a:lnTo>
                <a:lnTo>
                  <a:pt x="734" y="1246"/>
                </a:lnTo>
                <a:lnTo>
                  <a:pt x="735" y="1226"/>
                </a:lnTo>
                <a:lnTo>
                  <a:pt x="735" y="283"/>
                </a:lnTo>
                <a:lnTo>
                  <a:pt x="735" y="272"/>
                </a:lnTo>
                <a:lnTo>
                  <a:pt x="734" y="263"/>
                </a:lnTo>
                <a:lnTo>
                  <a:pt x="734" y="253"/>
                </a:lnTo>
                <a:lnTo>
                  <a:pt x="731" y="244"/>
                </a:lnTo>
                <a:lnTo>
                  <a:pt x="729" y="235"/>
                </a:lnTo>
                <a:lnTo>
                  <a:pt x="726" y="226"/>
                </a:lnTo>
                <a:lnTo>
                  <a:pt x="720" y="208"/>
                </a:lnTo>
                <a:lnTo>
                  <a:pt x="716" y="199"/>
                </a:lnTo>
                <a:lnTo>
                  <a:pt x="713" y="191"/>
                </a:lnTo>
                <a:lnTo>
                  <a:pt x="707" y="182"/>
                </a:lnTo>
                <a:lnTo>
                  <a:pt x="702" y="175"/>
                </a:lnTo>
                <a:lnTo>
                  <a:pt x="698" y="167"/>
                </a:lnTo>
                <a:lnTo>
                  <a:pt x="692" y="160"/>
                </a:lnTo>
                <a:lnTo>
                  <a:pt x="686" y="152"/>
                </a:lnTo>
                <a:lnTo>
                  <a:pt x="678" y="146"/>
                </a:lnTo>
                <a:lnTo>
                  <a:pt x="665" y="134"/>
                </a:lnTo>
                <a:lnTo>
                  <a:pt x="651" y="122"/>
                </a:lnTo>
                <a:lnTo>
                  <a:pt x="635" y="113"/>
                </a:lnTo>
                <a:lnTo>
                  <a:pt x="618" y="105"/>
                </a:lnTo>
                <a:lnTo>
                  <a:pt x="600" y="98"/>
                </a:lnTo>
                <a:lnTo>
                  <a:pt x="582" y="93"/>
                </a:lnTo>
                <a:lnTo>
                  <a:pt x="563" y="90"/>
                </a:lnTo>
                <a:lnTo>
                  <a:pt x="543" y="89"/>
                </a:lnTo>
                <a:lnTo>
                  <a:pt x="280" y="89"/>
                </a:lnTo>
                <a:close/>
                <a:moveTo>
                  <a:pt x="274" y="0"/>
                </a:moveTo>
                <a:lnTo>
                  <a:pt x="548" y="0"/>
                </a:lnTo>
                <a:lnTo>
                  <a:pt x="563" y="0"/>
                </a:lnTo>
                <a:lnTo>
                  <a:pt x="576" y="2"/>
                </a:lnTo>
                <a:lnTo>
                  <a:pt x="590" y="3"/>
                </a:lnTo>
                <a:lnTo>
                  <a:pt x="603" y="6"/>
                </a:lnTo>
                <a:lnTo>
                  <a:pt x="617" y="9"/>
                </a:lnTo>
                <a:lnTo>
                  <a:pt x="630" y="12"/>
                </a:lnTo>
                <a:lnTo>
                  <a:pt x="642" y="17"/>
                </a:lnTo>
                <a:lnTo>
                  <a:pt x="656" y="23"/>
                </a:lnTo>
                <a:lnTo>
                  <a:pt x="668" y="27"/>
                </a:lnTo>
                <a:lnTo>
                  <a:pt x="680" y="33"/>
                </a:lnTo>
                <a:lnTo>
                  <a:pt x="690" y="41"/>
                </a:lnTo>
                <a:lnTo>
                  <a:pt x="702" y="47"/>
                </a:lnTo>
                <a:lnTo>
                  <a:pt x="713" y="56"/>
                </a:lnTo>
                <a:lnTo>
                  <a:pt x="723" y="63"/>
                </a:lnTo>
                <a:lnTo>
                  <a:pt x="743" y="81"/>
                </a:lnTo>
                <a:lnTo>
                  <a:pt x="752" y="90"/>
                </a:lnTo>
                <a:lnTo>
                  <a:pt x="761" y="101"/>
                </a:lnTo>
                <a:lnTo>
                  <a:pt x="768" y="111"/>
                </a:lnTo>
                <a:lnTo>
                  <a:pt x="776" y="122"/>
                </a:lnTo>
                <a:lnTo>
                  <a:pt x="789" y="145"/>
                </a:lnTo>
                <a:lnTo>
                  <a:pt x="795" y="157"/>
                </a:lnTo>
                <a:lnTo>
                  <a:pt x="801" y="169"/>
                </a:lnTo>
                <a:lnTo>
                  <a:pt x="810" y="194"/>
                </a:lnTo>
                <a:lnTo>
                  <a:pt x="815" y="208"/>
                </a:lnTo>
                <a:lnTo>
                  <a:pt x="818" y="220"/>
                </a:lnTo>
                <a:lnTo>
                  <a:pt x="819" y="233"/>
                </a:lnTo>
                <a:lnTo>
                  <a:pt x="821" y="248"/>
                </a:lnTo>
                <a:lnTo>
                  <a:pt x="822" y="262"/>
                </a:lnTo>
                <a:lnTo>
                  <a:pt x="822" y="275"/>
                </a:lnTo>
                <a:lnTo>
                  <a:pt x="822" y="1234"/>
                </a:lnTo>
                <a:lnTo>
                  <a:pt x="822" y="1247"/>
                </a:lnTo>
                <a:lnTo>
                  <a:pt x="821" y="1261"/>
                </a:lnTo>
                <a:lnTo>
                  <a:pt x="819" y="1274"/>
                </a:lnTo>
                <a:lnTo>
                  <a:pt x="818" y="1288"/>
                </a:lnTo>
                <a:lnTo>
                  <a:pt x="815" y="1302"/>
                </a:lnTo>
                <a:lnTo>
                  <a:pt x="810" y="1315"/>
                </a:lnTo>
                <a:lnTo>
                  <a:pt x="806" y="1329"/>
                </a:lnTo>
                <a:lnTo>
                  <a:pt x="801" y="1341"/>
                </a:lnTo>
                <a:lnTo>
                  <a:pt x="795" y="1353"/>
                </a:lnTo>
                <a:lnTo>
                  <a:pt x="789" y="1365"/>
                </a:lnTo>
                <a:lnTo>
                  <a:pt x="783" y="1377"/>
                </a:lnTo>
                <a:lnTo>
                  <a:pt x="776" y="1387"/>
                </a:lnTo>
                <a:lnTo>
                  <a:pt x="768" y="1398"/>
                </a:lnTo>
                <a:lnTo>
                  <a:pt x="761" y="1408"/>
                </a:lnTo>
                <a:lnTo>
                  <a:pt x="743" y="1428"/>
                </a:lnTo>
                <a:lnTo>
                  <a:pt x="732" y="1437"/>
                </a:lnTo>
                <a:lnTo>
                  <a:pt x="723" y="1446"/>
                </a:lnTo>
                <a:lnTo>
                  <a:pt x="713" y="1453"/>
                </a:lnTo>
                <a:lnTo>
                  <a:pt x="702" y="1461"/>
                </a:lnTo>
                <a:lnTo>
                  <a:pt x="680" y="1476"/>
                </a:lnTo>
                <a:lnTo>
                  <a:pt x="668" y="1482"/>
                </a:lnTo>
                <a:lnTo>
                  <a:pt x="656" y="1487"/>
                </a:lnTo>
                <a:lnTo>
                  <a:pt x="630" y="1496"/>
                </a:lnTo>
                <a:lnTo>
                  <a:pt x="617" y="1500"/>
                </a:lnTo>
                <a:lnTo>
                  <a:pt x="603" y="1503"/>
                </a:lnTo>
                <a:lnTo>
                  <a:pt x="590" y="1506"/>
                </a:lnTo>
                <a:lnTo>
                  <a:pt x="576" y="1508"/>
                </a:lnTo>
                <a:lnTo>
                  <a:pt x="563" y="1508"/>
                </a:lnTo>
                <a:lnTo>
                  <a:pt x="548" y="1509"/>
                </a:lnTo>
                <a:lnTo>
                  <a:pt x="274" y="1509"/>
                </a:lnTo>
                <a:lnTo>
                  <a:pt x="261" y="1508"/>
                </a:lnTo>
                <a:lnTo>
                  <a:pt x="246" y="1508"/>
                </a:lnTo>
                <a:lnTo>
                  <a:pt x="232" y="1506"/>
                </a:lnTo>
                <a:lnTo>
                  <a:pt x="219" y="1503"/>
                </a:lnTo>
                <a:lnTo>
                  <a:pt x="205" y="1500"/>
                </a:lnTo>
                <a:lnTo>
                  <a:pt x="193" y="1496"/>
                </a:lnTo>
                <a:lnTo>
                  <a:pt x="180" y="1493"/>
                </a:lnTo>
                <a:lnTo>
                  <a:pt x="168" y="1487"/>
                </a:lnTo>
                <a:lnTo>
                  <a:pt x="156" y="1482"/>
                </a:lnTo>
                <a:lnTo>
                  <a:pt x="144" y="1476"/>
                </a:lnTo>
                <a:lnTo>
                  <a:pt x="132" y="1469"/>
                </a:lnTo>
                <a:lnTo>
                  <a:pt x="121" y="1461"/>
                </a:lnTo>
                <a:lnTo>
                  <a:pt x="111" y="1453"/>
                </a:lnTo>
                <a:lnTo>
                  <a:pt x="100" y="1446"/>
                </a:lnTo>
                <a:lnTo>
                  <a:pt x="81" y="1428"/>
                </a:lnTo>
                <a:lnTo>
                  <a:pt x="72" y="1419"/>
                </a:lnTo>
                <a:lnTo>
                  <a:pt x="63" y="1408"/>
                </a:lnTo>
                <a:lnTo>
                  <a:pt x="54" y="1398"/>
                </a:lnTo>
                <a:lnTo>
                  <a:pt x="46" y="1387"/>
                </a:lnTo>
                <a:lnTo>
                  <a:pt x="33" y="1365"/>
                </a:lnTo>
                <a:lnTo>
                  <a:pt x="27" y="1353"/>
                </a:lnTo>
                <a:lnTo>
                  <a:pt x="21" y="1341"/>
                </a:lnTo>
                <a:lnTo>
                  <a:pt x="12" y="1315"/>
                </a:lnTo>
                <a:lnTo>
                  <a:pt x="9" y="1302"/>
                </a:lnTo>
                <a:lnTo>
                  <a:pt x="6" y="1288"/>
                </a:lnTo>
                <a:lnTo>
                  <a:pt x="3" y="1274"/>
                </a:lnTo>
                <a:lnTo>
                  <a:pt x="1" y="1261"/>
                </a:lnTo>
                <a:lnTo>
                  <a:pt x="0" y="1247"/>
                </a:lnTo>
                <a:lnTo>
                  <a:pt x="0" y="1234"/>
                </a:lnTo>
                <a:lnTo>
                  <a:pt x="0" y="275"/>
                </a:lnTo>
                <a:lnTo>
                  <a:pt x="0" y="262"/>
                </a:lnTo>
                <a:lnTo>
                  <a:pt x="1" y="248"/>
                </a:lnTo>
                <a:lnTo>
                  <a:pt x="3" y="233"/>
                </a:lnTo>
                <a:lnTo>
                  <a:pt x="6" y="220"/>
                </a:lnTo>
                <a:lnTo>
                  <a:pt x="9" y="208"/>
                </a:lnTo>
                <a:lnTo>
                  <a:pt x="12" y="194"/>
                </a:lnTo>
                <a:lnTo>
                  <a:pt x="16" y="181"/>
                </a:lnTo>
                <a:lnTo>
                  <a:pt x="21" y="169"/>
                </a:lnTo>
                <a:lnTo>
                  <a:pt x="27" y="157"/>
                </a:lnTo>
                <a:lnTo>
                  <a:pt x="33" y="145"/>
                </a:lnTo>
                <a:lnTo>
                  <a:pt x="40" y="133"/>
                </a:lnTo>
                <a:lnTo>
                  <a:pt x="46" y="122"/>
                </a:lnTo>
                <a:lnTo>
                  <a:pt x="54" y="111"/>
                </a:lnTo>
                <a:lnTo>
                  <a:pt x="63" y="101"/>
                </a:lnTo>
                <a:lnTo>
                  <a:pt x="81" y="81"/>
                </a:lnTo>
                <a:lnTo>
                  <a:pt x="90" y="72"/>
                </a:lnTo>
                <a:lnTo>
                  <a:pt x="100" y="63"/>
                </a:lnTo>
                <a:lnTo>
                  <a:pt x="111" y="56"/>
                </a:lnTo>
                <a:lnTo>
                  <a:pt x="121" y="47"/>
                </a:lnTo>
                <a:lnTo>
                  <a:pt x="144" y="33"/>
                </a:lnTo>
                <a:lnTo>
                  <a:pt x="156" y="27"/>
                </a:lnTo>
                <a:lnTo>
                  <a:pt x="168" y="23"/>
                </a:lnTo>
                <a:lnTo>
                  <a:pt x="193" y="12"/>
                </a:lnTo>
                <a:lnTo>
                  <a:pt x="205" y="9"/>
                </a:lnTo>
                <a:lnTo>
                  <a:pt x="219" y="6"/>
                </a:lnTo>
                <a:lnTo>
                  <a:pt x="232" y="3"/>
                </a:lnTo>
                <a:lnTo>
                  <a:pt x="246" y="2"/>
                </a:lnTo>
                <a:lnTo>
                  <a:pt x="261" y="0"/>
                </a:lnTo>
                <a:lnTo>
                  <a:pt x="27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762280" y="1496880"/>
            <a:ext cx="135000" cy="273240"/>
          </a:xfrm>
          <a:custGeom>
            <a:avLst/>
            <a:gdLst/>
            <a:ahLst/>
            <a:rect l="l" t="t" r="r" b="b"/>
            <a:pathLst>
              <a:path w="648" h="1330">
                <a:moveTo>
                  <a:pt x="192" y="0"/>
                </a:moveTo>
                <a:lnTo>
                  <a:pt x="154" y="4"/>
                </a:lnTo>
                <a:lnTo>
                  <a:pt x="118" y="15"/>
                </a:lnTo>
                <a:lnTo>
                  <a:pt x="100" y="24"/>
                </a:lnTo>
                <a:lnTo>
                  <a:pt x="85" y="33"/>
                </a:lnTo>
                <a:lnTo>
                  <a:pt x="57" y="57"/>
                </a:lnTo>
                <a:lnTo>
                  <a:pt x="33" y="86"/>
                </a:lnTo>
                <a:lnTo>
                  <a:pt x="24" y="101"/>
                </a:lnTo>
                <a:lnTo>
                  <a:pt x="15" y="119"/>
                </a:lnTo>
                <a:lnTo>
                  <a:pt x="9" y="135"/>
                </a:lnTo>
                <a:lnTo>
                  <a:pt x="4" y="155"/>
                </a:lnTo>
                <a:lnTo>
                  <a:pt x="1" y="173"/>
                </a:lnTo>
                <a:lnTo>
                  <a:pt x="0" y="194"/>
                </a:lnTo>
                <a:lnTo>
                  <a:pt x="0" y="1137"/>
                </a:lnTo>
                <a:lnTo>
                  <a:pt x="4" y="1176"/>
                </a:lnTo>
                <a:lnTo>
                  <a:pt x="15" y="1213"/>
                </a:lnTo>
                <a:lnTo>
                  <a:pt x="24" y="1229"/>
                </a:lnTo>
                <a:lnTo>
                  <a:pt x="33" y="1246"/>
                </a:lnTo>
                <a:lnTo>
                  <a:pt x="57" y="1274"/>
                </a:lnTo>
                <a:lnTo>
                  <a:pt x="85" y="1297"/>
                </a:lnTo>
                <a:lnTo>
                  <a:pt x="100" y="1307"/>
                </a:lnTo>
                <a:lnTo>
                  <a:pt x="118" y="1315"/>
                </a:lnTo>
                <a:lnTo>
                  <a:pt x="135" y="1321"/>
                </a:lnTo>
                <a:lnTo>
                  <a:pt x="154" y="1327"/>
                </a:lnTo>
                <a:lnTo>
                  <a:pt x="192" y="1330"/>
                </a:lnTo>
                <a:lnTo>
                  <a:pt x="456" y="1330"/>
                </a:lnTo>
                <a:lnTo>
                  <a:pt x="495" y="1327"/>
                </a:lnTo>
                <a:lnTo>
                  <a:pt x="531" y="1315"/>
                </a:lnTo>
                <a:lnTo>
                  <a:pt x="548" y="1307"/>
                </a:lnTo>
                <a:lnTo>
                  <a:pt x="563" y="1297"/>
                </a:lnTo>
                <a:lnTo>
                  <a:pt x="591" y="1274"/>
                </a:lnTo>
                <a:lnTo>
                  <a:pt x="615" y="1246"/>
                </a:lnTo>
                <a:lnTo>
                  <a:pt x="624" y="1229"/>
                </a:lnTo>
                <a:lnTo>
                  <a:pt x="633" y="1213"/>
                </a:lnTo>
                <a:lnTo>
                  <a:pt x="639" y="1194"/>
                </a:lnTo>
                <a:lnTo>
                  <a:pt x="644" y="1176"/>
                </a:lnTo>
                <a:lnTo>
                  <a:pt x="647" y="1157"/>
                </a:lnTo>
                <a:lnTo>
                  <a:pt x="648" y="1137"/>
                </a:lnTo>
                <a:lnTo>
                  <a:pt x="648" y="194"/>
                </a:lnTo>
                <a:lnTo>
                  <a:pt x="644" y="155"/>
                </a:lnTo>
                <a:lnTo>
                  <a:pt x="633" y="119"/>
                </a:lnTo>
                <a:lnTo>
                  <a:pt x="624" y="101"/>
                </a:lnTo>
                <a:lnTo>
                  <a:pt x="615" y="86"/>
                </a:lnTo>
                <a:lnTo>
                  <a:pt x="591" y="57"/>
                </a:lnTo>
                <a:lnTo>
                  <a:pt x="563" y="33"/>
                </a:lnTo>
                <a:lnTo>
                  <a:pt x="548" y="24"/>
                </a:lnTo>
                <a:lnTo>
                  <a:pt x="531" y="15"/>
                </a:lnTo>
                <a:lnTo>
                  <a:pt x="513" y="9"/>
                </a:lnTo>
                <a:lnTo>
                  <a:pt x="495" y="4"/>
                </a:lnTo>
                <a:lnTo>
                  <a:pt x="456" y="0"/>
                </a:lnTo>
                <a:lnTo>
                  <a:pt x="192" y="0"/>
                </a:lnTo>
              </a:path>
            </a:pathLst>
          </a:custGeom>
          <a:noFill/>
          <a:ln w="1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744640" y="1479600"/>
            <a:ext cx="169920" cy="309600"/>
          </a:xfrm>
          <a:custGeom>
            <a:avLst/>
            <a:gdLst/>
            <a:ahLst/>
            <a:rect l="l" t="t" r="r" b="b"/>
            <a:pathLst>
              <a:path w="822" h="1509">
                <a:moveTo>
                  <a:pt x="274" y="0"/>
                </a:moveTo>
                <a:lnTo>
                  <a:pt x="548" y="0"/>
                </a:lnTo>
                <a:lnTo>
                  <a:pt x="576" y="2"/>
                </a:lnTo>
                <a:lnTo>
                  <a:pt x="603" y="6"/>
                </a:lnTo>
                <a:lnTo>
                  <a:pt x="630" y="12"/>
                </a:lnTo>
                <a:lnTo>
                  <a:pt x="654" y="21"/>
                </a:lnTo>
                <a:lnTo>
                  <a:pt x="678" y="33"/>
                </a:lnTo>
                <a:lnTo>
                  <a:pt x="702" y="47"/>
                </a:lnTo>
                <a:lnTo>
                  <a:pt x="723" y="63"/>
                </a:lnTo>
                <a:lnTo>
                  <a:pt x="743" y="81"/>
                </a:lnTo>
                <a:lnTo>
                  <a:pt x="759" y="101"/>
                </a:lnTo>
                <a:lnTo>
                  <a:pt x="776" y="122"/>
                </a:lnTo>
                <a:lnTo>
                  <a:pt x="789" y="145"/>
                </a:lnTo>
                <a:lnTo>
                  <a:pt x="801" y="169"/>
                </a:lnTo>
                <a:lnTo>
                  <a:pt x="810" y="194"/>
                </a:lnTo>
                <a:lnTo>
                  <a:pt x="818" y="220"/>
                </a:lnTo>
                <a:lnTo>
                  <a:pt x="821" y="247"/>
                </a:lnTo>
                <a:lnTo>
                  <a:pt x="822" y="275"/>
                </a:lnTo>
                <a:lnTo>
                  <a:pt x="822" y="1232"/>
                </a:lnTo>
                <a:lnTo>
                  <a:pt x="821" y="1261"/>
                </a:lnTo>
                <a:lnTo>
                  <a:pt x="818" y="1288"/>
                </a:lnTo>
                <a:lnTo>
                  <a:pt x="810" y="1315"/>
                </a:lnTo>
                <a:lnTo>
                  <a:pt x="801" y="1341"/>
                </a:lnTo>
                <a:lnTo>
                  <a:pt x="789" y="1365"/>
                </a:lnTo>
                <a:lnTo>
                  <a:pt x="776" y="1387"/>
                </a:lnTo>
                <a:lnTo>
                  <a:pt x="759" y="1408"/>
                </a:lnTo>
                <a:lnTo>
                  <a:pt x="743" y="1428"/>
                </a:lnTo>
                <a:lnTo>
                  <a:pt x="723" y="1446"/>
                </a:lnTo>
                <a:lnTo>
                  <a:pt x="702" y="1461"/>
                </a:lnTo>
                <a:lnTo>
                  <a:pt x="678" y="1475"/>
                </a:lnTo>
                <a:lnTo>
                  <a:pt x="654" y="1487"/>
                </a:lnTo>
                <a:lnTo>
                  <a:pt x="630" y="1496"/>
                </a:lnTo>
                <a:lnTo>
                  <a:pt x="603" y="1503"/>
                </a:lnTo>
                <a:lnTo>
                  <a:pt x="576" y="1508"/>
                </a:lnTo>
                <a:lnTo>
                  <a:pt x="548" y="1509"/>
                </a:lnTo>
                <a:lnTo>
                  <a:pt x="274" y="1509"/>
                </a:lnTo>
                <a:lnTo>
                  <a:pt x="246" y="1508"/>
                </a:lnTo>
                <a:lnTo>
                  <a:pt x="219" y="1503"/>
                </a:lnTo>
                <a:lnTo>
                  <a:pt x="193" y="1496"/>
                </a:lnTo>
                <a:lnTo>
                  <a:pt x="168" y="1487"/>
                </a:lnTo>
                <a:lnTo>
                  <a:pt x="144" y="1475"/>
                </a:lnTo>
                <a:lnTo>
                  <a:pt x="121" y="1461"/>
                </a:lnTo>
                <a:lnTo>
                  <a:pt x="100" y="1446"/>
                </a:lnTo>
                <a:lnTo>
                  <a:pt x="81" y="1428"/>
                </a:lnTo>
                <a:lnTo>
                  <a:pt x="63" y="1408"/>
                </a:lnTo>
                <a:lnTo>
                  <a:pt x="46" y="1387"/>
                </a:lnTo>
                <a:lnTo>
                  <a:pt x="33" y="1365"/>
                </a:lnTo>
                <a:lnTo>
                  <a:pt x="21" y="1341"/>
                </a:lnTo>
                <a:lnTo>
                  <a:pt x="12" y="1315"/>
                </a:lnTo>
                <a:lnTo>
                  <a:pt x="6" y="1288"/>
                </a:lnTo>
                <a:lnTo>
                  <a:pt x="1" y="1261"/>
                </a:lnTo>
                <a:lnTo>
                  <a:pt x="0" y="1232"/>
                </a:lnTo>
                <a:lnTo>
                  <a:pt x="0" y="275"/>
                </a:lnTo>
                <a:lnTo>
                  <a:pt x="1" y="247"/>
                </a:lnTo>
                <a:lnTo>
                  <a:pt x="6" y="220"/>
                </a:lnTo>
                <a:lnTo>
                  <a:pt x="12" y="194"/>
                </a:lnTo>
                <a:lnTo>
                  <a:pt x="21" y="169"/>
                </a:lnTo>
                <a:lnTo>
                  <a:pt x="33" y="145"/>
                </a:lnTo>
                <a:lnTo>
                  <a:pt x="46" y="122"/>
                </a:lnTo>
                <a:lnTo>
                  <a:pt x="63" y="101"/>
                </a:lnTo>
                <a:lnTo>
                  <a:pt x="81" y="81"/>
                </a:lnTo>
                <a:lnTo>
                  <a:pt x="100" y="63"/>
                </a:lnTo>
                <a:lnTo>
                  <a:pt x="121" y="47"/>
                </a:lnTo>
                <a:lnTo>
                  <a:pt x="144" y="33"/>
                </a:lnTo>
                <a:lnTo>
                  <a:pt x="168" y="21"/>
                </a:lnTo>
                <a:lnTo>
                  <a:pt x="193" y="12"/>
                </a:lnTo>
                <a:lnTo>
                  <a:pt x="219" y="6"/>
                </a:lnTo>
                <a:lnTo>
                  <a:pt x="246" y="2"/>
                </a:lnTo>
                <a:lnTo>
                  <a:pt x="274" y="0"/>
                </a:lnTo>
              </a:path>
            </a:pathLst>
          </a:custGeom>
          <a:noFill/>
          <a:ln w="1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779560" y="1533600"/>
            <a:ext cx="100080" cy="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857680" y="1655640"/>
            <a:ext cx="1584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51200" y="165564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868480" y="165564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22400" y="1655640"/>
            <a:ext cx="1620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17720" y="1655640"/>
            <a:ext cx="972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833560" y="165564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784600" y="1655640"/>
            <a:ext cx="190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779560" y="165564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798640" y="1655640"/>
            <a:ext cx="972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57680" y="1676520"/>
            <a:ext cx="15840" cy="1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851200" y="1676520"/>
            <a:ext cx="11160" cy="12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68480" y="1676520"/>
            <a:ext cx="11160" cy="12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822400" y="1676520"/>
            <a:ext cx="16200" cy="1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817720" y="1676520"/>
            <a:ext cx="9720" cy="12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833560" y="1676520"/>
            <a:ext cx="11160" cy="12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84600" y="1676520"/>
            <a:ext cx="19080" cy="1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79560" y="1676520"/>
            <a:ext cx="11160" cy="12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798640" y="1676520"/>
            <a:ext cx="9720" cy="12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857680" y="1698480"/>
            <a:ext cx="1584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851200" y="169848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868480" y="169848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822400" y="1698480"/>
            <a:ext cx="1620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817720" y="1698480"/>
            <a:ext cx="972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833560" y="169848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784600" y="1698480"/>
            <a:ext cx="190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779560" y="169848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98640" y="1698480"/>
            <a:ext cx="972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857680" y="1720800"/>
            <a:ext cx="15840" cy="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851200" y="1720800"/>
            <a:ext cx="1116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868480" y="1720800"/>
            <a:ext cx="1116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822400" y="1720800"/>
            <a:ext cx="16200" cy="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817720" y="1720800"/>
            <a:ext cx="972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833560" y="1720800"/>
            <a:ext cx="1116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84600" y="1720800"/>
            <a:ext cx="19080" cy="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779560" y="1720800"/>
            <a:ext cx="1116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798640" y="1720800"/>
            <a:ext cx="972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822400" y="1620720"/>
            <a:ext cx="1620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813040" y="1620720"/>
            <a:ext cx="19080" cy="1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30680" y="1620720"/>
            <a:ext cx="18720" cy="1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784600" y="1619280"/>
            <a:ext cx="20520" cy="17280"/>
          </a:xfrm>
          <a:custGeom>
            <a:avLst/>
            <a:gdLst/>
            <a:ahLst/>
            <a:rect l="l" t="t" r="r" b="b"/>
            <a:pathLst>
              <a:path w="99" h="84">
                <a:moveTo>
                  <a:pt x="74" y="84"/>
                </a:moveTo>
                <a:lnTo>
                  <a:pt x="99" y="42"/>
                </a:lnTo>
                <a:lnTo>
                  <a:pt x="26" y="0"/>
                </a:lnTo>
                <a:lnTo>
                  <a:pt x="0" y="42"/>
                </a:lnTo>
                <a:lnTo>
                  <a:pt x="74" y="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781360" y="1619280"/>
            <a:ext cx="11160" cy="9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797200" y="1627200"/>
            <a:ext cx="9360" cy="9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855880" y="1619280"/>
            <a:ext cx="20520" cy="17280"/>
          </a:xfrm>
          <a:custGeom>
            <a:avLst/>
            <a:gdLst/>
            <a:ahLst/>
            <a:rect l="l" t="t" r="r" b="b"/>
            <a:pathLst>
              <a:path w="98" h="86">
                <a:moveTo>
                  <a:pt x="0" y="42"/>
                </a:moveTo>
                <a:lnTo>
                  <a:pt x="24" y="86"/>
                </a:lnTo>
                <a:lnTo>
                  <a:pt x="98" y="44"/>
                </a:lnTo>
                <a:lnTo>
                  <a:pt x="74" y="0"/>
                </a:lnTo>
                <a:lnTo>
                  <a:pt x="0" y="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68480" y="1619280"/>
            <a:ext cx="9720" cy="9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54440" y="1627200"/>
            <a:ext cx="9360" cy="9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35440" y="1200240"/>
            <a:ext cx="7412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67360" y="1557360"/>
            <a:ext cx="55440" cy="52200"/>
          </a:xfrm>
          <a:custGeom>
            <a:avLst/>
            <a:gdLst/>
            <a:ahLst/>
            <a:rect l="l" t="t" r="r" b="b"/>
            <a:pathLst>
              <a:path w="253" h="250">
                <a:moveTo>
                  <a:pt x="237" y="126"/>
                </a:moveTo>
                <a:lnTo>
                  <a:pt x="118" y="15"/>
                </a:lnTo>
                <a:lnTo>
                  <a:pt x="100" y="5"/>
                </a:lnTo>
                <a:lnTo>
                  <a:pt x="90" y="2"/>
                </a:lnTo>
                <a:lnTo>
                  <a:pt x="79" y="0"/>
                </a:lnTo>
                <a:lnTo>
                  <a:pt x="58" y="6"/>
                </a:lnTo>
                <a:lnTo>
                  <a:pt x="42" y="18"/>
                </a:lnTo>
                <a:lnTo>
                  <a:pt x="15" y="47"/>
                </a:lnTo>
                <a:lnTo>
                  <a:pt x="3" y="66"/>
                </a:lnTo>
                <a:lnTo>
                  <a:pt x="1" y="75"/>
                </a:lnTo>
                <a:lnTo>
                  <a:pt x="0" y="86"/>
                </a:lnTo>
                <a:lnTo>
                  <a:pt x="4" y="107"/>
                </a:lnTo>
                <a:lnTo>
                  <a:pt x="18" y="125"/>
                </a:lnTo>
                <a:lnTo>
                  <a:pt x="135" y="235"/>
                </a:lnTo>
                <a:lnTo>
                  <a:pt x="154" y="247"/>
                </a:lnTo>
                <a:lnTo>
                  <a:pt x="163" y="250"/>
                </a:lnTo>
                <a:lnTo>
                  <a:pt x="174" y="250"/>
                </a:lnTo>
                <a:lnTo>
                  <a:pt x="195" y="245"/>
                </a:lnTo>
                <a:lnTo>
                  <a:pt x="213" y="233"/>
                </a:lnTo>
                <a:lnTo>
                  <a:pt x="238" y="203"/>
                </a:lnTo>
                <a:lnTo>
                  <a:pt x="250" y="185"/>
                </a:lnTo>
                <a:lnTo>
                  <a:pt x="253" y="175"/>
                </a:lnTo>
                <a:lnTo>
                  <a:pt x="253" y="164"/>
                </a:lnTo>
                <a:lnTo>
                  <a:pt x="249" y="145"/>
                </a:lnTo>
                <a:lnTo>
                  <a:pt x="237" y="1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325760" y="1803240"/>
            <a:ext cx="52560" cy="25560"/>
          </a:xfrm>
          <a:custGeom>
            <a:avLst/>
            <a:gdLst/>
            <a:ahLst/>
            <a:rect l="l" t="t" r="r" b="b"/>
            <a:pathLst>
              <a:path w="244" h="109">
                <a:moveTo>
                  <a:pt x="244" y="4"/>
                </a:moveTo>
                <a:lnTo>
                  <a:pt x="236" y="35"/>
                </a:lnTo>
                <a:lnTo>
                  <a:pt x="229" y="52"/>
                </a:lnTo>
                <a:lnTo>
                  <a:pt x="220" y="62"/>
                </a:lnTo>
                <a:lnTo>
                  <a:pt x="209" y="74"/>
                </a:lnTo>
                <a:lnTo>
                  <a:pt x="197" y="82"/>
                </a:lnTo>
                <a:lnTo>
                  <a:pt x="169" y="97"/>
                </a:lnTo>
                <a:lnTo>
                  <a:pt x="134" y="104"/>
                </a:lnTo>
                <a:lnTo>
                  <a:pt x="97" y="109"/>
                </a:lnTo>
                <a:lnTo>
                  <a:pt x="50" y="109"/>
                </a:lnTo>
                <a:lnTo>
                  <a:pt x="0" y="107"/>
                </a:lnTo>
                <a:lnTo>
                  <a:pt x="0" y="94"/>
                </a:lnTo>
                <a:lnTo>
                  <a:pt x="50" y="94"/>
                </a:lnTo>
                <a:lnTo>
                  <a:pt x="94" y="95"/>
                </a:lnTo>
                <a:lnTo>
                  <a:pt x="130" y="91"/>
                </a:lnTo>
                <a:lnTo>
                  <a:pt x="163" y="83"/>
                </a:lnTo>
                <a:lnTo>
                  <a:pt x="188" y="70"/>
                </a:lnTo>
                <a:lnTo>
                  <a:pt x="199" y="64"/>
                </a:lnTo>
                <a:lnTo>
                  <a:pt x="208" y="53"/>
                </a:lnTo>
                <a:lnTo>
                  <a:pt x="217" y="43"/>
                </a:lnTo>
                <a:lnTo>
                  <a:pt x="221" y="32"/>
                </a:lnTo>
                <a:lnTo>
                  <a:pt x="229" y="0"/>
                </a:lnTo>
                <a:lnTo>
                  <a:pt x="244" y="4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154400" y="1463760"/>
            <a:ext cx="4680" cy="61920"/>
          </a:xfrm>
          <a:custGeom>
            <a:avLst/>
            <a:gdLst/>
            <a:ahLst/>
            <a:rect l="l" t="t" r="r" b="b"/>
            <a:pathLst>
              <a:path w="24" h="288">
                <a:moveTo>
                  <a:pt x="15" y="0"/>
                </a:moveTo>
                <a:lnTo>
                  <a:pt x="16" y="77"/>
                </a:lnTo>
                <a:lnTo>
                  <a:pt x="24" y="288"/>
                </a:lnTo>
                <a:lnTo>
                  <a:pt x="9" y="288"/>
                </a:lnTo>
                <a:lnTo>
                  <a:pt x="1" y="77"/>
                </a:lnTo>
                <a:lnTo>
                  <a:pt x="0" y="0"/>
                </a:lnTo>
                <a:lnTo>
                  <a:pt x="15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200" y="1525680"/>
            <a:ext cx="102960" cy="122040"/>
          </a:xfrm>
          <a:custGeom>
            <a:avLst/>
            <a:gdLst/>
            <a:ahLst/>
            <a:rect l="l" t="t" r="r" b="b"/>
            <a:pathLst>
              <a:path w="468" h="564">
                <a:moveTo>
                  <a:pt x="15" y="0"/>
                </a:moveTo>
                <a:lnTo>
                  <a:pt x="18" y="15"/>
                </a:lnTo>
                <a:lnTo>
                  <a:pt x="19" y="31"/>
                </a:lnTo>
                <a:lnTo>
                  <a:pt x="34" y="64"/>
                </a:lnTo>
                <a:lnTo>
                  <a:pt x="54" y="97"/>
                </a:lnTo>
                <a:lnTo>
                  <a:pt x="79" y="131"/>
                </a:lnTo>
                <a:lnTo>
                  <a:pt x="145" y="200"/>
                </a:lnTo>
                <a:lnTo>
                  <a:pt x="223" y="269"/>
                </a:lnTo>
                <a:lnTo>
                  <a:pt x="301" y="340"/>
                </a:lnTo>
                <a:lnTo>
                  <a:pt x="339" y="374"/>
                </a:lnTo>
                <a:lnTo>
                  <a:pt x="375" y="410"/>
                </a:lnTo>
                <a:lnTo>
                  <a:pt x="408" y="446"/>
                </a:lnTo>
                <a:lnTo>
                  <a:pt x="434" y="483"/>
                </a:lnTo>
                <a:lnTo>
                  <a:pt x="455" y="520"/>
                </a:lnTo>
                <a:lnTo>
                  <a:pt x="468" y="558"/>
                </a:lnTo>
                <a:lnTo>
                  <a:pt x="455" y="564"/>
                </a:lnTo>
                <a:lnTo>
                  <a:pt x="441" y="526"/>
                </a:lnTo>
                <a:lnTo>
                  <a:pt x="422" y="492"/>
                </a:lnTo>
                <a:lnTo>
                  <a:pt x="396" y="456"/>
                </a:lnTo>
                <a:lnTo>
                  <a:pt x="365" y="421"/>
                </a:lnTo>
                <a:lnTo>
                  <a:pt x="328" y="385"/>
                </a:lnTo>
                <a:lnTo>
                  <a:pt x="291" y="350"/>
                </a:lnTo>
                <a:lnTo>
                  <a:pt x="213" y="279"/>
                </a:lnTo>
                <a:lnTo>
                  <a:pt x="135" y="210"/>
                </a:lnTo>
                <a:lnTo>
                  <a:pt x="69" y="141"/>
                </a:lnTo>
                <a:lnTo>
                  <a:pt x="42" y="106"/>
                </a:lnTo>
                <a:lnTo>
                  <a:pt x="21" y="70"/>
                </a:lnTo>
                <a:lnTo>
                  <a:pt x="6" y="37"/>
                </a:lnTo>
                <a:lnTo>
                  <a:pt x="3" y="18"/>
                </a:lnTo>
                <a:lnTo>
                  <a:pt x="0" y="1"/>
                </a:lnTo>
                <a:lnTo>
                  <a:pt x="15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200" y="1525680"/>
            <a:ext cx="2880" cy="1440"/>
          </a:xfrm>
          <a:custGeom>
            <a:avLst/>
            <a:gdLst/>
            <a:ahLst/>
            <a:rect l="l" t="t" r="r" b="b"/>
            <a:pathLst>
              <a:path w="15" h="1">
                <a:moveTo>
                  <a:pt x="0" y="0"/>
                </a:moveTo>
                <a:lnTo>
                  <a:pt x="0" y="1"/>
                </a:lnTo>
                <a:lnTo>
                  <a:pt x="15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255920" y="1647720"/>
            <a:ext cx="11160" cy="128520"/>
          </a:xfrm>
          <a:custGeom>
            <a:avLst/>
            <a:gdLst/>
            <a:ahLst/>
            <a:rect l="l" t="t" r="r" b="b"/>
            <a:pathLst>
              <a:path w="57" h="604">
                <a:moveTo>
                  <a:pt x="15" y="0"/>
                </a:moveTo>
                <a:lnTo>
                  <a:pt x="31" y="77"/>
                </a:lnTo>
                <a:lnTo>
                  <a:pt x="40" y="161"/>
                </a:lnTo>
                <a:lnTo>
                  <a:pt x="46" y="247"/>
                </a:lnTo>
                <a:lnTo>
                  <a:pt x="48" y="330"/>
                </a:lnTo>
                <a:lnTo>
                  <a:pt x="49" y="485"/>
                </a:lnTo>
                <a:lnTo>
                  <a:pt x="51" y="549"/>
                </a:lnTo>
                <a:lnTo>
                  <a:pt x="57" y="602"/>
                </a:lnTo>
                <a:lnTo>
                  <a:pt x="42" y="604"/>
                </a:lnTo>
                <a:lnTo>
                  <a:pt x="36" y="551"/>
                </a:lnTo>
                <a:lnTo>
                  <a:pt x="34" y="485"/>
                </a:lnTo>
                <a:lnTo>
                  <a:pt x="33" y="330"/>
                </a:lnTo>
                <a:lnTo>
                  <a:pt x="31" y="247"/>
                </a:lnTo>
                <a:lnTo>
                  <a:pt x="25" y="163"/>
                </a:lnTo>
                <a:lnTo>
                  <a:pt x="16" y="80"/>
                </a:lnTo>
                <a:lnTo>
                  <a:pt x="0" y="3"/>
                </a:lnTo>
                <a:lnTo>
                  <a:pt x="15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255920" y="1646280"/>
            <a:ext cx="3240" cy="1440"/>
          </a:xfrm>
          <a:custGeom>
            <a:avLst/>
            <a:gdLst/>
            <a:ahLst/>
            <a:rect l="l" t="t" r="r" b="b"/>
            <a:pathLst>
              <a:path w="15" h="6">
                <a:moveTo>
                  <a:pt x="13" y="0"/>
                </a:moveTo>
                <a:lnTo>
                  <a:pt x="15" y="1"/>
                </a:lnTo>
                <a:lnTo>
                  <a:pt x="0" y="4"/>
                </a:lnTo>
                <a:lnTo>
                  <a:pt x="0" y="6"/>
                </a:lnTo>
                <a:lnTo>
                  <a:pt x="1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265640" y="1776240"/>
            <a:ext cx="60120" cy="51120"/>
          </a:xfrm>
          <a:custGeom>
            <a:avLst/>
            <a:gdLst/>
            <a:ahLst/>
            <a:rect l="l" t="t" r="r" b="b"/>
            <a:pathLst>
              <a:path w="285" h="236">
                <a:moveTo>
                  <a:pt x="15" y="0"/>
                </a:moveTo>
                <a:lnTo>
                  <a:pt x="27" y="43"/>
                </a:lnTo>
                <a:lnTo>
                  <a:pt x="37" y="64"/>
                </a:lnTo>
                <a:lnTo>
                  <a:pt x="49" y="84"/>
                </a:lnTo>
                <a:lnTo>
                  <a:pt x="79" y="121"/>
                </a:lnTo>
                <a:lnTo>
                  <a:pt x="96" y="140"/>
                </a:lnTo>
                <a:lnTo>
                  <a:pt x="114" y="153"/>
                </a:lnTo>
                <a:lnTo>
                  <a:pt x="154" y="182"/>
                </a:lnTo>
                <a:lnTo>
                  <a:pt x="175" y="194"/>
                </a:lnTo>
                <a:lnTo>
                  <a:pt x="196" y="203"/>
                </a:lnTo>
                <a:lnTo>
                  <a:pt x="241" y="216"/>
                </a:lnTo>
                <a:lnTo>
                  <a:pt x="285" y="221"/>
                </a:lnTo>
                <a:lnTo>
                  <a:pt x="283" y="236"/>
                </a:lnTo>
                <a:lnTo>
                  <a:pt x="238" y="231"/>
                </a:lnTo>
                <a:lnTo>
                  <a:pt x="190" y="216"/>
                </a:lnTo>
                <a:lnTo>
                  <a:pt x="169" y="207"/>
                </a:lnTo>
                <a:lnTo>
                  <a:pt x="145" y="194"/>
                </a:lnTo>
                <a:lnTo>
                  <a:pt x="105" y="165"/>
                </a:lnTo>
                <a:lnTo>
                  <a:pt x="85" y="150"/>
                </a:lnTo>
                <a:lnTo>
                  <a:pt x="67" y="130"/>
                </a:lnTo>
                <a:lnTo>
                  <a:pt x="37" y="93"/>
                </a:lnTo>
                <a:lnTo>
                  <a:pt x="24" y="70"/>
                </a:lnTo>
                <a:lnTo>
                  <a:pt x="13" y="49"/>
                </a:lnTo>
                <a:lnTo>
                  <a:pt x="0" y="3"/>
                </a:lnTo>
                <a:lnTo>
                  <a:pt x="15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145040" y="1459080"/>
            <a:ext cx="22320" cy="31680"/>
          </a:xfrm>
          <a:custGeom>
            <a:avLst/>
            <a:gdLst/>
            <a:ahLst/>
            <a:rect l="l" t="t" r="r" b="b"/>
            <a:pathLst>
              <a:path w="110" h="146">
                <a:moveTo>
                  <a:pt x="23" y="0"/>
                </a:moveTo>
                <a:lnTo>
                  <a:pt x="89" y="0"/>
                </a:lnTo>
                <a:lnTo>
                  <a:pt x="96" y="2"/>
                </a:lnTo>
                <a:lnTo>
                  <a:pt x="104" y="6"/>
                </a:lnTo>
                <a:lnTo>
                  <a:pt x="108" y="14"/>
                </a:lnTo>
                <a:lnTo>
                  <a:pt x="110" y="23"/>
                </a:lnTo>
                <a:lnTo>
                  <a:pt x="110" y="124"/>
                </a:lnTo>
                <a:lnTo>
                  <a:pt x="108" y="133"/>
                </a:lnTo>
                <a:lnTo>
                  <a:pt x="104" y="140"/>
                </a:lnTo>
                <a:lnTo>
                  <a:pt x="96" y="145"/>
                </a:lnTo>
                <a:lnTo>
                  <a:pt x="89" y="146"/>
                </a:lnTo>
                <a:lnTo>
                  <a:pt x="23" y="146"/>
                </a:lnTo>
                <a:lnTo>
                  <a:pt x="14" y="145"/>
                </a:lnTo>
                <a:lnTo>
                  <a:pt x="8" y="140"/>
                </a:lnTo>
                <a:lnTo>
                  <a:pt x="3" y="133"/>
                </a:lnTo>
                <a:lnTo>
                  <a:pt x="0" y="124"/>
                </a:lnTo>
                <a:lnTo>
                  <a:pt x="0" y="23"/>
                </a:lnTo>
                <a:lnTo>
                  <a:pt x="3" y="14"/>
                </a:lnTo>
                <a:lnTo>
                  <a:pt x="8" y="6"/>
                </a:lnTo>
                <a:lnTo>
                  <a:pt x="14" y="2"/>
                </a:lnTo>
                <a:lnTo>
                  <a:pt x="2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352760" y="1789200"/>
            <a:ext cx="41400" cy="20520"/>
          </a:xfrm>
          <a:custGeom>
            <a:avLst/>
            <a:gdLst/>
            <a:ahLst/>
            <a:rect l="l" t="t" r="r" b="b"/>
            <a:pathLst>
              <a:path w="191" h="100">
                <a:moveTo>
                  <a:pt x="0" y="29"/>
                </a:moveTo>
                <a:lnTo>
                  <a:pt x="0" y="69"/>
                </a:lnTo>
                <a:lnTo>
                  <a:pt x="3" y="82"/>
                </a:lnTo>
                <a:lnTo>
                  <a:pt x="9" y="91"/>
                </a:lnTo>
                <a:lnTo>
                  <a:pt x="20" y="97"/>
                </a:lnTo>
                <a:lnTo>
                  <a:pt x="32" y="100"/>
                </a:lnTo>
                <a:lnTo>
                  <a:pt x="159" y="100"/>
                </a:lnTo>
                <a:lnTo>
                  <a:pt x="171" y="97"/>
                </a:lnTo>
                <a:lnTo>
                  <a:pt x="182" y="91"/>
                </a:lnTo>
                <a:lnTo>
                  <a:pt x="189" y="82"/>
                </a:lnTo>
                <a:lnTo>
                  <a:pt x="191" y="69"/>
                </a:lnTo>
                <a:lnTo>
                  <a:pt x="191" y="29"/>
                </a:lnTo>
                <a:lnTo>
                  <a:pt x="188" y="18"/>
                </a:lnTo>
                <a:lnTo>
                  <a:pt x="182" y="9"/>
                </a:lnTo>
                <a:lnTo>
                  <a:pt x="171" y="2"/>
                </a:lnTo>
                <a:lnTo>
                  <a:pt x="159" y="0"/>
                </a:lnTo>
                <a:lnTo>
                  <a:pt x="32" y="0"/>
                </a:lnTo>
                <a:lnTo>
                  <a:pt x="20" y="2"/>
                </a:lnTo>
                <a:lnTo>
                  <a:pt x="9" y="9"/>
                </a:lnTo>
                <a:lnTo>
                  <a:pt x="3" y="18"/>
                </a:lnTo>
                <a:lnTo>
                  <a:pt x="0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33880" y="1415880"/>
            <a:ext cx="46080" cy="460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146480" y="1428840"/>
            <a:ext cx="20880" cy="20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284720" y="1471680"/>
            <a:ext cx="177840" cy="325440"/>
            <a:chOff x="4284720" y="1471680"/>
            <a:chExt cx="177840" cy="325440"/>
          </a:xfrm>
        </p:grpSpPr>
        <p:sp>
          <p:nvSpPr>
            <p:cNvPr id="302" name=""/>
            <p:cNvSpPr/>
            <p:nvPr/>
          </p:nvSpPr>
          <p:spPr>
            <a:xfrm>
              <a:off x="4284720" y="1471680"/>
              <a:ext cx="177840" cy="32544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80" y="89"/>
                  </a:moveTo>
                  <a:lnTo>
                    <a:pt x="259" y="90"/>
                  </a:lnTo>
                  <a:lnTo>
                    <a:pt x="250" y="92"/>
                  </a:lnTo>
                  <a:lnTo>
                    <a:pt x="241" y="93"/>
                  </a:lnTo>
                  <a:lnTo>
                    <a:pt x="232" y="95"/>
                  </a:lnTo>
                  <a:lnTo>
                    <a:pt x="222" y="98"/>
                  </a:lnTo>
                  <a:lnTo>
                    <a:pt x="205" y="105"/>
                  </a:lnTo>
                  <a:lnTo>
                    <a:pt x="196" y="108"/>
                  </a:lnTo>
                  <a:lnTo>
                    <a:pt x="187" y="113"/>
                  </a:lnTo>
                  <a:lnTo>
                    <a:pt x="180" y="117"/>
                  </a:lnTo>
                  <a:lnTo>
                    <a:pt x="172" y="122"/>
                  </a:lnTo>
                  <a:lnTo>
                    <a:pt x="165" y="128"/>
                  </a:lnTo>
                  <a:lnTo>
                    <a:pt x="157" y="134"/>
                  </a:lnTo>
                  <a:lnTo>
                    <a:pt x="150" y="140"/>
                  </a:lnTo>
                  <a:lnTo>
                    <a:pt x="144" y="146"/>
                  </a:lnTo>
                  <a:lnTo>
                    <a:pt x="132" y="160"/>
                  </a:lnTo>
                  <a:lnTo>
                    <a:pt x="120" y="175"/>
                  </a:lnTo>
                  <a:lnTo>
                    <a:pt x="111" y="191"/>
                  </a:lnTo>
                  <a:lnTo>
                    <a:pt x="102" y="208"/>
                  </a:lnTo>
                  <a:lnTo>
                    <a:pt x="96" y="226"/>
                  </a:lnTo>
                  <a:lnTo>
                    <a:pt x="91" y="244"/>
                  </a:lnTo>
                  <a:lnTo>
                    <a:pt x="88" y="263"/>
                  </a:lnTo>
                  <a:lnTo>
                    <a:pt x="87" y="283"/>
                  </a:lnTo>
                  <a:lnTo>
                    <a:pt x="87" y="1226"/>
                  </a:lnTo>
                  <a:lnTo>
                    <a:pt x="88" y="1237"/>
                  </a:lnTo>
                  <a:lnTo>
                    <a:pt x="88" y="1246"/>
                  </a:lnTo>
                  <a:lnTo>
                    <a:pt x="90" y="1256"/>
                  </a:lnTo>
                  <a:lnTo>
                    <a:pt x="91" y="1265"/>
                  </a:lnTo>
                  <a:lnTo>
                    <a:pt x="93" y="1274"/>
                  </a:lnTo>
                  <a:lnTo>
                    <a:pt x="96" y="1283"/>
                  </a:lnTo>
                  <a:lnTo>
                    <a:pt x="102" y="1302"/>
                  </a:lnTo>
                  <a:lnTo>
                    <a:pt x="106" y="1311"/>
                  </a:lnTo>
                  <a:lnTo>
                    <a:pt x="111" y="1318"/>
                  </a:lnTo>
                  <a:lnTo>
                    <a:pt x="115" y="1327"/>
                  </a:lnTo>
                  <a:lnTo>
                    <a:pt x="120" y="1335"/>
                  </a:lnTo>
                  <a:lnTo>
                    <a:pt x="126" y="1342"/>
                  </a:lnTo>
                  <a:lnTo>
                    <a:pt x="132" y="1350"/>
                  </a:lnTo>
                  <a:lnTo>
                    <a:pt x="138" y="1356"/>
                  </a:lnTo>
                  <a:lnTo>
                    <a:pt x="144" y="1363"/>
                  </a:lnTo>
                  <a:lnTo>
                    <a:pt x="157" y="1375"/>
                  </a:lnTo>
                  <a:lnTo>
                    <a:pt x="172" y="1386"/>
                  </a:lnTo>
                  <a:lnTo>
                    <a:pt x="187" y="1396"/>
                  </a:lnTo>
                  <a:lnTo>
                    <a:pt x="205" y="1404"/>
                  </a:lnTo>
                  <a:lnTo>
                    <a:pt x="222" y="1411"/>
                  </a:lnTo>
                  <a:lnTo>
                    <a:pt x="241" y="1416"/>
                  </a:lnTo>
                  <a:lnTo>
                    <a:pt x="259" y="1419"/>
                  </a:lnTo>
                  <a:lnTo>
                    <a:pt x="280" y="1419"/>
                  </a:lnTo>
                  <a:lnTo>
                    <a:pt x="543" y="1419"/>
                  </a:lnTo>
                  <a:lnTo>
                    <a:pt x="563" y="1419"/>
                  </a:lnTo>
                  <a:lnTo>
                    <a:pt x="572" y="1417"/>
                  </a:lnTo>
                  <a:lnTo>
                    <a:pt x="582" y="1416"/>
                  </a:lnTo>
                  <a:lnTo>
                    <a:pt x="591" y="1413"/>
                  </a:lnTo>
                  <a:lnTo>
                    <a:pt x="600" y="1411"/>
                  </a:lnTo>
                  <a:lnTo>
                    <a:pt x="618" y="1404"/>
                  </a:lnTo>
                  <a:lnTo>
                    <a:pt x="626" y="1401"/>
                  </a:lnTo>
                  <a:lnTo>
                    <a:pt x="635" y="1396"/>
                  </a:lnTo>
                  <a:lnTo>
                    <a:pt x="642" y="1392"/>
                  </a:lnTo>
                  <a:lnTo>
                    <a:pt x="651" y="1386"/>
                  </a:lnTo>
                  <a:lnTo>
                    <a:pt x="659" y="1381"/>
                  </a:lnTo>
                  <a:lnTo>
                    <a:pt x="665" y="1375"/>
                  </a:lnTo>
                  <a:lnTo>
                    <a:pt x="672" y="1369"/>
                  </a:lnTo>
                  <a:lnTo>
                    <a:pt x="678" y="1363"/>
                  </a:lnTo>
                  <a:lnTo>
                    <a:pt x="692" y="1350"/>
                  </a:lnTo>
                  <a:lnTo>
                    <a:pt x="702" y="1335"/>
                  </a:lnTo>
                  <a:lnTo>
                    <a:pt x="713" y="1318"/>
                  </a:lnTo>
                  <a:lnTo>
                    <a:pt x="720" y="1302"/>
                  </a:lnTo>
                  <a:lnTo>
                    <a:pt x="726" y="1283"/>
                  </a:lnTo>
                  <a:lnTo>
                    <a:pt x="731" y="1265"/>
                  </a:lnTo>
                  <a:lnTo>
                    <a:pt x="734" y="1246"/>
                  </a:lnTo>
                  <a:lnTo>
                    <a:pt x="735" y="1226"/>
                  </a:lnTo>
                  <a:lnTo>
                    <a:pt x="735" y="283"/>
                  </a:lnTo>
                  <a:lnTo>
                    <a:pt x="735" y="272"/>
                  </a:lnTo>
                  <a:lnTo>
                    <a:pt x="734" y="263"/>
                  </a:lnTo>
                  <a:lnTo>
                    <a:pt x="734" y="253"/>
                  </a:lnTo>
                  <a:lnTo>
                    <a:pt x="731" y="244"/>
                  </a:lnTo>
                  <a:lnTo>
                    <a:pt x="729" y="235"/>
                  </a:lnTo>
                  <a:lnTo>
                    <a:pt x="726" y="226"/>
                  </a:lnTo>
                  <a:lnTo>
                    <a:pt x="720" y="208"/>
                  </a:lnTo>
                  <a:lnTo>
                    <a:pt x="716" y="199"/>
                  </a:lnTo>
                  <a:lnTo>
                    <a:pt x="713" y="191"/>
                  </a:lnTo>
                  <a:lnTo>
                    <a:pt x="707" y="182"/>
                  </a:lnTo>
                  <a:lnTo>
                    <a:pt x="702" y="175"/>
                  </a:lnTo>
                  <a:lnTo>
                    <a:pt x="698" y="167"/>
                  </a:lnTo>
                  <a:lnTo>
                    <a:pt x="692" y="160"/>
                  </a:lnTo>
                  <a:lnTo>
                    <a:pt x="686" y="152"/>
                  </a:lnTo>
                  <a:lnTo>
                    <a:pt x="678" y="146"/>
                  </a:lnTo>
                  <a:lnTo>
                    <a:pt x="665" y="134"/>
                  </a:lnTo>
                  <a:lnTo>
                    <a:pt x="651" y="122"/>
                  </a:lnTo>
                  <a:lnTo>
                    <a:pt x="635" y="113"/>
                  </a:lnTo>
                  <a:lnTo>
                    <a:pt x="618" y="105"/>
                  </a:lnTo>
                  <a:lnTo>
                    <a:pt x="600" y="98"/>
                  </a:lnTo>
                  <a:lnTo>
                    <a:pt x="582" y="93"/>
                  </a:lnTo>
                  <a:lnTo>
                    <a:pt x="563" y="90"/>
                  </a:lnTo>
                  <a:lnTo>
                    <a:pt x="543" y="89"/>
                  </a:lnTo>
                  <a:lnTo>
                    <a:pt x="280" y="89"/>
                  </a:lnTo>
                  <a:close/>
                  <a:moveTo>
                    <a:pt x="274" y="0"/>
                  </a:moveTo>
                  <a:lnTo>
                    <a:pt x="548" y="0"/>
                  </a:lnTo>
                  <a:lnTo>
                    <a:pt x="563" y="0"/>
                  </a:lnTo>
                  <a:lnTo>
                    <a:pt x="576" y="2"/>
                  </a:lnTo>
                  <a:lnTo>
                    <a:pt x="590" y="3"/>
                  </a:lnTo>
                  <a:lnTo>
                    <a:pt x="603" y="6"/>
                  </a:lnTo>
                  <a:lnTo>
                    <a:pt x="617" y="9"/>
                  </a:lnTo>
                  <a:lnTo>
                    <a:pt x="630" y="12"/>
                  </a:lnTo>
                  <a:lnTo>
                    <a:pt x="642" y="17"/>
                  </a:lnTo>
                  <a:lnTo>
                    <a:pt x="656" y="23"/>
                  </a:lnTo>
                  <a:lnTo>
                    <a:pt x="668" y="27"/>
                  </a:lnTo>
                  <a:lnTo>
                    <a:pt x="680" y="33"/>
                  </a:lnTo>
                  <a:lnTo>
                    <a:pt x="690" y="41"/>
                  </a:lnTo>
                  <a:lnTo>
                    <a:pt x="702" y="47"/>
                  </a:lnTo>
                  <a:lnTo>
                    <a:pt x="713" y="56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2" y="90"/>
                  </a:lnTo>
                  <a:lnTo>
                    <a:pt x="761" y="101"/>
                  </a:lnTo>
                  <a:lnTo>
                    <a:pt x="768" y="11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795" y="157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5" y="208"/>
                  </a:lnTo>
                  <a:lnTo>
                    <a:pt x="818" y="220"/>
                  </a:lnTo>
                  <a:lnTo>
                    <a:pt x="819" y="233"/>
                  </a:lnTo>
                  <a:lnTo>
                    <a:pt x="821" y="248"/>
                  </a:lnTo>
                  <a:lnTo>
                    <a:pt x="822" y="262"/>
                  </a:lnTo>
                  <a:lnTo>
                    <a:pt x="822" y="275"/>
                  </a:lnTo>
                  <a:lnTo>
                    <a:pt x="822" y="1234"/>
                  </a:lnTo>
                  <a:lnTo>
                    <a:pt x="822" y="1247"/>
                  </a:lnTo>
                  <a:lnTo>
                    <a:pt x="821" y="1261"/>
                  </a:lnTo>
                  <a:lnTo>
                    <a:pt x="819" y="1274"/>
                  </a:lnTo>
                  <a:lnTo>
                    <a:pt x="818" y="1288"/>
                  </a:lnTo>
                  <a:lnTo>
                    <a:pt x="815" y="1302"/>
                  </a:lnTo>
                  <a:lnTo>
                    <a:pt x="810" y="1315"/>
                  </a:lnTo>
                  <a:lnTo>
                    <a:pt x="806" y="1329"/>
                  </a:lnTo>
                  <a:lnTo>
                    <a:pt x="801" y="1341"/>
                  </a:lnTo>
                  <a:lnTo>
                    <a:pt x="795" y="1353"/>
                  </a:lnTo>
                  <a:lnTo>
                    <a:pt x="789" y="1365"/>
                  </a:lnTo>
                  <a:lnTo>
                    <a:pt x="783" y="1377"/>
                  </a:lnTo>
                  <a:lnTo>
                    <a:pt x="776" y="1387"/>
                  </a:lnTo>
                  <a:lnTo>
                    <a:pt x="768" y="1398"/>
                  </a:lnTo>
                  <a:lnTo>
                    <a:pt x="761" y="1408"/>
                  </a:lnTo>
                  <a:lnTo>
                    <a:pt x="743" y="1428"/>
                  </a:lnTo>
                  <a:lnTo>
                    <a:pt x="732" y="1437"/>
                  </a:lnTo>
                  <a:lnTo>
                    <a:pt x="723" y="1446"/>
                  </a:lnTo>
                  <a:lnTo>
                    <a:pt x="713" y="1453"/>
                  </a:lnTo>
                  <a:lnTo>
                    <a:pt x="702" y="1461"/>
                  </a:lnTo>
                  <a:lnTo>
                    <a:pt x="680" y="1476"/>
                  </a:lnTo>
                  <a:lnTo>
                    <a:pt x="668" y="1482"/>
                  </a:lnTo>
                  <a:lnTo>
                    <a:pt x="656" y="1487"/>
                  </a:lnTo>
                  <a:lnTo>
                    <a:pt x="630" y="1496"/>
                  </a:lnTo>
                  <a:lnTo>
                    <a:pt x="617" y="1500"/>
                  </a:lnTo>
                  <a:lnTo>
                    <a:pt x="603" y="1503"/>
                  </a:lnTo>
                  <a:lnTo>
                    <a:pt x="590" y="1506"/>
                  </a:lnTo>
                  <a:lnTo>
                    <a:pt x="576" y="1508"/>
                  </a:lnTo>
                  <a:lnTo>
                    <a:pt x="563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61" y="1508"/>
                  </a:lnTo>
                  <a:lnTo>
                    <a:pt x="246" y="1508"/>
                  </a:lnTo>
                  <a:lnTo>
                    <a:pt x="232" y="1506"/>
                  </a:lnTo>
                  <a:lnTo>
                    <a:pt x="219" y="1503"/>
                  </a:lnTo>
                  <a:lnTo>
                    <a:pt x="205" y="1500"/>
                  </a:lnTo>
                  <a:lnTo>
                    <a:pt x="193" y="1496"/>
                  </a:lnTo>
                  <a:lnTo>
                    <a:pt x="180" y="1493"/>
                  </a:lnTo>
                  <a:lnTo>
                    <a:pt x="168" y="1487"/>
                  </a:lnTo>
                  <a:lnTo>
                    <a:pt x="156" y="1482"/>
                  </a:lnTo>
                  <a:lnTo>
                    <a:pt x="144" y="1476"/>
                  </a:lnTo>
                  <a:lnTo>
                    <a:pt x="132" y="1469"/>
                  </a:lnTo>
                  <a:lnTo>
                    <a:pt x="121" y="1461"/>
                  </a:lnTo>
                  <a:lnTo>
                    <a:pt x="111" y="1453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72" y="1419"/>
                  </a:lnTo>
                  <a:lnTo>
                    <a:pt x="63" y="1408"/>
                  </a:lnTo>
                  <a:lnTo>
                    <a:pt x="54" y="139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7" y="1353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9" y="1302"/>
                  </a:lnTo>
                  <a:lnTo>
                    <a:pt x="6" y="1288"/>
                  </a:lnTo>
                  <a:lnTo>
                    <a:pt x="3" y="1274"/>
                  </a:lnTo>
                  <a:lnTo>
                    <a:pt x="1" y="1261"/>
                  </a:lnTo>
                  <a:lnTo>
                    <a:pt x="0" y="1247"/>
                  </a:lnTo>
                  <a:lnTo>
                    <a:pt x="0" y="1234"/>
                  </a:lnTo>
                  <a:lnTo>
                    <a:pt x="0" y="275"/>
                  </a:lnTo>
                  <a:lnTo>
                    <a:pt x="0" y="262"/>
                  </a:lnTo>
                  <a:lnTo>
                    <a:pt x="1" y="248"/>
                  </a:lnTo>
                  <a:lnTo>
                    <a:pt x="3" y="233"/>
                  </a:lnTo>
                  <a:lnTo>
                    <a:pt x="6" y="220"/>
                  </a:lnTo>
                  <a:lnTo>
                    <a:pt x="9" y="208"/>
                  </a:lnTo>
                  <a:lnTo>
                    <a:pt x="12" y="194"/>
                  </a:lnTo>
                  <a:lnTo>
                    <a:pt x="16" y="181"/>
                  </a:lnTo>
                  <a:lnTo>
                    <a:pt x="21" y="169"/>
                  </a:lnTo>
                  <a:lnTo>
                    <a:pt x="27" y="157"/>
                  </a:lnTo>
                  <a:lnTo>
                    <a:pt x="33" y="145"/>
                  </a:lnTo>
                  <a:lnTo>
                    <a:pt x="40" y="133"/>
                  </a:lnTo>
                  <a:lnTo>
                    <a:pt x="46" y="122"/>
                  </a:lnTo>
                  <a:lnTo>
                    <a:pt x="54" y="111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90" y="72"/>
                  </a:lnTo>
                  <a:lnTo>
                    <a:pt x="100" y="63"/>
                  </a:lnTo>
                  <a:lnTo>
                    <a:pt x="111" y="56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56" y="27"/>
                  </a:lnTo>
                  <a:lnTo>
                    <a:pt x="168" y="23"/>
                  </a:lnTo>
                  <a:lnTo>
                    <a:pt x="193" y="12"/>
                  </a:lnTo>
                  <a:lnTo>
                    <a:pt x="205" y="9"/>
                  </a:lnTo>
                  <a:lnTo>
                    <a:pt x="219" y="6"/>
                  </a:lnTo>
                  <a:lnTo>
                    <a:pt x="232" y="3"/>
                  </a:lnTo>
                  <a:lnTo>
                    <a:pt x="246" y="2"/>
                  </a:lnTo>
                  <a:lnTo>
                    <a:pt x="261" y="0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303440" y="1490400"/>
              <a:ext cx="140040" cy="286560"/>
            </a:xfrm>
            <a:custGeom>
              <a:avLst/>
              <a:gdLst/>
              <a:ahLst/>
              <a:rect l="l" t="t" r="r" b="b"/>
              <a:pathLst>
                <a:path w="648" h="1330">
                  <a:moveTo>
                    <a:pt x="192" y="0"/>
                  </a:moveTo>
                  <a:lnTo>
                    <a:pt x="154" y="4"/>
                  </a:lnTo>
                  <a:lnTo>
                    <a:pt x="118" y="15"/>
                  </a:lnTo>
                  <a:lnTo>
                    <a:pt x="100" y="24"/>
                  </a:lnTo>
                  <a:lnTo>
                    <a:pt x="85" y="33"/>
                  </a:lnTo>
                  <a:lnTo>
                    <a:pt x="57" y="57"/>
                  </a:lnTo>
                  <a:lnTo>
                    <a:pt x="33" y="86"/>
                  </a:lnTo>
                  <a:lnTo>
                    <a:pt x="24" y="101"/>
                  </a:lnTo>
                  <a:lnTo>
                    <a:pt x="15" y="119"/>
                  </a:lnTo>
                  <a:lnTo>
                    <a:pt x="9" y="135"/>
                  </a:lnTo>
                  <a:lnTo>
                    <a:pt x="4" y="155"/>
                  </a:lnTo>
                  <a:lnTo>
                    <a:pt x="1" y="173"/>
                  </a:lnTo>
                  <a:lnTo>
                    <a:pt x="0" y="194"/>
                  </a:lnTo>
                  <a:lnTo>
                    <a:pt x="0" y="1137"/>
                  </a:lnTo>
                  <a:lnTo>
                    <a:pt x="4" y="1176"/>
                  </a:lnTo>
                  <a:lnTo>
                    <a:pt x="15" y="1213"/>
                  </a:lnTo>
                  <a:lnTo>
                    <a:pt x="24" y="1229"/>
                  </a:lnTo>
                  <a:lnTo>
                    <a:pt x="33" y="1246"/>
                  </a:lnTo>
                  <a:lnTo>
                    <a:pt x="57" y="1274"/>
                  </a:lnTo>
                  <a:lnTo>
                    <a:pt x="85" y="1297"/>
                  </a:lnTo>
                  <a:lnTo>
                    <a:pt x="100" y="1307"/>
                  </a:lnTo>
                  <a:lnTo>
                    <a:pt x="118" y="1315"/>
                  </a:lnTo>
                  <a:lnTo>
                    <a:pt x="135" y="1321"/>
                  </a:lnTo>
                  <a:lnTo>
                    <a:pt x="154" y="1327"/>
                  </a:lnTo>
                  <a:lnTo>
                    <a:pt x="192" y="1330"/>
                  </a:lnTo>
                  <a:lnTo>
                    <a:pt x="456" y="1330"/>
                  </a:lnTo>
                  <a:lnTo>
                    <a:pt x="495" y="1327"/>
                  </a:lnTo>
                  <a:lnTo>
                    <a:pt x="531" y="1315"/>
                  </a:lnTo>
                  <a:lnTo>
                    <a:pt x="548" y="1307"/>
                  </a:lnTo>
                  <a:lnTo>
                    <a:pt x="563" y="1297"/>
                  </a:lnTo>
                  <a:lnTo>
                    <a:pt x="591" y="1274"/>
                  </a:lnTo>
                  <a:lnTo>
                    <a:pt x="615" y="1246"/>
                  </a:lnTo>
                  <a:lnTo>
                    <a:pt x="624" y="1229"/>
                  </a:lnTo>
                  <a:lnTo>
                    <a:pt x="633" y="1213"/>
                  </a:lnTo>
                  <a:lnTo>
                    <a:pt x="639" y="1194"/>
                  </a:lnTo>
                  <a:lnTo>
                    <a:pt x="644" y="1176"/>
                  </a:lnTo>
                  <a:lnTo>
                    <a:pt x="647" y="1157"/>
                  </a:lnTo>
                  <a:lnTo>
                    <a:pt x="648" y="1137"/>
                  </a:lnTo>
                  <a:lnTo>
                    <a:pt x="648" y="194"/>
                  </a:lnTo>
                  <a:lnTo>
                    <a:pt x="644" y="155"/>
                  </a:lnTo>
                  <a:lnTo>
                    <a:pt x="633" y="119"/>
                  </a:lnTo>
                  <a:lnTo>
                    <a:pt x="624" y="101"/>
                  </a:lnTo>
                  <a:lnTo>
                    <a:pt x="615" y="86"/>
                  </a:lnTo>
                  <a:lnTo>
                    <a:pt x="591" y="57"/>
                  </a:lnTo>
                  <a:lnTo>
                    <a:pt x="563" y="33"/>
                  </a:lnTo>
                  <a:lnTo>
                    <a:pt x="548" y="24"/>
                  </a:lnTo>
                  <a:lnTo>
                    <a:pt x="531" y="15"/>
                  </a:lnTo>
                  <a:lnTo>
                    <a:pt x="513" y="9"/>
                  </a:lnTo>
                  <a:lnTo>
                    <a:pt x="495" y="4"/>
                  </a:lnTo>
                  <a:lnTo>
                    <a:pt x="456" y="0"/>
                  </a:lnTo>
                  <a:lnTo>
                    <a:pt x="192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284720" y="1471680"/>
              <a:ext cx="177840" cy="32544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74" y="0"/>
                  </a:moveTo>
                  <a:lnTo>
                    <a:pt x="548" y="0"/>
                  </a:lnTo>
                  <a:lnTo>
                    <a:pt x="576" y="2"/>
                  </a:lnTo>
                  <a:lnTo>
                    <a:pt x="603" y="6"/>
                  </a:lnTo>
                  <a:lnTo>
                    <a:pt x="630" y="12"/>
                  </a:lnTo>
                  <a:lnTo>
                    <a:pt x="654" y="21"/>
                  </a:lnTo>
                  <a:lnTo>
                    <a:pt x="678" y="33"/>
                  </a:lnTo>
                  <a:lnTo>
                    <a:pt x="702" y="47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9" y="10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8" y="220"/>
                  </a:lnTo>
                  <a:lnTo>
                    <a:pt x="821" y="247"/>
                  </a:lnTo>
                  <a:lnTo>
                    <a:pt x="822" y="275"/>
                  </a:lnTo>
                  <a:lnTo>
                    <a:pt x="822" y="1232"/>
                  </a:lnTo>
                  <a:lnTo>
                    <a:pt x="821" y="1261"/>
                  </a:lnTo>
                  <a:lnTo>
                    <a:pt x="818" y="1288"/>
                  </a:lnTo>
                  <a:lnTo>
                    <a:pt x="810" y="1315"/>
                  </a:lnTo>
                  <a:lnTo>
                    <a:pt x="801" y="1341"/>
                  </a:lnTo>
                  <a:lnTo>
                    <a:pt x="789" y="1365"/>
                  </a:lnTo>
                  <a:lnTo>
                    <a:pt x="776" y="1387"/>
                  </a:lnTo>
                  <a:lnTo>
                    <a:pt x="759" y="1408"/>
                  </a:lnTo>
                  <a:lnTo>
                    <a:pt x="743" y="1428"/>
                  </a:lnTo>
                  <a:lnTo>
                    <a:pt x="723" y="1446"/>
                  </a:lnTo>
                  <a:lnTo>
                    <a:pt x="702" y="1461"/>
                  </a:lnTo>
                  <a:lnTo>
                    <a:pt x="678" y="1475"/>
                  </a:lnTo>
                  <a:lnTo>
                    <a:pt x="654" y="1487"/>
                  </a:lnTo>
                  <a:lnTo>
                    <a:pt x="630" y="1496"/>
                  </a:lnTo>
                  <a:lnTo>
                    <a:pt x="603" y="1503"/>
                  </a:lnTo>
                  <a:lnTo>
                    <a:pt x="576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46" y="1508"/>
                  </a:lnTo>
                  <a:lnTo>
                    <a:pt x="219" y="1503"/>
                  </a:lnTo>
                  <a:lnTo>
                    <a:pt x="193" y="1496"/>
                  </a:lnTo>
                  <a:lnTo>
                    <a:pt x="168" y="1487"/>
                  </a:lnTo>
                  <a:lnTo>
                    <a:pt x="144" y="1475"/>
                  </a:lnTo>
                  <a:lnTo>
                    <a:pt x="121" y="1461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63" y="140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6" y="1288"/>
                  </a:lnTo>
                  <a:lnTo>
                    <a:pt x="1" y="1261"/>
                  </a:lnTo>
                  <a:lnTo>
                    <a:pt x="0" y="1232"/>
                  </a:lnTo>
                  <a:lnTo>
                    <a:pt x="0" y="275"/>
                  </a:lnTo>
                  <a:lnTo>
                    <a:pt x="1" y="247"/>
                  </a:lnTo>
                  <a:lnTo>
                    <a:pt x="6" y="220"/>
                  </a:lnTo>
                  <a:lnTo>
                    <a:pt x="12" y="194"/>
                  </a:lnTo>
                  <a:lnTo>
                    <a:pt x="21" y="169"/>
                  </a:lnTo>
                  <a:lnTo>
                    <a:pt x="33" y="145"/>
                  </a:lnTo>
                  <a:lnTo>
                    <a:pt x="46" y="122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100" y="63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68" y="21"/>
                  </a:lnTo>
                  <a:lnTo>
                    <a:pt x="193" y="12"/>
                  </a:lnTo>
                  <a:lnTo>
                    <a:pt x="219" y="6"/>
                  </a:lnTo>
                  <a:lnTo>
                    <a:pt x="246" y="2"/>
                  </a:lnTo>
                  <a:lnTo>
                    <a:pt x="274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321800" y="1528560"/>
              <a:ext cx="104400" cy="5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402080" y="1657080"/>
              <a:ext cx="1800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397040" y="1657080"/>
              <a:ext cx="1080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15040" y="165708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365720" y="1657080"/>
              <a:ext cx="1800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360680" y="165708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378680" y="1657080"/>
              <a:ext cx="1080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327200" y="1657080"/>
              <a:ext cx="1836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322160" y="165708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340880" y="165708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402080" y="1679400"/>
              <a:ext cx="18000" cy="1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397040" y="1679400"/>
              <a:ext cx="1080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415040" y="1679400"/>
              <a:ext cx="1044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365720" y="1679400"/>
              <a:ext cx="18000" cy="1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360680" y="1679400"/>
              <a:ext cx="1044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378680" y="1679400"/>
              <a:ext cx="1080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327200" y="1679400"/>
              <a:ext cx="18360" cy="1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322160" y="1679400"/>
              <a:ext cx="1044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340880" y="1679400"/>
              <a:ext cx="1044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402080" y="1702080"/>
              <a:ext cx="1800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397040" y="1702080"/>
              <a:ext cx="1080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15040" y="170208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365720" y="1702080"/>
              <a:ext cx="1800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360680" y="170208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378680" y="1702080"/>
              <a:ext cx="1080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327200" y="1702080"/>
              <a:ext cx="1836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322160" y="170208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340880" y="170208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402080" y="1724400"/>
              <a:ext cx="1800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397040" y="1724400"/>
              <a:ext cx="1080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415040" y="172440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365720" y="1724400"/>
              <a:ext cx="1800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360680" y="172440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378680" y="1724400"/>
              <a:ext cx="1080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327200" y="1724400"/>
              <a:ext cx="1836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322160" y="172440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340880" y="172440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365720" y="1620000"/>
              <a:ext cx="18000" cy="1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356360" y="1620000"/>
              <a:ext cx="18720" cy="18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374360" y="1620000"/>
              <a:ext cx="19440" cy="18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326120" y="1618200"/>
              <a:ext cx="20880" cy="18000"/>
            </a:xfrm>
            <a:custGeom>
              <a:avLst/>
              <a:gdLst/>
              <a:ahLst/>
              <a:rect l="l" t="t" r="r" b="b"/>
              <a:pathLst>
                <a:path w="99" h="84">
                  <a:moveTo>
                    <a:pt x="74" y="84"/>
                  </a:moveTo>
                  <a:lnTo>
                    <a:pt x="99" y="42"/>
                  </a:lnTo>
                  <a:lnTo>
                    <a:pt x="26" y="0"/>
                  </a:lnTo>
                  <a:lnTo>
                    <a:pt x="0" y="42"/>
                  </a:lnTo>
                  <a:lnTo>
                    <a:pt x="74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323600" y="1617840"/>
              <a:ext cx="10440" cy="10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339440" y="1626840"/>
              <a:ext cx="10440" cy="10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401720" y="1618200"/>
              <a:ext cx="20520" cy="18360"/>
            </a:xfrm>
            <a:custGeom>
              <a:avLst/>
              <a:gdLst/>
              <a:ahLst/>
              <a:rect l="l" t="t" r="r" b="b"/>
              <a:pathLst>
                <a:path w="98" h="86">
                  <a:moveTo>
                    <a:pt x="0" y="42"/>
                  </a:moveTo>
                  <a:lnTo>
                    <a:pt x="24" y="86"/>
                  </a:lnTo>
                  <a:lnTo>
                    <a:pt x="98" y="44"/>
                  </a:lnTo>
                  <a:lnTo>
                    <a:pt x="74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414680" y="1617840"/>
              <a:ext cx="10800" cy="10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399200" y="1626840"/>
              <a:ext cx="10080" cy="10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7319160" y="1165320"/>
            <a:ext cx="1650240" cy="788760"/>
            <a:chOff x="7319160" y="1165320"/>
            <a:chExt cx="1650240" cy="788760"/>
          </a:xfrm>
        </p:grpSpPr>
        <p:sp>
          <p:nvSpPr>
            <p:cNvPr id="352" name=""/>
            <p:cNvSpPr/>
            <p:nvPr/>
          </p:nvSpPr>
          <p:spPr>
            <a:xfrm>
              <a:off x="7499520" y="1165320"/>
              <a:ext cx="1469880" cy="788760"/>
            </a:xfrm>
            <a:prstGeom prst="rect">
              <a:avLst/>
            </a:prstGeom>
            <a:solidFill>
              <a:srgbClr val="42677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319160" y="1501920"/>
              <a:ext cx="1119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Off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217000" y="1200240"/>
              <a:ext cx="7412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524800" y="1457280"/>
              <a:ext cx="231840" cy="147600"/>
            </a:xfrm>
            <a:custGeom>
              <a:avLst/>
              <a:gdLst/>
              <a:ahLst/>
              <a:rect l="l" t="t" r="r" b="b"/>
              <a:pathLst>
                <a:path w="1064" h="680">
                  <a:moveTo>
                    <a:pt x="955" y="0"/>
                  </a:moveTo>
                  <a:lnTo>
                    <a:pt x="965" y="1"/>
                  </a:lnTo>
                  <a:lnTo>
                    <a:pt x="977" y="3"/>
                  </a:lnTo>
                  <a:lnTo>
                    <a:pt x="988" y="4"/>
                  </a:lnTo>
                  <a:lnTo>
                    <a:pt x="997" y="9"/>
                  </a:lnTo>
                  <a:lnTo>
                    <a:pt x="1007" y="13"/>
                  </a:lnTo>
                  <a:lnTo>
                    <a:pt x="1016" y="19"/>
                  </a:lnTo>
                  <a:lnTo>
                    <a:pt x="1024" y="25"/>
                  </a:lnTo>
                  <a:lnTo>
                    <a:pt x="1031" y="33"/>
                  </a:lnTo>
                  <a:lnTo>
                    <a:pt x="1039" y="40"/>
                  </a:lnTo>
                  <a:lnTo>
                    <a:pt x="1045" y="48"/>
                  </a:lnTo>
                  <a:lnTo>
                    <a:pt x="1051" y="57"/>
                  </a:lnTo>
                  <a:lnTo>
                    <a:pt x="1055" y="67"/>
                  </a:lnTo>
                  <a:lnTo>
                    <a:pt x="1058" y="76"/>
                  </a:lnTo>
                  <a:lnTo>
                    <a:pt x="1061" y="87"/>
                  </a:lnTo>
                  <a:lnTo>
                    <a:pt x="1063" y="99"/>
                  </a:lnTo>
                  <a:lnTo>
                    <a:pt x="1064" y="110"/>
                  </a:lnTo>
                  <a:lnTo>
                    <a:pt x="1064" y="195"/>
                  </a:lnTo>
                  <a:lnTo>
                    <a:pt x="959" y="195"/>
                  </a:lnTo>
                  <a:lnTo>
                    <a:pt x="958" y="95"/>
                  </a:lnTo>
                  <a:lnTo>
                    <a:pt x="91" y="95"/>
                  </a:lnTo>
                  <a:lnTo>
                    <a:pt x="91" y="592"/>
                  </a:lnTo>
                  <a:lnTo>
                    <a:pt x="697" y="592"/>
                  </a:lnTo>
                  <a:lnTo>
                    <a:pt x="697" y="680"/>
                  </a:lnTo>
                  <a:lnTo>
                    <a:pt x="108" y="680"/>
                  </a:lnTo>
                  <a:lnTo>
                    <a:pt x="97" y="680"/>
                  </a:lnTo>
                  <a:lnTo>
                    <a:pt x="87" y="678"/>
                  </a:lnTo>
                  <a:lnTo>
                    <a:pt x="76" y="675"/>
                  </a:lnTo>
                  <a:lnTo>
                    <a:pt x="66" y="671"/>
                  </a:lnTo>
                  <a:lnTo>
                    <a:pt x="57" y="666"/>
                  </a:lnTo>
                  <a:lnTo>
                    <a:pt x="48" y="662"/>
                  </a:lnTo>
                  <a:lnTo>
                    <a:pt x="39" y="656"/>
                  </a:lnTo>
                  <a:lnTo>
                    <a:pt x="31" y="648"/>
                  </a:lnTo>
                  <a:lnTo>
                    <a:pt x="24" y="641"/>
                  </a:lnTo>
                  <a:lnTo>
                    <a:pt x="18" y="632"/>
                  </a:lnTo>
                  <a:lnTo>
                    <a:pt x="12" y="623"/>
                  </a:lnTo>
                  <a:lnTo>
                    <a:pt x="7" y="614"/>
                  </a:lnTo>
                  <a:lnTo>
                    <a:pt x="4" y="603"/>
                  </a:lnTo>
                  <a:lnTo>
                    <a:pt x="1" y="592"/>
                  </a:lnTo>
                  <a:lnTo>
                    <a:pt x="0" y="582"/>
                  </a:lnTo>
                  <a:lnTo>
                    <a:pt x="0" y="570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1" y="87"/>
                  </a:lnTo>
                  <a:lnTo>
                    <a:pt x="4" y="76"/>
                  </a:lnTo>
                  <a:lnTo>
                    <a:pt x="7" y="67"/>
                  </a:lnTo>
                  <a:lnTo>
                    <a:pt x="12" y="57"/>
                  </a:lnTo>
                  <a:lnTo>
                    <a:pt x="18" y="48"/>
                  </a:lnTo>
                  <a:lnTo>
                    <a:pt x="24" y="40"/>
                  </a:lnTo>
                  <a:lnTo>
                    <a:pt x="31" y="33"/>
                  </a:lnTo>
                  <a:lnTo>
                    <a:pt x="39" y="25"/>
                  </a:lnTo>
                  <a:lnTo>
                    <a:pt x="48" y="19"/>
                  </a:lnTo>
                  <a:lnTo>
                    <a:pt x="57" y="13"/>
                  </a:lnTo>
                  <a:lnTo>
                    <a:pt x="66" y="9"/>
                  </a:lnTo>
                  <a:lnTo>
                    <a:pt x="76" y="4"/>
                  </a:lnTo>
                  <a:lnTo>
                    <a:pt x="87" y="3"/>
                  </a:lnTo>
                  <a:lnTo>
                    <a:pt x="97" y="1"/>
                  </a:lnTo>
                  <a:lnTo>
                    <a:pt x="108" y="0"/>
                  </a:lnTo>
                  <a:lnTo>
                    <a:pt x="9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551800" y="1636560"/>
              <a:ext cx="115920" cy="55800"/>
            </a:xfrm>
            <a:custGeom>
              <a:avLst/>
              <a:gdLst/>
              <a:ahLst/>
              <a:rect l="l" t="t" r="r" b="b"/>
              <a:pathLst>
                <a:path w="537" h="259">
                  <a:moveTo>
                    <a:pt x="433" y="60"/>
                  </a:moveTo>
                  <a:lnTo>
                    <a:pt x="433" y="0"/>
                  </a:lnTo>
                  <a:lnTo>
                    <a:pt x="537" y="0"/>
                  </a:lnTo>
                  <a:lnTo>
                    <a:pt x="537" y="60"/>
                  </a:lnTo>
                  <a:lnTo>
                    <a:pt x="433" y="60"/>
                  </a:lnTo>
                  <a:close/>
                  <a:moveTo>
                    <a:pt x="433" y="160"/>
                  </a:moveTo>
                  <a:lnTo>
                    <a:pt x="433" y="101"/>
                  </a:lnTo>
                  <a:lnTo>
                    <a:pt x="537" y="101"/>
                  </a:lnTo>
                  <a:lnTo>
                    <a:pt x="537" y="160"/>
                  </a:lnTo>
                  <a:lnTo>
                    <a:pt x="433" y="160"/>
                  </a:lnTo>
                  <a:close/>
                  <a:moveTo>
                    <a:pt x="433" y="259"/>
                  </a:moveTo>
                  <a:lnTo>
                    <a:pt x="433" y="200"/>
                  </a:lnTo>
                  <a:lnTo>
                    <a:pt x="537" y="200"/>
                  </a:lnTo>
                  <a:lnTo>
                    <a:pt x="537" y="259"/>
                  </a:lnTo>
                  <a:lnTo>
                    <a:pt x="433" y="259"/>
                  </a:lnTo>
                  <a:close/>
                  <a:moveTo>
                    <a:pt x="287" y="60"/>
                  </a:moveTo>
                  <a:lnTo>
                    <a:pt x="287" y="0"/>
                  </a:lnTo>
                  <a:lnTo>
                    <a:pt x="392" y="0"/>
                  </a:lnTo>
                  <a:lnTo>
                    <a:pt x="392" y="60"/>
                  </a:lnTo>
                  <a:lnTo>
                    <a:pt x="287" y="60"/>
                  </a:lnTo>
                  <a:close/>
                  <a:moveTo>
                    <a:pt x="287" y="160"/>
                  </a:moveTo>
                  <a:lnTo>
                    <a:pt x="287" y="101"/>
                  </a:lnTo>
                  <a:lnTo>
                    <a:pt x="392" y="101"/>
                  </a:lnTo>
                  <a:lnTo>
                    <a:pt x="392" y="160"/>
                  </a:lnTo>
                  <a:lnTo>
                    <a:pt x="287" y="160"/>
                  </a:lnTo>
                  <a:close/>
                  <a:moveTo>
                    <a:pt x="287" y="259"/>
                  </a:moveTo>
                  <a:lnTo>
                    <a:pt x="287" y="200"/>
                  </a:lnTo>
                  <a:lnTo>
                    <a:pt x="392" y="200"/>
                  </a:lnTo>
                  <a:lnTo>
                    <a:pt x="392" y="259"/>
                  </a:lnTo>
                  <a:lnTo>
                    <a:pt x="287" y="259"/>
                  </a:lnTo>
                  <a:close/>
                  <a:moveTo>
                    <a:pt x="101" y="200"/>
                  </a:moveTo>
                  <a:lnTo>
                    <a:pt x="101" y="259"/>
                  </a:lnTo>
                  <a:lnTo>
                    <a:pt x="0" y="259"/>
                  </a:lnTo>
                  <a:lnTo>
                    <a:pt x="0" y="200"/>
                  </a:lnTo>
                  <a:lnTo>
                    <a:pt x="101" y="200"/>
                  </a:lnTo>
                  <a:close/>
                  <a:moveTo>
                    <a:pt x="101" y="101"/>
                  </a:moveTo>
                  <a:lnTo>
                    <a:pt x="101" y="160"/>
                  </a:lnTo>
                  <a:lnTo>
                    <a:pt x="0" y="160"/>
                  </a:lnTo>
                  <a:lnTo>
                    <a:pt x="0" y="101"/>
                  </a:lnTo>
                  <a:lnTo>
                    <a:pt x="101" y="101"/>
                  </a:lnTo>
                  <a:close/>
                  <a:moveTo>
                    <a:pt x="101" y="0"/>
                  </a:moveTo>
                  <a:lnTo>
                    <a:pt x="101" y="60"/>
                  </a:lnTo>
                  <a:lnTo>
                    <a:pt x="0" y="60"/>
                  </a:lnTo>
                  <a:lnTo>
                    <a:pt x="0" y="0"/>
                  </a:lnTo>
                  <a:lnTo>
                    <a:pt x="101" y="0"/>
                  </a:lnTo>
                  <a:close/>
                  <a:moveTo>
                    <a:pt x="142" y="60"/>
                  </a:moveTo>
                  <a:lnTo>
                    <a:pt x="142" y="0"/>
                  </a:lnTo>
                  <a:lnTo>
                    <a:pt x="247" y="0"/>
                  </a:lnTo>
                  <a:lnTo>
                    <a:pt x="247" y="60"/>
                  </a:lnTo>
                  <a:lnTo>
                    <a:pt x="142" y="60"/>
                  </a:lnTo>
                  <a:close/>
                  <a:moveTo>
                    <a:pt x="142" y="160"/>
                  </a:moveTo>
                  <a:lnTo>
                    <a:pt x="142" y="101"/>
                  </a:lnTo>
                  <a:lnTo>
                    <a:pt x="247" y="101"/>
                  </a:lnTo>
                  <a:lnTo>
                    <a:pt x="247" y="160"/>
                  </a:lnTo>
                  <a:lnTo>
                    <a:pt x="142" y="160"/>
                  </a:lnTo>
                  <a:close/>
                  <a:moveTo>
                    <a:pt x="142" y="259"/>
                  </a:moveTo>
                  <a:lnTo>
                    <a:pt x="142" y="200"/>
                  </a:lnTo>
                  <a:lnTo>
                    <a:pt x="247" y="200"/>
                  </a:lnTo>
                  <a:lnTo>
                    <a:pt x="247" y="259"/>
                  </a:lnTo>
                  <a:lnTo>
                    <a:pt x="142" y="2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524800" y="1609560"/>
              <a:ext cx="150840" cy="140040"/>
            </a:xfrm>
            <a:custGeom>
              <a:avLst/>
              <a:gdLst/>
              <a:ahLst/>
              <a:rect l="l" t="t" r="r" b="b"/>
              <a:pathLst>
                <a:path w="697" h="647">
                  <a:moveTo>
                    <a:pt x="697" y="647"/>
                  </a:moveTo>
                  <a:lnTo>
                    <a:pt x="54" y="647"/>
                  </a:lnTo>
                  <a:lnTo>
                    <a:pt x="43" y="647"/>
                  </a:lnTo>
                  <a:lnTo>
                    <a:pt x="33" y="643"/>
                  </a:lnTo>
                  <a:lnTo>
                    <a:pt x="24" y="638"/>
                  </a:lnTo>
                  <a:lnTo>
                    <a:pt x="19" y="635"/>
                  </a:lnTo>
                  <a:lnTo>
                    <a:pt x="15" y="632"/>
                  </a:lnTo>
                  <a:lnTo>
                    <a:pt x="12" y="628"/>
                  </a:lnTo>
                  <a:lnTo>
                    <a:pt x="9" y="623"/>
                  </a:lnTo>
                  <a:lnTo>
                    <a:pt x="6" y="619"/>
                  </a:lnTo>
                  <a:lnTo>
                    <a:pt x="3" y="614"/>
                  </a:lnTo>
                  <a:lnTo>
                    <a:pt x="1" y="610"/>
                  </a:lnTo>
                  <a:lnTo>
                    <a:pt x="0" y="604"/>
                  </a:lnTo>
                  <a:lnTo>
                    <a:pt x="0" y="599"/>
                  </a:lnTo>
                  <a:lnTo>
                    <a:pt x="0" y="593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3" y="33"/>
                  </a:lnTo>
                  <a:lnTo>
                    <a:pt x="9" y="24"/>
                  </a:lnTo>
                  <a:lnTo>
                    <a:pt x="12" y="20"/>
                  </a:lnTo>
                  <a:lnTo>
                    <a:pt x="15" y="17"/>
                  </a:lnTo>
                  <a:lnTo>
                    <a:pt x="24" y="9"/>
                  </a:lnTo>
                  <a:lnTo>
                    <a:pt x="28" y="6"/>
                  </a:lnTo>
                  <a:lnTo>
                    <a:pt x="33" y="5"/>
                  </a:lnTo>
                  <a:lnTo>
                    <a:pt x="37" y="3"/>
                  </a:lnTo>
                  <a:lnTo>
                    <a:pt x="43" y="2"/>
                  </a:lnTo>
                  <a:lnTo>
                    <a:pt x="54" y="0"/>
                  </a:lnTo>
                  <a:lnTo>
                    <a:pt x="697" y="0"/>
                  </a:lnTo>
                  <a:lnTo>
                    <a:pt x="697" y="85"/>
                  </a:lnTo>
                  <a:lnTo>
                    <a:pt x="100" y="85"/>
                  </a:lnTo>
                  <a:lnTo>
                    <a:pt x="96" y="86"/>
                  </a:lnTo>
                  <a:lnTo>
                    <a:pt x="93" y="86"/>
                  </a:lnTo>
                  <a:lnTo>
                    <a:pt x="90" y="89"/>
                  </a:lnTo>
                  <a:lnTo>
                    <a:pt x="87" y="91"/>
                  </a:lnTo>
                  <a:lnTo>
                    <a:pt x="82" y="97"/>
                  </a:lnTo>
                  <a:lnTo>
                    <a:pt x="82" y="100"/>
                  </a:lnTo>
                  <a:lnTo>
                    <a:pt x="81" y="104"/>
                  </a:lnTo>
                  <a:lnTo>
                    <a:pt x="81" y="404"/>
                  </a:lnTo>
                  <a:lnTo>
                    <a:pt x="82" y="408"/>
                  </a:lnTo>
                  <a:lnTo>
                    <a:pt x="82" y="413"/>
                  </a:lnTo>
                  <a:lnTo>
                    <a:pt x="85" y="417"/>
                  </a:lnTo>
                  <a:lnTo>
                    <a:pt x="87" y="420"/>
                  </a:lnTo>
                  <a:lnTo>
                    <a:pt x="90" y="422"/>
                  </a:lnTo>
                  <a:lnTo>
                    <a:pt x="93" y="425"/>
                  </a:lnTo>
                  <a:lnTo>
                    <a:pt x="96" y="425"/>
                  </a:lnTo>
                  <a:lnTo>
                    <a:pt x="100" y="426"/>
                  </a:lnTo>
                  <a:lnTo>
                    <a:pt x="697" y="426"/>
                  </a:lnTo>
                  <a:lnTo>
                    <a:pt x="697" y="6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685360" y="1509840"/>
              <a:ext cx="149040" cy="293400"/>
            </a:xfrm>
            <a:custGeom>
              <a:avLst/>
              <a:gdLst>
                <a:gd name="textAreaLeft" fmla="*/ 13680 w 149040"/>
                <a:gd name="textAreaRight" fmla="*/ 135360 w 149040"/>
                <a:gd name="textAreaTop" fmla="*/ 13680 h 293400"/>
                <a:gd name="textAreaBottom" fmla="*/ 279720 h 293400"/>
              </a:gdLst>
              <a:ahLst/>
              <a:rect l="textAreaLeft" t="textAreaTop" r="textAreaRight" b="textAreaBottom"/>
              <a:pathLst>
                <a:path w="21600" h="42471">
                  <a:moveTo>
                    <a:pt x="6840" y="0"/>
                  </a:moveTo>
                  <a:arcTo wR="6840" hR="6840" stAng="16200000" swAng="-5400000"/>
                  <a:lnTo>
                    <a:pt x="0" y="35631"/>
                  </a:lnTo>
                  <a:arcTo wR="6840" hR="6840" stAng="10800000" swAng="-5400000"/>
                  <a:lnTo>
                    <a:pt x="14760" y="42471"/>
                  </a:lnTo>
                  <a:arcTo wR="6840" hR="6840" stAng="5400000" swAng="-5400000"/>
                  <a:lnTo>
                    <a:pt x="21600" y="6840"/>
                  </a:lnTo>
                  <a:arcTo wR="6840" hR="6840" stAng="0" swAng="-5400000"/>
                  <a:close/>
                </a:path>
              </a:pathLst>
            </a:custGeom>
            <a:solidFill>
              <a:srgbClr val="426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675640" y="1500120"/>
              <a:ext cx="171720" cy="31104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80" y="89"/>
                  </a:moveTo>
                  <a:lnTo>
                    <a:pt x="259" y="90"/>
                  </a:lnTo>
                  <a:lnTo>
                    <a:pt x="250" y="92"/>
                  </a:lnTo>
                  <a:lnTo>
                    <a:pt x="241" y="93"/>
                  </a:lnTo>
                  <a:lnTo>
                    <a:pt x="232" y="95"/>
                  </a:lnTo>
                  <a:lnTo>
                    <a:pt x="222" y="98"/>
                  </a:lnTo>
                  <a:lnTo>
                    <a:pt x="205" y="105"/>
                  </a:lnTo>
                  <a:lnTo>
                    <a:pt x="196" y="108"/>
                  </a:lnTo>
                  <a:lnTo>
                    <a:pt x="187" y="113"/>
                  </a:lnTo>
                  <a:lnTo>
                    <a:pt x="180" y="117"/>
                  </a:lnTo>
                  <a:lnTo>
                    <a:pt x="172" y="122"/>
                  </a:lnTo>
                  <a:lnTo>
                    <a:pt x="165" y="128"/>
                  </a:lnTo>
                  <a:lnTo>
                    <a:pt x="157" y="134"/>
                  </a:lnTo>
                  <a:lnTo>
                    <a:pt x="150" y="140"/>
                  </a:lnTo>
                  <a:lnTo>
                    <a:pt x="144" y="146"/>
                  </a:lnTo>
                  <a:lnTo>
                    <a:pt x="132" y="160"/>
                  </a:lnTo>
                  <a:lnTo>
                    <a:pt x="120" y="175"/>
                  </a:lnTo>
                  <a:lnTo>
                    <a:pt x="111" y="191"/>
                  </a:lnTo>
                  <a:lnTo>
                    <a:pt x="102" y="208"/>
                  </a:lnTo>
                  <a:lnTo>
                    <a:pt x="96" y="226"/>
                  </a:lnTo>
                  <a:lnTo>
                    <a:pt x="91" y="244"/>
                  </a:lnTo>
                  <a:lnTo>
                    <a:pt x="88" y="263"/>
                  </a:lnTo>
                  <a:lnTo>
                    <a:pt x="87" y="283"/>
                  </a:lnTo>
                  <a:lnTo>
                    <a:pt x="87" y="1226"/>
                  </a:lnTo>
                  <a:lnTo>
                    <a:pt x="88" y="1237"/>
                  </a:lnTo>
                  <a:lnTo>
                    <a:pt x="88" y="1246"/>
                  </a:lnTo>
                  <a:lnTo>
                    <a:pt x="90" y="1256"/>
                  </a:lnTo>
                  <a:lnTo>
                    <a:pt x="91" y="1265"/>
                  </a:lnTo>
                  <a:lnTo>
                    <a:pt x="93" y="1274"/>
                  </a:lnTo>
                  <a:lnTo>
                    <a:pt x="96" y="1283"/>
                  </a:lnTo>
                  <a:lnTo>
                    <a:pt x="102" y="1302"/>
                  </a:lnTo>
                  <a:lnTo>
                    <a:pt x="106" y="1311"/>
                  </a:lnTo>
                  <a:lnTo>
                    <a:pt x="111" y="1318"/>
                  </a:lnTo>
                  <a:lnTo>
                    <a:pt x="115" y="1327"/>
                  </a:lnTo>
                  <a:lnTo>
                    <a:pt x="120" y="1335"/>
                  </a:lnTo>
                  <a:lnTo>
                    <a:pt x="126" y="1342"/>
                  </a:lnTo>
                  <a:lnTo>
                    <a:pt x="132" y="1350"/>
                  </a:lnTo>
                  <a:lnTo>
                    <a:pt x="138" y="1356"/>
                  </a:lnTo>
                  <a:lnTo>
                    <a:pt x="144" y="1363"/>
                  </a:lnTo>
                  <a:lnTo>
                    <a:pt x="157" y="1375"/>
                  </a:lnTo>
                  <a:lnTo>
                    <a:pt x="172" y="1386"/>
                  </a:lnTo>
                  <a:lnTo>
                    <a:pt x="187" y="1396"/>
                  </a:lnTo>
                  <a:lnTo>
                    <a:pt x="205" y="1404"/>
                  </a:lnTo>
                  <a:lnTo>
                    <a:pt x="222" y="1411"/>
                  </a:lnTo>
                  <a:lnTo>
                    <a:pt x="241" y="1416"/>
                  </a:lnTo>
                  <a:lnTo>
                    <a:pt x="259" y="1419"/>
                  </a:lnTo>
                  <a:lnTo>
                    <a:pt x="280" y="1419"/>
                  </a:lnTo>
                  <a:lnTo>
                    <a:pt x="543" y="1419"/>
                  </a:lnTo>
                  <a:lnTo>
                    <a:pt x="563" y="1419"/>
                  </a:lnTo>
                  <a:lnTo>
                    <a:pt x="572" y="1417"/>
                  </a:lnTo>
                  <a:lnTo>
                    <a:pt x="582" y="1416"/>
                  </a:lnTo>
                  <a:lnTo>
                    <a:pt x="591" y="1413"/>
                  </a:lnTo>
                  <a:lnTo>
                    <a:pt x="600" y="1411"/>
                  </a:lnTo>
                  <a:lnTo>
                    <a:pt x="618" y="1404"/>
                  </a:lnTo>
                  <a:lnTo>
                    <a:pt x="626" y="1401"/>
                  </a:lnTo>
                  <a:lnTo>
                    <a:pt x="635" y="1396"/>
                  </a:lnTo>
                  <a:lnTo>
                    <a:pt x="642" y="1392"/>
                  </a:lnTo>
                  <a:lnTo>
                    <a:pt x="651" y="1386"/>
                  </a:lnTo>
                  <a:lnTo>
                    <a:pt x="659" y="1381"/>
                  </a:lnTo>
                  <a:lnTo>
                    <a:pt x="665" y="1375"/>
                  </a:lnTo>
                  <a:lnTo>
                    <a:pt x="672" y="1369"/>
                  </a:lnTo>
                  <a:lnTo>
                    <a:pt x="678" y="1363"/>
                  </a:lnTo>
                  <a:lnTo>
                    <a:pt x="692" y="1350"/>
                  </a:lnTo>
                  <a:lnTo>
                    <a:pt x="702" y="1335"/>
                  </a:lnTo>
                  <a:lnTo>
                    <a:pt x="713" y="1318"/>
                  </a:lnTo>
                  <a:lnTo>
                    <a:pt x="720" y="1302"/>
                  </a:lnTo>
                  <a:lnTo>
                    <a:pt x="726" y="1283"/>
                  </a:lnTo>
                  <a:lnTo>
                    <a:pt x="731" y="1265"/>
                  </a:lnTo>
                  <a:lnTo>
                    <a:pt x="734" y="1246"/>
                  </a:lnTo>
                  <a:lnTo>
                    <a:pt x="735" y="1226"/>
                  </a:lnTo>
                  <a:lnTo>
                    <a:pt x="735" y="283"/>
                  </a:lnTo>
                  <a:lnTo>
                    <a:pt x="735" y="272"/>
                  </a:lnTo>
                  <a:lnTo>
                    <a:pt x="734" y="263"/>
                  </a:lnTo>
                  <a:lnTo>
                    <a:pt x="734" y="253"/>
                  </a:lnTo>
                  <a:lnTo>
                    <a:pt x="731" y="244"/>
                  </a:lnTo>
                  <a:lnTo>
                    <a:pt x="729" y="235"/>
                  </a:lnTo>
                  <a:lnTo>
                    <a:pt x="726" y="226"/>
                  </a:lnTo>
                  <a:lnTo>
                    <a:pt x="720" y="208"/>
                  </a:lnTo>
                  <a:lnTo>
                    <a:pt x="716" y="199"/>
                  </a:lnTo>
                  <a:lnTo>
                    <a:pt x="713" y="191"/>
                  </a:lnTo>
                  <a:lnTo>
                    <a:pt x="707" y="182"/>
                  </a:lnTo>
                  <a:lnTo>
                    <a:pt x="702" y="175"/>
                  </a:lnTo>
                  <a:lnTo>
                    <a:pt x="698" y="167"/>
                  </a:lnTo>
                  <a:lnTo>
                    <a:pt x="692" y="160"/>
                  </a:lnTo>
                  <a:lnTo>
                    <a:pt x="686" y="152"/>
                  </a:lnTo>
                  <a:lnTo>
                    <a:pt x="678" y="146"/>
                  </a:lnTo>
                  <a:lnTo>
                    <a:pt x="665" y="134"/>
                  </a:lnTo>
                  <a:lnTo>
                    <a:pt x="651" y="122"/>
                  </a:lnTo>
                  <a:lnTo>
                    <a:pt x="635" y="113"/>
                  </a:lnTo>
                  <a:lnTo>
                    <a:pt x="618" y="105"/>
                  </a:lnTo>
                  <a:lnTo>
                    <a:pt x="600" y="98"/>
                  </a:lnTo>
                  <a:lnTo>
                    <a:pt x="582" y="93"/>
                  </a:lnTo>
                  <a:lnTo>
                    <a:pt x="563" y="90"/>
                  </a:lnTo>
                  <a:lnTo>
                    <a:pt x="543" y="89"/>
                  </a:lnTo>
                  <a:lnTo>
                    <a:pt x="280" y="89"/>
                  </a:lnTo>
                  <a:close/>
                  <a:moveTo>
                    <a:pt x="274" y="0"/>
                  </a:moveTo>
                  <a:lnTo>
                    <a:pt x="548" y="0"/>
                  </a:lnTo>
                  <a:lnTo>
                    <a:pt x="563" y="0"/>
                  </a:lnTo>
                  <a:lnTo>
                    <a:pt x="576" y="2"/>
                  </a:lnTo>
                  <a:lnTo>
                    <a:pt x="590" y="3"/>
                  </a:lnTo>
                  <a:lnTo>
                    <a:pt x="603" y="6"/>
                  </a:lnTo>
                  <a:lnTo>
                    <a:pt x="617" y="9"/>
                  </a:lnTo>
                  <a:lnTo>
                    <a:pt x="630" y="12"/>
                  </a:lnTo>
                  <a:lnTo>
                    <a:pt x="642" y="17"/>
                  </a:lnTo>
                  <a:lnTo>
                    <a:pt x="656" y="23"/>
                  </a:lnTo>
                  <a:lnTo>
                    <a:pt x="668" y="27"/>
                  </a:lnTo>
                  <a:lnTo>
                    <a:pt x="680" y="33"/>
                  </a:lnTo>
                  <a:lnTo>
                    <a:pt x="690" y="41"/>
                  </a:lnTo>
                  <a:lnTo>
                    <a:pt x="702" y="47"/>
                  </a:lnTo>
                  <a:lnTo>
                    <a:pt x="713" y="56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2" y="90"/>
                  </a:lnTo>
                  <a:lnTo>
                    <a:pt x="761" y="101"/>
                  </a:lnTo>
                  <a:lnTo>
                    <a:pt x="768" y="11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795" y="157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5" y="208"/>
                  </a:lnTo>
                  <a:lnTo>
                    <a:pt x="818" y="220"/>
                  </a:lnTo>
                  <a:lnTo>
                    <a:pt x="819" y="233"/>
                  </a:lnTo>
                  <a:lnTo>
                    <a:pt x="821" y="248"/>
                  </a:lnTo>
                  <a:lnTo>
                    <a:pt x="822" y="262"/>
                  </a:lnTo>
                  <a:lnTo>
                    <a:pt x="822" y="275"/>
                  </a:lnTo>
                  <a:lnTo>
                    <a:pt x="822" y="1234"/>
                  </a:lnTo>
                  <a:lnTo>
                    <a:pt x="822" y="1247"/>
                  </a:lnTo>
                  <a:lnTo>
                    <a:pt x="821" y="1261"/>
                  </a:lnTo>
                  <a:lnTo>
                    <a:pt x="819" y="1274"/>
                  </a:lnTo>
                  <a:lnTo>
                    <a:pt x="818" y="1288"/>
                  </a:lnTo>
                  <a:lnTo>
                    <a:pt x="815" y="1302"/>
                  </a:lnTo>
                  <a:lnTo>
                    <a:pt x="810" y="1315"/>
                  </a:lnTo>
                  <a:lnTo>
                    <a:pt x="806" y="1329"/>
                  </a:lnTo>
                  <a:lnTo>
                    <a:pt x="801" y="1341"/>
                  </a:lnTo>
                  <a:lnTo>
                    <a:pt x="795" y="1353"/>
                  </a:lnTo>
                  <a:lnTo>
                    <a:pt x="789" y="1365"/>
                  </a:lnTo>
                  <a:lnTo>
                    <a:pt x="783" y="1377"/>
                  </a:lnTo>
                  <a:lnTo>
                    <a:pt x="776" y="1387"/>
                  </a:lnTo>
                  <a:lnTo>
                    <a:pt x="768" y="1398"/>
                  </a:lnTo>
                  <a:lnTo>
                    <a:pt x="761" y="1408"/>
                  </a:lnTo>
                  <a:lnTo>
                    <a:pt x="743" y="1428"/>
                  </a:lnTo>
                  <a:lnTo>
                    <a:pt x="732" y="1437"/>
                  </a:lnTo>
                  <a:lnTo>
                    <a:pt x="723" y="1446"/>
                  </a:lnTo>
                  <a:lnTo>
                    <a:pt x="713" y="1453"/>
                  </a:lnTo>
                  <a:lnTo>
                    <a:pt x="702" y="1461"/>
                  </a:lnTo>
                  <a:lnTo>
                    <a:pt x="680" y="1476"/>
                  </a:lnTo>
                  <a:lnTo>
                    <a:pt x="668" y="1482"/>
                  </a:lnTo>
                  <a:lnTo>
                    <a:pt x="656" y="1487"/>
                  </a:lnTo>
                  <a:lnTo>
                    <a:pt x="630" y="1496"/>
                  </a:lnTo>
                  <a:lnTo>
                    <a:pt x="617" y="1500"/>
                  </a:lnTo>
                  <a:lnTo>
                    <a:pt x="603" y="1503"/>
                  </a:lnTo>
                  <a:lnTo>
                    <a:pt x="590" y="1506"/>
                  </a:lnTo>
                  <a:lnTo>
                    <a:pt x="576" y="1508"/>
                  </a:lnTo>
                  <a:lnTo>
                    <a:pt x="563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61" y="1508"/>
                  </a:lnTo>
                  <a:lnTo>
                    <a:pt x="246" y="1508"/>
                  </a:lnTo>
                  <a:lnTo>
                    <a:pt x="232" y="1506"/>
                  </a:lnTo>
                  <a:lnTo>
                    <a:pt x="219" y="1503"/>
                  </a:lnTo>
                  <a:lnTo>
                    <a:pt x="205" y="1500"/>
                  </a:lnTo>
                  <a:lnTo>
                    <a:pt x="193" y="1496"/>
                  </a:lnTo>
                  <a:lnTo>
                    <a:pt x="180" y="1493"/>
                  </a:lnTo>
                  <a:lnTo>
                    <a:pt x="168" y="1487"/>
                  </a:lnTo>
                  <a:lnTo>
                    <a:pt x="156" y="1482"/>
                  </a:lnTo>
                  <a:lnTo>
                    <a:pt x="144" y="1476"/>
                  </a:lnTo>
                  <a:lnTo>
                    <a:pt x="132" y="1469"/>
                  </a:lnTo>
                  <a:lnTo>
                    <a:pt x="121" y="1461"/>
                  </a:lnTo>
                  <a:lnTo>
                    <a:pt x="111" y="1453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72" y="1419"/>
                  </a:lnTo>
                  <a:lnTo>
                    <a:pt x="63" y="1408"/>
                  </a:lnTo>
                  <a:lnTo>
                    <a:pt x="54" y="139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7" y="1353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9" y="1302"/>
                  </a:lnTo>
                  <a:lnTo>
                    <a:pt x="6" y="1288"/>
                  </a:lnTo>
                  <a:lnTo>
                    <a:pt x="3" y="1274"/>
                  </a:lnTo>
                  <a:lnTo>
                    <a:pt x="1" y="1261"/>
                  </a:lnTo>
                  <a:lnTo>
                    <a:pt x="0" y="1247"/>
                  </a:lnTo>
                  <a:lnTo>
                    <a:pt x="0" y="1234"/>
                  </a:lnTo>
                  <a:lnTo>
                    <a:pt x="0" y="275"/>
                  </a:lnTo>
                  <a:lnTo>
                    <a:pt x="0" y="262"/>
                  </a:lnTo>
                  <a:lnTo>
                    <a:pt x="1" y="248"/>
                  </a:lnTo>
                  <a:lnTo>
                    <a:pt x="3" y="233"/>
                  </a:lnTo>
                  <a:lnTo>
                    <a:pt x="6" y="220"/>
                  </a:lnTo>
                  <a:lnTo>
                    <a:pt x="9" y="208"/>
                  </a:lnTo>
                  <a:lnTo>
                    <a:pt x="12" y="194"/>
                  </a:lnTo>
                  <a:lnTo>
                    <a:pt x="16" y="181"/>
                  </a:lnTo>
                  <a:lnTo>
                    <a:pt x="21" y="169"/>
                  </a:lnTo>
                  <a:lnTo>
                    <a:pt x="27" y="157"/>
                  </a:lnTo>
                  <a:lnTo>
                    <a:pt x="33" y="145"/>
                  </a:lnTo>
                  <a:lnTo>
                    <a:pt x="40" y="133"/>
                  </a:lnTo>
                  <a:lnTo>
                    <a:pt x="46" y="122"/>
                  </a:lnTo>
                  <a:lnTo>
                    <a:pt x="54" y="111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90" y="72"/>
                  </a:lnTo>
                  <a:lnTo>
                    <a:pt x="100" y="63"/>
                  </a:lnTo>
                  <a:lnTo>
                    <a:pt x="111" y="56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56" y="27"/>
                  </a:lnTo>
                  <a:lnTo>
                    <a:pt x="168" y="23"/>
                  </a:lnTo>
                  <a:lnTo>
                    <a:pt x="193" y="12"/>
                  </a:lnTo>
                  <a:lnTo>
                    <a:pt x="205" y="9"/>
                  </a:lnTo>
                  <a:lnTo>
                    <a:pt x="219" y="6"/>
                  </a:lnTo>
                  <a:lnTo>
                    <a:pt x="232" y="3"/>
                  </a:lnTo>
                  <a:lnTo>
                    <a:pt x="246" y="2"/>
                  </a:lnTo>
                  <a:lnTo>
                    <a:pt x="261" y="0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694720" y="1517760"/>
              <a:ext cx="133560" cy="274680"/>
            </a:xfrm>
            <a:custGeom>
              <a:avLst/>
              <a:gdLst/>
              <a:ahLst/>
              <a:rect l="l" t="t" r="r" b="b"/>
              <a:pathLst>
                <a:path w="648" h="1330">
                  <a:moveTo>
                    <a:pt x="192" y="0"/>
                  </a:moveTo>
                  <a:lnTo>
                    <a:pt x="154" y="4"/>
                  </a:lnTo>
                  <a:lnTo>
                    <a:pt x="118" y="15"/>
                  </a:lnTo>
                  <a:lnTo>
                    <a:pt x="100" y="24"/>
                  </a:lnTo>
                  <a:lnTo>
                    <a:pt x="85" y="33"/>
                  </a:lnTo>
                  <a:lnTo>
                    <a:pt x="57" y="57"/>
                  </a:lnTo>
                  <a:lnTo>
                    <a:pt x="33" y="86"/>
                  </a:lnTo>
                  <a:lnTo>
                    <a:pt x="24" y="101"/>
                  </a:lnTo>
                  <a:lnTo>
                    <a:pt x="15" y="119"/>
                  </a:lnTo>
                  <a:lnTo>
                    <a:pt x="9" y="135"/>
                  </a:lnTo>
                  <a:lnTo>
                    <a:pt x="4" y="155"/>
                  </a:lnTo>
                  <a:lnTo>
                    <a:pt x="1" y="173"/>
                  </a:lnTo>
                  <a:lnTo>
                    <a:pt x="0" y="194"/>
                  </a:lnTo>
                  <a:lnTo>
                    <a:pt x="0" y="1137"/>
                  </a:lnTo>
                  <a:lnTo>
                    <a:pt x="4" y="1176"/>
                  </a:lnTo>
                  <a:lnTo>
                    <a:pt x="15" y="1213"/>
                  </a:lnTo>
                  <a:lnTo>
                    <a:pt x="24" y="1229"/>
                  </a:lnTo>
                  <a:lnTo>
                    <a:pt x="33" y="1246"/>
                  </a:lnTo>
                  <a:lnTo>
                    <a:pt x="57" y="1274"/>
                  </a:lnTo>
                  <a:lnTo>
                    <a:pt x="85" y="1297"/>
                  </a:lnTo>
                  <a:lnTo>
                    <a:pt x="100" y="1307"/>
                  </a:lnTo>
                  <a:lnTo>
                    <a:pt x="118" y="1315"/>
                  </a:lnTo>
                  <a:lnTo>
                    <a:pt x="135" y="1321"/>
                  </a:lnTo>
                  <a:lnTo>
                    <a:pt x="154" y="1327"/>
                  </a:lnTo>
                  <a:lnTo>
                    <a:pt x="192" y="1330"/>
                  </a:lnTo>
                  <a:lnTo>
                    <a:pt x="456" y="1330"/>
                  </a:lnTo>
                  <a:lnTo>
                    <a:pt x="495" y="1327"/>
                  </a:lnTo>
                  <a:lnTo>
                    <a:pt x="531" y="1315"/>
                  </a:lnTo>
                  <a:lnTo>
                    <a:pt x="548" y="1307"/>
                  </a:lnTo>
                  <a:lnTo>
                    <a:pt x="563" y="1297"/>
                  </a:lnTo>
                  <a:lnTo>
                    <a:pt x="591" y="1274"/>
                  </a:lnTo>
                  <a:lnTo>
                    <a:pt x="615" y="1246"/>
                  </a:lnTo>
                  <a:lnTo>
                    <a:pt x="624" y="1229"/>
                  </a:lnTo>
                  <a:lnTo>
                    <a:pt x="633" y="1213"/>
                  </a:lnTo>
                  <a:lnTo>
                    <a:pt x="639" y="1194"/>
                  </a:lnTo>
                  <a:lnTo>
                    <a:pt x="644" y="1176"/>
                  </a:lnTo>
                  <a:lnTo>
                    <a:pt x="647" y="1157"/>
                  </a:lnTo>
                  <a:lnTo>
                    <a:pt x="648" y="1137"/>
                  </a:lnTo>
                  <a:lnTo>
                    <a:pt x="648" y="194"/>
                  </a:lnTo>
                  <a:lnTo>
                    <a:pt x="644" y="155"/>
                  </a:lnTo>
                  <a:lnTo>
                    <a:pt x="633" y="119"/>
                  </a:lnTo>
                  <a:lnTo>
                    <a:pt x="624" y="101"/>
                  </a:lnTo>
                  <a:lnTo>
                    <a:pt x="615" y="86"/>
                  </a:lnTo>
                  <a:lnTo>
                    <a:pt x="591" y="57"/>
                  </a:lnTo>
                  <a:lnTo>
                    <a:pt x="563" y="33"/>
                  </a:lnTo>
                  <a:lnTo>
                    <a:pt x="548" y="24"/>
                  </a:lnTo>
                  <a:lnTo>
                    <a:pt x="531" y="15"/>
                  </a:lnTo>
                  <a:lnTo>
                    <a:pt x="513" y="9"/>
                  </a:lnTo>
                  <a:lnTo>
                    <a:pt x="495" y="4"/>
                  </a:lnTo>
                  <a:lnTo>
                    <a:pt x="456" y="0"/>
                  </a:lnTo>
                  <a:lnTo>
                    <a:pt x="192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675640" y="1500120"/>
              <a:ext cx="171720" cy="31104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74" y="0"/>
                  </a:moveTo>
                  <a:lnTo>
                    <a:pt x="548" y="0"/>
                  </a:lnTo>
                  <a:lnTo>
                    <a:pt x="576" y="2"/>
                  </a:lnTo>
                  <a:lnTo>
                    <a:pt x="603" y="6"/>
                  </a:lnTo>
                  <a:lnTo>
                    <a:pt x="630" y="12"/>
                  </a:lnTo>
                  <a:lnTo>
                    <a:pt x="654" y="21"/>
                  </a:lnTo>
                  <a:lnTo>
                    <a:pt x="678" y="33"/>
                  </a:lnTo>
                  <a:lnTo>
                    <a:pt x="702" y="47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9" y="10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8" y="220"/>
                  </a:lnTo>
                  <a:lnTo>
                    <a:pt x="821" y="247"/>
                  </a:lnTo>
                  <a:lnTo>
                    <a:pt x="822" y="275"/>
                  </a:lnTo>
                  <a:lnTo>
                    <a:pt x="822" y="1232"/>
                  </a:lnTo>
                  <a:lnTo>
                    <a:pt x="821" y="1261"/>
                  </a:lnTo>
                  <a:lnTo>
                    <a:pt x="818" y="1288"/>
                  </a:lnTo>
                  <a:lnTo>
                    <a:pt x="810" y="1315"/>
                  </a:lnTo>
                  <a:lnTo>
                    <a:pt x="801" y="1341"/>
                  </a:lnTo>
                  <a:lnTo>
                    <a:pt x="789" y="1365"/>
                  </a:lnTo>
                  <a:lnTo>
                    <a:pt x="776" y="1387"/>
                  </a:lnTo>
                  <a:lnTo>
                    <a:pt x="759" y="1408"/>
                  </a:lnTo>
                  <a:lnTo>
                    <a:pt x="743" y="1428"/>
                  </a:lnTo>
                  <a:lnTo>
                    <a:pt x="723" y="1446"/>
                  </a:lnTo>
                  <a:lnTo>
                    <a:pt x="702" y="1461"/>
                  </a:lnTo>
                  <a:lnTo>
                    <a:pt x="678" y="1475"/>
                  </a:lnTo>
                  <a:lnTo>
                    <a:pt x="654" y="1487"/>
                  </a:lnTo>
                  <a:lnTo>
                    <a:pt x="630" y="1496"/>
                  </a:lnTo>
                  <a:lnTo>
                    <a:pt x="603" y="1503"/>
                  </a:lnTo>
                  <a:lnTo>
                    <a:pt x="576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46" y="1508"/>
                  </a:lnTo>
                  <a:lnTo>
                    <a:pt x="219" y="1503"/>
                  </a:lnTo>
                  <a:lnTo>
                    <a:pt x="193" y="1496"/>
                  </a:lnTo>
                  <a:lnTo>
                    <a:pt x="168" y="1487"/>
                  </a:lnTo>
                  <a:lnTo>
                    <a:pt x="144" y="1475"/>
                  </a:lnTo>
                  <a:lnTo>
                    <a:pt x="121" y="1461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63" y="140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6" y="1288"/>
                  </a:lnTo>
                  <a:lnTo>
                    <a:pt x="1" y="1261"/>
                  </a:lnTo>
                  <a:lnTo>
                    <a:pt x="0" y="1232"/>
                  </a:lnTo>
                  <a:lnTo>
                    <a:pt x="0" y="275"/>
                  </a:lnTo>
                  <a:lnTo>
                    <a:pt x="1" y="247"/>
                  </a:lnTo>
                  <a:lnTo>
                    <a:pt x="6" y="220"/>
                  </a:lnTo>
                  <a:lnTo>
                    <a:pt x="12" y="194"/>
                  </a:lnTo>
                  <a:lnTo>
                    <a:pt x="21" y="169"/>
                  </a:lnTo>
                  <a:lnTo>
                    <a:pt x="33" y="145"/>
                  </a:lnTo>
                  <a:lnTo>
                    <a:pt x="46" y="122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100" y="63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68" y="21"/>
                  </a:lnTo>
                  <a:lnTo>
                    <a:pt x="193" y="12"/>
                  </a:lnTo>
                  <a:lnTo>
                    <a:pt x="219" y="6"/>
                  </a:lnTo>
                  <a:lnTo>
                    <a:pt x="246" y="2"/>
                  </a:lnTo>
                  <a:lnTo>
                    <a:pt x="274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712360" y="1554120"/>
              <a:ext cx="100080" cy="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788680" y="167652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783640" y="16765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801280" y="16765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755200" y="1676520"/>
              <a:ext cx="158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748720" y="16765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766360" y="167652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717040" y="1676520"/>
              <a:ext cx="176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712360" y="167652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729640" y="16765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788680" y="169848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783640" y="169848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801280" y="169848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755200" y="1698480"/>
              <a:ext cx="158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748720" y="169848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766360" y="169848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717040" y="1698480"/>
              <a:ext cx="176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712360" y="169848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729640" y="169848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788680" y="1720800"/>
              <a:ext cx="1728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783640" y="172080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801280" y="172080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755200" y="1720800"/>
              <a:ext cx="1584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748720" y="172080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766360" y="1720800"/>
              <a:ext cx="93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717040" y="1720800"/>
              <a:ext cx="1764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712360" y="1720800"/>
              <a:ext cx="93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729640" y="172080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788680" y="1743120"/>
              <a:ext cx="1728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783640" y="174312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801280" y="174312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755200" y="1743120"/>
              <a:ext cx="1584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748720" y="174312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766360" y="1743120"/>
              <a:ext cx="93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717040" y="1743120"/>
              <a:ext cx="1764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712360" y="1743120"/>
              <a:ext cx="93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729640" y="174312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755200" y="1643040"/>
              <a:ext cx="15840" cy="1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745480" y="1643040"/>
              <a:ext cx="1764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761680" y="1643040"/>
              <a:ext cx="2052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715600" y="1639800"/>
              <a:ext cx="20520" cy="17640"/>
            </a:xfrm>
            <a:custGeom>
              <a:avLst/>
              <a:gdLst/>
              <a:ahLst/>
              <a:rect l="l" t="t" r="r" b="b"/>
              <a:pathLst>
                <a:path w="99" h="84">
                  <a:moveTo>
                    <a:pt x="74" y="84"/>
                  </a:moveTo>
                  <a:lnTo>
                    <a:pt x="99" y="42"/>
                  </a:lnTo>
                  <a:lnTo>
                    <a:pt x="26" y="0"/>
                  </a:lnTo>
                  <a:lnTo>
                    <a:pt x="0" y="42"/>
                  </a:lnTo>
                  <a:lnTo>
                    <a:pt x="74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713800" y="1639800"/>
              <a:ext cx="972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728200" y="164952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788680" y="1639800"/>
              <a:ext cx="18720" cy="17640"/>
            </a:xfrm>
            <a:custGeom>
              <a:avLst/>
              <a:gdLst/>
              <a:ahLst/>
              <a:rect l="l" t="t" r="r" b="b"/>
              <a:pathLst>
                <a:path w="98" h="86">
                  <a:moveTo>
                    <a:pt x="0" y="42"/>
                  </a:moveTo>
                  <a:lnTo>
                    <a:pt x="24" y="86"/>
                  </a:lnTo>
                  <a:lnTo>
                    <a:pt x="98" y="44"/>
                  </a:lnTo>
                  <a:lnTo>
                    <a:pt x="74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801280" y="1639800"/>
              <a:ext cx="93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786880" y="1649520"/>
              <a:ext cx="792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882720" y="1200240"/>
            <a:ext cx="7412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211400" y="1504800"/>
            <a:ext cx="139680" cy="284400"/>
          </a:xfrm>
          <a:custGeom>
            <a:avLst/>
            <a:gdLst/>
            <a:ahLst/>
            <a:rect l="l" t="t" r="r" b="b"/>
            <a:pathLst>
              <a:path w="642" h="1318">
                <a:moveTo>
                  <a:pt x="85" y="176"/>
                </a:moveTo>
                <a:lnTo>
                  <a:pt x="85" y="446"/>
                </a:lnTo>
                <a:lnTo>
                  <a:pt x="558" y="446"/>
                </a:lnTo>
                <a:lnTo>
                  <a:pt x="558" y="175"/>
                </a:lnTo>
                <a:lnTo>
                  <a:pt x="85" y="176"/>
                </a:lnTo>
                <a:close/>
                <a:moveTo>
                  <a:pt x="91" y="587"/>
                </a:moveTo>
                <a:lnTo>
                  <a:pt x="86" y="596"/>
                </a:lnTo>
                <a:lnTo>
                  <a:pt x="85" y="605"/>
                </a:lnTo>
                <a:lnTo>
                  <a:pt x="88" y="619"/>
                </a:lnTo>
                <a:lnTo>
                  <a:pt x="94" y="628"/>
                </a:lnTo>
                <a:lnTo>
                  <a:pt x="97" y="631"/>
                </a:lnTo>
                <a:lnTo>
                  <a:pt x="173" y="676"/>
                </a:lnTo>
                <a:lnTo>
                  <a:pt x="187" y="680"/>
                </a:lnTo>
                <a:lnTo>
                  <a:pt x="199" y="677"/>
                </a:lnTo>
                <a:lnTo>
                  <a:pt x="206" y="674"/>
                </a:lnTo>
                <a:lnTo>
                  <a:pt x="212" y="668"/>
                </a:lnTo>
                <a:lnTo>
                  <a:pt x="218" y="659"/>
                </a:lnTo>
                <a:lnTo>
                  <a:pt x="220" y="650"/>
                </a:lnTo>
                <a:lnTo>
                  <a:pt x="217" y="637"/>
                </a:lnTo>
                <a:lnTo>
                  <a:pt x="206" y="623"/>
                </a:lnTo>
                <a:lnTo>
                  <a:pt x="127" y="577"/>
                </a:lnTo>
                <a:lnTo>
                  <a:pt x="115" y="575"/>
                </a:lnTo>
                <a:lnTo>
                  <a:pt x="103" y="578"/>
                </a:lnTo>
                <a:lnTo>
                  <a:pt x="91" y="587"/>
                </a:lnTo>
                <a:close/>
                <a:moveTo>
                  <a:pt x="558" y="587"/>
                </a:moveTo>
                <a:lnTo>
                  <a:pt x="546" y="578"/>
                </a:lnTo>
                <a:lnTo>
                  <a:pt x="534" y="575"/>
                </a:lnTo>
                <a:lnTo>
                  <a:pt x="522" y="577"/>
                </a:lnTo>
                <a:lnTo>
                  <a:pt x="442" y="623"/>
                </a:lnTo>
                <a:lnTo>
                  <a:pt x="437" y="626"/>
                </a:lnTo>
                <a:lnTo>
                  <a:pt x="431" y="637"/>
                </a:lnTo>
                <a:lnTo>
                  <a:pt x="428" y="650"/>
                </a:lnTo>
                <a:lnTo>
                  <a:pt x="430" y="659"/>
                </a:lnTo>
                <a:lnTo>
                  <a:pt x="436" y="668"/>
                </a:lnTo>
                <a:lnTo>
                  <a:pt x="442" y="674"/>
                </a:lnTo>
                <a:lnTo>
                  <a:pt x="449" y="677"/>
                </a:lnTo>
                <a:lnTo>
                  <a:pt x="463" y="680"/>
                </a:lnTo>
                <a:lnTo>
                  <a:pt x="472" y="677"/>
                </a:lnTo>
                <a:lnTo>
                  <a:pt x="476" y="676"/>
                </a:lnTo>
                <a:lnTo>
                  <a:pt x="552" y="631"/>
                </a:lnTo>
                <a:lnTo>
                  <a:pt x="556" y="628"/>
                </a:lnTo>
                <a:lnTo>
                  <a:pt x="561" y="619"/>
                </a:lnTo>
                <a:lnTo>
                  <a:pt x="564" y="605"/>
                </a:lnTo>
                <a:lnTo>
                  <a:pt x="562" y="596"/>
                </a:lnTo>
                <a:lnTo>
                  <a:pt x="558" y="587"/>
                </a:lnTo>
                <a:close/>
                <a:moveTo>
                  <a:pt x="80" y="786"/>
                </a:moveTo>
                <a:lnTo>
                  <a:pt x="83" y="804"/>
                </a:lnTo>
                <a:lnTo>
                  <a:pt x="92" y="814"/>
                </a:lnTo>
                <a:lnTo>
                  <a:pt x="106" y="820"/>
                </a:lnTo>
                <a:lnTo>
                  <a:pt x="194" y="820"/>
                </a:lnTo>
                <a:lnTo>
                  <a:pt x="199" y="820"/>
                </a:lnTo>
                <a:lnTo>
                  <a:pt x="209" y="816"/>
                </a:lnTo>
                <a:lnTo>
                  <a:pt x="215" y="813"/>
                </a:lnTo>
                <a:lnTo>
                  <a:pt x="221" y="807"/>
                </a:lnTo>
                <a:lnTo>
                  <a:pt x="224" y="799"/>
                </a:lnTo>
                <a:lnTo>
                  <a:pt x="226" y="790"/>
                </a:lnTo>
                <a:lnTo>
                  <a:pt x="224" y="780"/>
                </a:lnTo>
                <a:lnTo>
                  <a:pt x="221" y="772"/>
                </a:lnTo>
                <a:lnTo>
                  <a:pt x="212" y="763"/>
                </a:lnTo>
                <a:lnTo>
                  <a:pt x="202" y="759"/>
                </a:lnTo>
                <a:lnTo>
                  <a:pt x="197" y="759"/>
                </a:lnTo>
                <a:lnTo>
                  <a:pt x="106" y="759"/>
                </a:lnTo>
                <a:lnTo>
                  <a:pt x="103" y="759"/>
                </a:lnTo>
                <a:lnTo>
                  <a:pt x="94" y="763"/>
                </a:lnTo>
                <a:lnTo>
                  <a:pt x="86" y="771"/>
                </a:lnTo>
                <a:lnTo>
                  <a:pt x="80" y="786"/>
                </a:lnTo>
                <a:close/>
                <a:moveTo>
                  <a:pt x="253" y="786"/>
                </a:moveTo>
                <a:lnTo>
                  <a:pt x="256" y="804"/>
                </a:lnTo>
                <a:lnTo>
                  <a:pt x="265" y="814"/>
                </a:lnTo>
                <a:lnTo>
                  <a:pt x="280" y="820"/>
                </a:lnTo>
                <a:lnTo>
                  <a:pt x="367" y="820"/>
                </a:lnTo>
                <a:lnTo>
                  <a:pt x="371" y="820"/>
                </a:lnTo>
                <a:lnTo>
                  <a:pt x="383" y="816"/>
                </a:lnTo>
                <a:lnTo>
                  <a:pt x="388" y="813"/>
                </a:lnTo>
                <a:lnTo>
                  <a:pt x="394" y="807"/>
                </a:lnTo>
                <a:lnTo>
                  <a:pt x="397" y="799"/>
                </a:lnTo>
                <a:lnTo>
                  <a:pt x="398" y="790"/>
                </a:lnTo>
                <a:lnTo>
                  <a:pt x="397" y="780"/>
                </a:lnTo>
                <a:lnTo>
                  <a:pt x="394" y="772"/>
                </a:lnTo>
                <a:lnTo>
                  <a:pt x="385" y="763"/>
                </a:lnTo>
                <a:lnTo>
                  <a:pt x="374" y="759"/>
                </a:lnTo>
                <a:lnTo>
                  <a:pt x="370" y="759"/>
                </a:lnTo>
                <a:lnTo>
                  <a:pt x="278" y="759"/>
                </a:lnTo>
                <a:lnTo>
                  <a:pt x="275" y="759"/>
                </a:lnTo>
                <a:lnTo>
                  <a:pt x="268" y="763"/>
                </a:lnTo>
                <a:lnTo>
                  <a:pt x="259" y="771"/>
                </a:lnTo>
                <a:lnTo>
                  <a:pt x="253" y="786"/>
                </a:lnTo>
                <a:close/>
                <a:moveTo>
                  <a:pt x="419" y="786"/>
                </a:moveTo>
                <a:lnTo>
                  <a:pt x="422" y="804"/>
                </a:lnTo>
                <a:lnTo>
                  <a:pt x="431" y="814"/>
                </a:lnTo>
                <a:lnTo>
                  <a:pt x="446" y="820"/>
                </a:lnTo>
                <a:lnTo>
                  <a:pt x="534" y="820"/>
                </a:lnTo>
                <a:lnTo>
                  <a:pt x="538" y="820"/>
                </a:lnTo>
                <a:lnTo>
                  <a:pt x="550" y="816"/>
                </a:lnTo>
                <a:lnTo>
                  <a:pt x="555" y="813"/>
                </a:lnTo>
                <a:lnTo>
                  <a:pt x="561" y="807"/>
                </a:lnTo>
                <a:lnTo>
                  <a:pt x="564" y="799"/>
                </a:lnTo>
                <a:lnTo>
                  <a:pt x="565" y="790"/>
                </a:lnTo>
                <a:lnTo>
                  <a:pt x="564" y="780"/>
                </a:lnTo>
                <a:lnTo>
                  <a:pt x="561" y="772"/>
                </a:lnTo>
                <a:lnTo>
                  <a:pt x="552" y="763"/>
                </a:lnTo>
                <a:lnTo>
                  <a:pt x="541" y="759"/>
                </a:lnTo>
                <a:lnTo>
                  <a:pt x="537" y="759"/>
                </a:lnTo>
                <a:lnTo>
                  <a:pt x="445" y="759"/>
                </a:lnTo>
                <a:lnTo>
                  <a:pt x="442" y="759"/>
                </a:lnTo>
                <a:lnTo>
                  <a:pt x="434" y="763"/>
                </a:lnTo>
                <a:lnTo>
                  <a:pt x="425" y="771"/>
                </a:lnTo>
                <a:lnTo>
                  <a:pt x="419" y="786"/>
                </a:lnTo>
                <a:close/>
                <a:moveTo>
                  <a:pt x="80" y="887"/>
                </a:moveTo>
                <a:lnTo>
                  <a:pt x="83" y="905"/>
                </a:lnTo>
                <a:lnTo>
                  <a:pt x="92" y="917"/>
                </a:lnTo>
                <a:lnTo>
                  <a:pt x="106" y="923"/>
                </a:lnTo>
                <a:lnTo>
                  <a:pt x="194" y="923"/>
                </a:lnTo>
                <a:lnTo>
                  <a:pt x="199" y="923"/>
                </a:lnTo>
                <a:lnTo>
                  <a:pt x="209" y="918"/>
                </a:lnTo>
                <a:lnTo>
                  <a:pt x="215" y="914"/>
                </a:lnTo>
                <a:lnTo>
                  <a:pt x="221" y="909"/>
                </a:lnTo>
                <a:lnTo>
                  <a:pt x="224" y="902"/>
                </a:lnTo>
                <a:lnTo>
                  <a:pt x="226" y="891"/>
                </a:lnTo>
                <a:lnTo>
                  <a:pt x="224" y="882"/>
                </a:lnTo>
                <a:lnTo>
                  <a:pt x="221" y="874"/>
                </a:lnTo>
                <a:lnTo>
                  <a:pt x="212" y="865"/>
                </a:lnTo>
                <a:lnTo>
                  <a:pt x="202" y="861"/>
                </a:lnTo>
                <a:lnTo>
                  <a:pt x="197" y="859"/>
                </a:lnTo>
                <a:lnTo>
                  <a:pt x="106" y="859"/>
                </a:lnTo>
                <a:lnTo>
                  <a:pt x="103" y="861"/>
                </a:lnTo>
                <a:lnTo>
                  <a:pt x="94" y="864"/>
                </a:lnTo>
                <a:lnTo>
                  <a:pt x="86" y="873"/>
                </a:lnTo>
                <a:lnTo>
                  <a:pt x="80" y="887"/>
                </a:lnTo>
                <a:close/>
                <a:moveTo>
                  <a:pt x="253" y="887"/>
                </a:moveTo>
                <a:lnTo>
                  <a:pt x="256" y="905"/>
                </a:lnTo>
                <a:lnTo>
                  <a:pt x="265" y="917"/>
                </a:lnTo>
                <a:lnTo>
                  <a:pt x="280" y="923"/>
                </a:lnTo>
                <a:lnTo>
                  <a:pt x="367" y="923"/>
                </a:lnTo>
                <a:lnTo>
                  <a:pt x="371" y="923"/>
                </a:lnTo>
                <a:lnTo>
                  <a:pt x="383" y="918"/>
                </a:lnTo>
                <a:lnTo>
                  <a:pt x="388" y="914"/>
                </a:lnTo>
                <a:lnTo>
                  <a:pt x="394" y="909"/>
                </a:lnTo>
                <a:lnTo>
                  <a:pt x="397" y="902"/>
                </a:lnTo>
                <a:lnTo>
                  <a:pt x="398" y="891"/>
                </a:lnTo>
                <a:lnTo>
                  <a:pt x="397" y="882"/>
                </a:lnTo>
                <a:lnTo>
                  <a:pt x="394" y="874"/>
                </a:lnTo>
                <a:lnTo>
                  <a:pt x="385" y="865"/>
                </a:lnTo>
                <a:lnTo>
                  <a:pt x="374" y="861"/>
                </a:lnTo>
                <a:lnTo>
                  <a:pt x="370" y="859"/>
                </a:lnTo>
                <a:lnTo>
                  <a:pt x="278" y="859"/>
                </a:lnTo>
                <a:lnTo>
                  <a:pt x="275" y="861"/>
                </a:lnTo>
                <a:lnTo>
                  <a:pt x="268" y="864"/>
                </a:lnTo>
                <a:lnTo>
                  <a:pt x="259" y="873"/>
                </a:lnTo>
                <a:lnTo>
                  <a:pt x="253" y="887"/>
                </a:lnTo>
                <a:close/>
                <a:moveTo>
                  <a:pt x="419" y="887"/>
                </a:moveTo>
                <a:lnTo>
                  <a:pt x="422" y="905"/>
                </a:lnTo>
                <a:lnTo>
                  <a:pt x="431" y="917"/>
                </a:lnTo>
                <a:lnTo>
                  <a:pt x="446" y="923"/>
                </a:lnTo>
                <a:lnTo>
                  <a:pt x="534" y="923"/>
                </a:lnTo>
                <a:lnTo>
                  <a:pt x="538" y="923"/>
                </a:lnTo>
                <a:lnTo>
                  <a:pt x="550" y="918"/>
                </a:lnTo>
                <a:lnTo>
                  <a:pt x="555" y="914"/>
                </a:lnTo>
                <a:lnTo>
                  <a:pt x="561" y="909"/>
                </a:lnTo>
                <a:lnTo>
                  <a:pt x="564" y="902"/>
                </a:lnTo>
                <a:lnTo>
                  <a:pt x="565" y="891"/>
                </a:lnTo>
                <a:lnTo>
                  <a:pt x="564" y="882"/>
                </a:lnTo>
                <a:lnTo>
                  <a:pt x="561" y="874"/>
                </a:lnTo>
                <a:lnTo>
                  <a:pt x="552" y="865"/>
                </a:lnTo>
                <a:lnTo>
                  <a:pt x="541" y="861"/>
                </a:lnTo>
                <a:lnTo>
                  <a:pt x="537" y="859"/>
                </a:lnTo>
                <a:lnTo>
                  <a:pt x="445" y="859"/>
                </a:lnTo>
                <a:lnTo>
                  <a:pt x="442" y="861"/>
                </a:lnTo>
                <a:lnTo>
                  <a:pt x="434" y="864"/>
                </a:lnTo>
                <a:lnTo>
                  <a:pt x="425" y="873"/>
                </a:lnTo>
                <a:lnTo>
                  <a:pt x="419" y="887"/>
                </a:lnTo>
                <a:close/>
                <a:moveTo>
                  <a:pt x="80" y="989"/>
                </a:moveTo>
                <a:lnTo>
                  <a:pt x="83" y="1008"/>
                </a:lnTo>
                <a:lnTo>
                  <a:pt x="92" y="1019"/>
                </a:lnTo>
                <a:lnTo>
                  <a:pt x="106" y="1025"/>
                </a:lnTo>
                <a:lnTo>
                  <a:pt x="194" y="1025"/>
                </a:lnTo>
                <a:lnTo>
                  <a:pt x="199" y="1025"/>
                </a:lnTo>
                <a:lnTo>
                  <a:pt x="209" y="1020"/>
                </a:lnTo>
                <a:lnTo>
                  <a:pt x="215" y="1016"/>
                </a:lnTo>
                <a:lnTo>
                  <a:pt x="220" y="1011"/>
                </a:lnTo>
                <a:lnTo>
                  <a:pt x="224" y="1004"/>
                </a:lnTo>
                <a:lnTo>
                  <a:pt x="226" y="993"/>
                </a:lnTo>
                <a:lnTo>
                  <a:pt x="224" y="984"/>
                </a:lnTo>
                <a:lnTo>
                  <a:pt x="221" y="977"/>
                </a:lnTo>
                <a:lnTo>
                  <a:pt x="211" y="968"/>
                </a:lnTo>
                <a:lnTo>
                  <a:pt x="202" y="963"/>
                </a:lnTo>
                <a:lnTo>
                  <a:pt x="197" y="962"/>
                </a:lnTo>
                <a:lnTo>
                  <a:pt x="106" y="963"/>
                </a:lnTo>
                <a:lnTo>
                  <a:pt x="101" y="963"/>
                </a:lnTo>
                <a:lnTo>
                  <a:pt x="94" y="966"/>
                </a:lnTo>
                <a:lnTo>
                  <a:pt x="85" y="975"/>
                </a:lnTo>
                <a:lnTo>
                  <a:pt x="80" y="989"/>
                </a:lnTo>
                <a:close/>
                <a:moveTo>
                  <a:pt x="253" y="989"/>
                </a:moveTo>
                <a:lnTo>
                  <a:pt x="256" y="1008"/>
                </a:lnTo>
                <a:lnTo>
                  <a:pt x="265" y="1019"/>
                </a:lnTo>
                <a:lnTo>
                  <a:pt x="278" y="1025"/>
                </a:lnTo>
                <a:lnTo>
                  <a:pt x="367" y="1025"/>
                </a:lnTo>
                <a:lnTo>
                  <a:pt x="371" y="1025"/>
                </a:lnTo>
                <a:lnTo>
                  <a:pt x="382" y="1020"/>
                </a:lnTo>
                <a:lnTo>
                  <a:pt x="388" y="1016"/>
                </a:lnTo>
                <a:lnTo>
                  <a:pt x="394" y="1011"/>
                </a:lnTo>
                <a:lnTo>
                  <a:pt x="397" y="1004"/>
                </a:lnTo>
                <a:lnTo>
                  <a:pt x="398" y="993"/>
                </a:lnTo>
                <a:lnTo>
                  <a:pt x="397" y="984"/>
                </a:lnTo>
                <a:lnTo>
                  <a:pt x="394" y="977"/>
                </a:lnTo>
                <a:lnTo>
                  <a:pt x="385" y="968"/>
                </a:lnTo>
                <a:lnTo>
                  <a:pt x="374" y="963"/>
                </a:lnTo>
                <a:lnTo>
                  <a:pt x="370" y="962"/>
                </a:lnTo>
                <a:lnTo>
                  <a:pt x="278" y="963"/>
                </a:lnTo>
                <a:lnTo>
                  <a:pt x="275" y="963"/>
                </a:lnTo>
                <a:lnTo>
                  <a:pt x="266" y="966"/>
                </a:lnTo>
                <a:lnTo>
                  <a:pt x="259" y="975"/>
                </a:lnTo>
                <a:lnTo>
                  <a:pt x="253" y="989"/>
                </a:lnTo>
                <a:close/>
                <a:moveTo>
                  <a:pt x="419" y="989"/>
                </a:moveTo>
                <a:lnTo>
                  <a:pt x="422" y="1008"/>
                </a:lnTo>
                <a:lnTo>
                  <a:pt x="431" y="1019"/>
                </a:lnTo>
                <a:lnTo>
                  <a:pt x="445" y="1025"/>
                </a:lnTo>
                <a:lnTo>
                  <a:pt x="534" y="1025"/>
                </a:lnTo>
                <a:lnTo>
                  <a:pt x="538" y="1025"/>
                </a:lnTo>
                <a:lnTo>
                  <a:pt x="549" y="1020"/>
                </a:lnTo>
                <a:lnTo>
                  <a:pt x="555" y="1016"/>
                </a:lnTo>
                <a:lnTo>
                  <a:pt x="561" y="1011"/>
                </a:lnTo>
                <a:lnTo>
                  <a:pt x="564" y="1004"/>
                </a:lnTo>
                <a:lnTo>
                  <a:pt x="565" y="993"/>
                </a:lnTo>
                <a:lnTo>
                  <a:pt x="564" y="984"/>
                </a:lnTo>
                <a:lnTo>
                  <a:pt x="561" y="977"/>
                </a:lnTo>
                <a:lnTo>
                  <a:pt x="552" y="968"/>
                </a:lnTo>
                <a:lnTo>
                  <a:pt x="541" y="963"/>
                </a:lnTo>
                <a:lnTo>
                  <a:pt x="537" y="962"/>
                </a:lnTo>
                <a:lnTo>
                  <a:pt x="445" y="963"/>
                </a:lnTo>
                <a:lnTo>
                  <a:pt x="442" y="963"/>
                </a:lnTo>
                <a:lnTo>
                  <a:pt x="433" y="966"/>
                </a:lnTo>
                <a:lnTo>
                  <a:pt x="425" y="975"/>
                </a:lnTo>
                <a:lnTo>
                  <a:pt x="419" y="989"/>
                </a:lnTo>
                <a:close/>
                <a:moveTo>
                  <a:pt x="281" y="595"/>
                </a:moveTo>
                <a:lnTo>
                  <a:pt x="275" y="595"/>
                </a:lnTo>
                <a:lnTo>
                  <a:pt x="262" y="601"/>
                </a:lnTo>
                <a:lnTo>
                  <a:pt x="248" y="613"/>
                </a:lnTo>
                <a:lnTo>
                  <a:pt x="244" y="623"/>
                </a:lnTo>
                <a:lnTo>
                  <a:pt x="242" y="635"/>
                </a:lnTo>
                <a:lnTo>
                  <a:pt x="244" y="649"/>
                </a:lnTo>
                <a:lnTo>
                  <a:pt x="248" y="659"/>
                </a:lnTo>
                <a:lnTo>
                  <a:pt x="254" y="667"/>
                </a:lnTo>
                <a:lnTo>
                  <a:pt x="262" y="671"/>
                </a:lnTo>
                <a:lnTo>
                  <a:pt x="275" y="677"/>
                </a:lnTo>
                <a:lnTo>
                  <a:pt x="281" y="679"/>
                </a:lnTo>
                <a:lnTo>
                  <a:pt x="371" y="679"/>
                </a:lnTo>
                <a:lnTo>
                  <a:pt x="377" y="677"/>
                </a:lnTo>
                <a:lnTo>
                  <a:pt x="391" y="671"/>
                </a:lnTo>
                <a:lnTo>
                  <a:pt x="403" y="659"/>
                </a:lnTo>
                <a:lnTo>
                  <a:pt x="407" y="649"/>
                </a:lnTo>
                <a:lnTo>
                  <a:pt x="409" y="637"/>
                </a:lnTo>
                <a:lnTo>
                  <a:pt x="407" y="623"/>
                </a:lnTo>
                <a:lnTo>
                  <a:pt x="403" y="614"/>
                </a:lnTo>
                <a:lnTo>
                  <a:pt x="397" y="607"/>
                </a:lnTo>
                <a:lnTo>
                  <a:pt x="389" y="601"/>
                </a:lnTo>
                <a:lnTo>
                  <a:pt x="377" y="595"/>
                </a:lnTo>
                <a:lnTo>
                  <a:pt x="371" y="595"/>
                </a:lnTo>
                <a:lnTo>
                  <a:pt x="281" y="595"/>
                </a:lnTo>
                <a:close/>
                <a:moveTo>
                  <a:pt x="80" y="1091"/>
                </a:moveTo>
                <a:lnTo>
                  <a:pt x="83" y="1111"/>
                </a:lnTo>
                <a:lnTo>
                  <a:pt x="92" y="1121"/>
                </a:lnTo>
                <a:lnTo>
                  <a:pt x="106" y="1127"/>
                </a:lnTo>
                <a:lnTo>
                  <a:pt x="194" y="1127"/>
                </a:lnTo>
                <a:lnTo>
                  <a:pt x="199" y="1127"/>
                </a:lnTo>
                <a:lnTo>
                  <a:pt x="209" y="1123"/>
                </a:lnTo>
                <a:lnTo>
                  <a:pt x="215" y="1118"/>
                </a:lnTo>
                <a:lnTo>
                  <a:pt x="220" y="1114"/>
                </a:lnTo>
                <a:lnTo>
                  <a:pt x="224" y="1106"/>
                </a:lnTo>
                <a:lnTo>
                  <a:pt x="226" y="1096"/>
                </a:lnTo>
                <a:lnTo>
                  <a:pt x="224" y="1087"/>
                </a:lnTo>
                <a:lnTo>
                  <a:pt x="221" y="1079"/>
                </a:lnTo>
                <a:lnTo>
                  <a:pt x="211" y="1070"/>
                </a:lnTo>
                <a:lnTo>
                  <a:pt x="202" y="1066"/>
                </a:lnTo>
                <a:lnTo>
                  <a:pt x="197" y="1064"/>
                </a:lnTo>
                <a:lnTo>
                  <a:pt x="106" y="1066"/>
                </a:lnTo>
                <a:lnTo>
                  <a:pt x="101" y="1066"/>
                </a:lnTo>
                <a:lnTo>
                  <a:pt x="94" y="1069"/>
                </a:lnTo>
                <a:lnTo>
                  <a:pt x="85" y="1078"/>
                </a:lnTo>
                <a:lnTo>
                  <a:pt x="80" y="1091"/>
                </a:lnTo>
                <a:close/>
                <a:moveTo>
                  <a:pt x="253" y="1091"/>
                </a:moveTo>
                <a:lnTo>
                  <a:pt x="256" y="1111"/>
                </a:lnTo>
                <a:lnTo>
                  <a:pt x="265" y="1121"/>
                </a:lnTo>
                <a:lnTo>
                  <a:pt x="278" y="1127"/>
                </a:lnTo>
                <a:lnTo>
                  <a:pt x="367" y="1127"/>
                </a:lnTo>
                <a:lnTo>
                  <a:pt x="371" y="1127"/>
                </a:lnTo>
                <a:lnTo>
                  <a:pt x="382" y="1123"/>
                </a:lnTo>
                <a:lnTo>
                  <a:pt x="388" y="1118"/>
                </a:lnTo>
                <a:lnTo>
                  <a:pt x="394" y="1114"/>
                </a:lnTo>
                <a:lnTo>
                  <a:pt x="397" y="1106"/>
                </a:lnTo>
                <a:lnTo>
                  <a:pt x="398" y="1096"/>
                </a:lnTo>
                <a:lnTo>
                  <a:pt x="397" y="1087"/>
                </a:lnTo>
                <a:lnTo>
                  <a:pt x="394" y="1079"/>
                </a:lnTo>
                <a:lnTo>
                  <a:pt x="385" y="1070"/>
                </a:lnTo>
                <a:lnTo>
                  <a:pt x="374" y="1066"/>
                </a:lnTo>
                <a:lnTo>
                  <a:pt x="370" y="1064"/>
                </a:lnTo>
                <a:lnTo>
                  <a:pt x="278" y="1066"/>
                </a:lnTo>
                <a:lnTo>
                  <a:pt x="275" y="1066"/>
                </a:lnTo>
                <a:lnTo>
                  <a:pt x="266" y="1069"/>
                </a:lnTo>
                <a:lnTo>
                  <a:pt x="259" y="1078"/>
                </a:lnTo>
                <a:lnTo>
                  <a:pt x="253" y="1091"/>
                </a:lnTo>
                <a:close/>
                <a:moveTo>
                  <a:pt x="419" y="1091"/>
                </a:moveTo>
                <a:lnTo>
                  <a:pt x="422" y="1111"/>
                </a:lnTo>
                <a:lnTo>
                  <a:pt x="431" y="1121"/>
                </a:lnTo>
                <a:lnTo>
                  <a:pt x="445" y="1127"/>
                </a:lnTo>
                <a:lnTo>
                  <a:pt x="534" y="1127"/>
                </a:lnTo>
                <a:lnTo>
                  <a:pt x="538" y="1127"/>
                </a:lnTo>
                <a:lnTo>
                  <a:pt x="549" y="1123"/>
                </a:lnTo>
                <a:lnTo>
                  <a:pt x="555" y="1118"/>
                </a:lnTo>
                <a:lnTo>
                  <a:pt x="561" y="1114"/>
                </a:lnTo>
                <a:lnTo>
                  <a:pt x="564" y="1106"/>
                </a:lnTo>
                <a:lnTo>
                  <a:pt x="565" y="1096"/>
                </a:lnTo>
                <a:lnTo>
                  <a:pt x="564" y="1087"/>
                </a:lnTo>
                <a:lnTo>
                  <a:pt x="561" y="1079"/>
                </a:lnTo>
                <a:lnTo>
                  <a:pt x="552" y="1070"/>
                </a:lnTo>
                <a:lnTo>
                  <a:pt x="541" y="1066"/>
                </a:lnTo>
                <a:lnTo>
                  <a:pt x="537" y="1064"/>
                </a:lnTo>
                <a:lnTo>
                  <a:pt x="445" y="1066"/>
                </a:lnTo>
                <a:lnTo>
                  <a:pt x="442" y="1066"/>
                </a:lnTo>
                <a:lnTo>
                  <a:pt x="433" y="1069"/>
                </a:lnTo>
                <a:lnTo>
                  <a:pt x="425" y="1078"/>
                </a:lnTo>
                <a:lnTo>
                  <a:pt x="419" y="1091"/>
                </a:lnTo>
                <a:close/>
                <a:moveTo>
                  <a:pt x="233" y="0"/>
                </a:moveTo>
                <a:lnTo>
                  <a:pt x="412" y="0"/>
                </a:lnTo>
                <a:lnTo>
                  <a:pt x="427" y="2"/>
                </a:lnTo>
                <a:lnTo>
                  <a:pt x="464" y="9"/>
                </a:lnTo>
                <a:lnTo>
                  <a:pt x="487" y="15"/>
                </a:lnTo>
                <a:lnTo>
                  <a:pt x="513" y="26"/>
                </a:lnTo>
                <a:lnTo>
                  <a:pt x="535" y="38"/>
                </a:lnTo>
                <a:lnTo>
                  <a:pt x="558" y="55"/>
                </a:lnTo>
                <a:lnTo>
                  <a:pt x="576" y="74"/>
                </a:lnTo>
                <a:lnTo>
                  <a:pt x="591" y="92"/>
                </a:lnTo>
                <a:lnTo>
                  <a:pt x="604" y="112"/>
                </a:lnTo>
                <a:lnTo>
                  <a:pt x="616" y="131"/>
                </a:lnTo>
                <a:lnTo>
                  <a:pt x="625" y="152"/>
                </a:lnTo>
                <a:lnTo>
                  <a:pt x="633" y="176"/>
                </a:lnTo>
                <a:lnTo>
                  <a:pt x="637" y="200"/>
                </a:lnTo>
                <a:lnTo>
                  <a:pt x="642" y="229"/>
                </a:lnTo>
                <a:lnTo>
                  <a:pt x="642" y="1094"/>
                </a:lnTo>
                <a:lnTo>
                  <a:pt x="640" y="1111"/>
                </a:lnTo>
                <a:lnTo>
                  <a:pt x="633" y="1150"/>
                </a:lnTo>
                <a:lnTo>
                  <a:pt x="624" y="1174"/>
                </a:lnTo>
                <a:lnTo>
                  <a:pt x="612" y="1199"/>
                </a:lnTo>
                <a:lnTo>
                  <a:pt x="595" y="1224"/>
                </a:lnTo>
                <a:lnTo>
                  <a:pt x="576" y="1246"/>
                </a:lnTo>
                <a:lnTo>
                  <a:pt x="532" y="1281"/>
                </a:lnTo>
                <a:lnTo>
                  <a:pt x="513" y="1293"/>
                </a:lnTo>
                <a:lnTo>
                  <a:pt x="495" y="1302"/>
                </a:lnTo>
                <a:lnTo>
                  <a:pt x="475" y="1309"/>
                </a:lnTo>
                <a:lnTo>
                  <a:pt x="457" y="1314"/>
                </a:lnTo>
                <a:lnTo>
                  <a:pt x="437" y="1317"/>
                </a:lnTo>
                <a:lnTo>
                  <a:pt x="416" y="1318"/>
                </a:lnTo>
                <a:lnTo>
                  <a:pt x="211" y="1318"/>
                </a:lnTo>
                <a:lnTo>
                  <a:pt x="197" y="1317"/>
                </a:lnTo>
                <a:lnTo>
                  <a:pt x="163" y="1308"/>
                </a:lnTo>
                <a:lnTo>
                  <a:pt x="140" y="1299"/>
                </a:lnTo>
                <a:lnTo>
                  <a:pt x="115" y="1285"/>
                </a:lnTo>
                <a:lnTo>
                  <a:pt x="89" y="1267"/>
                </a:lnTo>
                <a:lnTo>
                  <a:pt x="65" y="1243"/>
                </a:lnTo>
                <a:lnTo>
                  <a:pt x="43" y="1216"/>
                </a:lnTo>
                <a:lnTo>
                  <a:pt x="26" y="1189"/>
                </a:lnTo>
                <a:lnTo>
                  <a:pt x="8" y="1141"/>
                </a:lnTo>
                <a:lnTo>
                  <a:pt x="3" y="1120"/>
                </a:lnTo>
                <a:lnTo>
                  <a:pt x="2" y="1103"/>
                </a:lnTo>
                <a:lnTo>
                  <a:pt x="0" y="1084"/>
                </a:lnTo>
                <a:lnTo>
                  <a:pt x="0" y="235"/>
                </a:lnTo>
                <a:lnTo>
                  <a:pt x="0" y="220"/>
                </a:lnTo>
                <a:lnTo>
                  <a:pt x="8" y="181"/>
                </a:lnTo>
                <a:lnTo>
                  <a:pt x="15" y="155"/>
                </a:lnTo>
                <a:lnTo>
                  <a:pt x="29" y="127"/>
                </a:lnTo>
                <a:lnTo>
                  <a:pt x="47" y="98"/>
                </a:lnTo>
                <a:lnTo>
                  <a:pt x="59" y="83"/>
                </a:lnTo>
                <a:lnTo>
                  <a:pt x="73" y="68"/>
                </a:lnTo>
                <a:lnTo>
                  <a:pt x="88" y="55"/>
                </a:lnTo>
                <a:lnTo>
                  <a:pt x="103" y="44"/>
                </a:lnTo>
                <a:lnTo>
                  <a:pt x="131" y="26"/>
                </a:lnTo>
                <a:lnTo>
                  <a:pt x="158" y="14"/>
                </a:lnTo>
                <a:lnTo>
                  <a:pt x="182" y="6"/>
                </a:lnTo>
                <a:lnTo>
                  <a:pt x="220" y="0"/>
                </a:lnTo>
                <a:lnTo>
                  <a:pt x="23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266840" y="1496880"/>
            <a:ext cx="139680" cy="300240"/>
          </a:xfrm>
          <a:custGeom>
            <a:avLst/>
            <a:gdLst>
              <a:gd name="textAreaLeft" fmla="*/ 15480 w 139680"/>
              <a:gd name="textAreaRight" fmla="*/ 124200 w 139680"/>
              <a:gd name="textAreaTop" fmla="*/ 15480 h 300240"/>
              <a:gd name="textAreaBottom" fmla="*/ 284760 h 300240"/>
            </a:gdLst>
            <a:ahLst/>
            <a:rect l="textAreaLeft" t="textAreaTop" r="textAreaRight" b="textAreaBottom"/>
            <a:pathLst>
              <a:path w="21600" h="46365">
                <a:moveTo>
                  <a:pt x="8209" y="0"/>
                </a:moveTo>
                <a:arcTo wR="8209" hR="8209" stAng="16200000" swAng="-5400000"/>
                <a:lnTo>
                  <a:pt x="0" y="38156"/>
                </a:lnTo>
                <a:arcTo wR="8209" hR="8209" stAng="10800000" swAng="-5400000"/>
                <a:lnTo>
                  <a:pt x="13391" y="46365"/>
                </a:lnTo>
                <a:arcTo wR="8209" hR="8209" stAng="5400000" swAng="-5400000"/>
                <a:lnTo>
                  <a:pt x="21600" y="8209"/>
                </a:lnTo>
                <a:arcTo wR="8209" hR="8209" stAng="0" swAng="-5400000"/>
                <a:close/>
              </a:path>
            </a:pathLst>
          </a:custGeom>
          <a:solidFill>
            <a:srgbClr val="426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281240" y="1504800"/>
            <a:ext cx="139680" cy="284400"/>
          </a:xfrm>
          <a:custGeom>
            <a:avLst/>
            <a:gdLst/>
            <a:ahLst/>
            <a:rect l="l" t="t" r="r" b="b"/>
            <a:pathLst>
              <a:path w="641" h="1318">
                <a:moveTo>
                  <a:pt x="84" y="176"/>
                </a:moveTo>
                <a:lnTo>
                  <a:pt x="84" y="446"/>
                </a:lnTo>
                <a:lnTo>
                  <a:pt x="557" y="446"/>
                </a:lnTo>
                <a:lnTo>
                  <a:pt x="557" y="175"/>
                </a:lnTo>
                <a:lnTo>
                  <a:pt x="84" y="176"/>
                </a:lnTo>
                <a:close/>
                <a:moveTo>
                  <a:pt x="90" y="587"/>
                </a:moveTo>
                <a:lnTo>
                  <a:pt x="86" y="596"/>
                </a:lnTo>
                <a:lnTo>
                  <a:pt x="84" y="605"/>
                </a:lnTo>
                <a:lnTo>
                  <a:pt x="87" y="619"/>
                </a:lnTo>
                <a:lnTo>
                  <a:pt x="93" y="628"/>
                </a:lnTo>
                <a:lnTo>
                  <a:pt x="96" y="631"/>
                </a:lnTo>
                <a:lnTo>
                  <a:pt x="172" y="676"/>
                </a:lnTo>
                <a:lnTo>
                  <a:pt x="187" y="680"/>
                </a:lnTo>
                <a:lnTo>
                  <a:pt x="199" y="677"/>
                </a:lnTo>
                <a:lnTo>
                  <a:pt x="206" y="674"/>
                </a:lnTo>
                <a:lnTo>
                  <a:pt x="212" y="668"/>
                </a:lnTo>
                <a:lnTo>
                  <a:pt x="218" y="659"/>
                </a:lnTo>
                <a:lnTo>
                  <a:pt x="220" y="650"/>
                </a:lnTo>
                <a:lnTo>
                  <a:pt x="217" y="637"/>
                </a:lnTo>
                <a:lnTo>
                  <a:pt x="206" y="623"/>
                </a:lnTo>
                <a:lnTo>
                  <a:pt x="126" y="577"/>
                </a:lnTo>
                <a:lnTo>
                  <a:pt x="114" y="575"/>
                </a:lnTo>
                <a:lnTo>
                  <a:pt x="102" y="578"/>
                </a:lnTo>
                <a:lnTo>
                  <a:pt x="90" y="587"/>
                </a:lnTo>
                <a:close/>
                <a:moveTo>
                  <a:pt x="557" y="587"/>
                </a:moveTo>
                <a:lnTo>
                  <a:pt x="545" y="578"/>
                </a:lnTo>
                <a:lnTo>
                  <a:pt x="533" y="575"/>
                </a:lnTo>
                <a:lnTo>
                  <a:pt x="521" y="577"/>
                </a:lnTo>
                <a:lnTo>
                  <a:pt x="442" y="623"/>
                </a:lnTo>
                <a:lnTo>
                  <a:pt x="437" y="626"/>
                </a:lnTo>
                <a:lnTo>
                  <a:pt x="431" y="637"/>
                </a:lnTo>
                <a:lnTo>
                  <a:pt x="428" y="650"/>
                </a:lnTo>
                <a:lnTo>
                  <a:pt x="430" y="659"/>
                </a:lnTo>
                <a:lnTo>
                  <a:pt x="436" y="668"/>
                </a:lnTo>
                <a:lnTo>
                  <a:pt x="442" y="674"/>
                </a:lnTo>
                <a:lnTo>
                  <a:pt x="449" y="677"/>
                </a:lnTo>
                <a:lnTo>
                  <a:pt x="461" y="680"/>
                </a:lnTo>
                <a:lnTo>
                  <a:pt x="472" y="677"/>
                </a:lnTo>
                <a:lnTo>
                  <a:pt x="476" y="676"/>
                </a:lnTo>
                <a:lnTo>
                  <a:pt x="551" y="631"/>
                </a:lnTo>
                <a:lnTo>
                  <a:pt x="554" y="628"/>
                </a:lnTo>
                <a:lnTo>
                  <a:pt x="560" y="619"/>
                </a:lnTo>
                <a:lnTo>
                  <a:pt x="563" y="605"/>
                </a:lnTo>
                <a:lnTo>
                  <a:pt x="562" y="596"/>
                </a:lnTo>
                <a:lnTo>
                  <a:pt x="557" y="587"/>
                </a:lnTo>
                <a:close/>
                <a:moveTo>
                  <a:pt x="80" y="786"/>
                </a:moveTo>
                <a:lnTo>
                  <a:pt x="83" y="804"/>
                </a:lnTo>
                <a:lnTo>
                  <a:pt x="92" y="814"/>
                </a:lnTo>
                <a:lnTo>
                  <a:pt x="105" y="820"/>
                </a:lnTo>
                <a:lnTo>
                  <a:pt x="194" y="820"/>
                </a:lnTo>
                <a:lnTo>
                  <a:pt x="199" y="820"/>
                </a:lnTo>
                <a:lnTo>
                  <a:pt x="209" y="816"/>
                </a:lnTo>
                <a:lnTo>
                  <a:pt x="215" y="813"/>
                </a:lnTo>
                <a:lnTo>
                  <a:pt x="220" y="807"/>
                </a:lnTo>
                <a:lnTo>
                  <a:pt x="224" y="799"/>
                </a:lnTo>
                <a:lnTo>
                  <a:pt x="226" y="790"/>
                </a:lnTo>
                <a:lnTo>
                  <a:pt x="224" y="780"/>
                </a:lnTo>
                <a:lnTo>
                  <a:pt x="221" y="772"/>
                </a:lnTo>
                <a:lnTo>
                  <a:pt x="211" y="763"/>
                </a:lnTo>
                <a:lnTo>
                  <a:pt x="202" y="759"/>
                </a:lnTo>
                <a:lnTo>
                  <a:pt x="197" y="759"/>
                </a:lnTo>
                <a:lnTo>
                  <a:pt x="105" y="759"/>
                </a:lnTo>
                <a:lnTo>
                  <a:pt x="101" y="759"/>
                </a:lnTo>
                <a:lnTo>
                  <a:pt x="93" y="763"/>
                </a:lnTo>
                <a:lnTo>
                  <a:pt x="86" y="771"/>
                </a:lnTo>
                <a:lnTo>
                  <a:pt x="80" y="786"/>
                </a:lnTo>
                <a:close/>
                <a:moveTo>
                  <a:pt x="253" y="786"/>
                </a:moveTo>
                <a:lnTo>
                  <a:pt x="256" y="804"/>
                </a:lnTo>
                <a:lnTo>
                  <a:pt x="265" y="814"/>
                </a:lnTo>
                <a:lnTo>
                  <a:pt x="278" y="820"/>
                </a:lnTo>
                <a:lnTo>
                  <a:pt x="367" y="820"/>
                </a:lnTo>
                <a:lnTo>
                  <a:pt x="371" y="820"/>
                </a:lnTo>
                <a:lnTo>
                  <a:pt x="382" y="816"/>
                </a:lnTo>
                <a:lnTo>
                  <a:pt x="388" y="813"/>
                </a:lnTo>
                <a:lnTo>
                  <a:pt x="394" y="807"/>
                </a:lnTo>
                <a:lnTo>
                  <a:pt x="397" y="799"/>
                </a:lnTo>
                <a:lnTo>
                  <a:pt x="398" y="790"/>
                </a:lnTo>
                <a:lnTo>
                  <a:pt x="397" y="780"/>
                </a:lnTo>
                <a:lnTo>
                  <a:pt x="394" y="772"/>
                </a:lnTo>
                <a:lnTo>
                  <a:pt x="385" y="763"/>
                </a:lnTo>
                <a:lnTo>
                  <a:pt x="374" y="759"/>
                </a:lnTo>
                <a:lnTo>
                  <a:pt x="370" y="759"/>
                </a:lnTo>
                <a:lnTo>
                  <a:pt x="278" y="759"/>
                </a:lnTo>
                <a:lnTo>
                  <a:pt x="275" y="759"/>
                </a:lnTo>
                <a:lnTo>
                  <a:pt x="266" y="763"/>
                </a:lnTo>
                <a:lnTo>
                  <a:pt x="259" y="771"/>
                </a:lnTo>
                <a:lnTo>
                  <a:pt x="253" y="786"/>
                </a:lnTo>
                <a:close/>
                <a:moveTo>
                  <a:pt x="419" y="786"/>
                </a:moveTo>
                <a:lnTo>
                  <a:pt x="422" y="804"/>
                </a:lnTo>
                <a:lnTo>
                  <a:pt x="431" y="814"/>
                </a:lnTo>
                <a:lnTo>
                  <a:pt x="445" y="820"/>
                </a:lnTo>
                <a:lnTo>
                  <a:pt x="533" y="820"/>
                </a:lnTo>
                <a:lnTo>
                  <a:pt x="538" y="820"/>
                </a:lnTo>
                <a:lnTo>
                  <a:pt x="548" y="816"/>
                </a:lnTo>
                <a:lnTo>
                  <a:pt x="554" y="813"/>
                </a:lnTo>
                <a:lnTo>
                  <a:pt x="560" y="807"/>
                </a:lnTo>
                <a:lnTo>
                  <a:pt x="563" y="799"/>
                </a:lnTo>
                <a:lnTo>
                  <a:pt x="565" y="790"/>
                </a:lnTo>
                <a:lnTo>
                  <a:pt x="563" y="780"/>
                </a:lnTo>
                <a:lnTo>
                  <a:pt x="560" y="772"/>
                </a:lnTo>
                <a:lnTo>
                  <a:pt x="551" y="763"/>
                </a:lnTo>
                <a:lnTo>
                  <a:pt x="541" y="759"/>
                </a:lnTo>
                <a:lnTo>
                  <a:pt x="536" y="759"/>
                </a:lnTo>
                <a:lnTo>
                  <a:pt x="445" y="759"/>
                </a:lnTo>
                <a:lnTo>
                  <a:pt x="442" y="759"/>
                </a:lnTo>
                <a:lnTo>
                  <a:pt x="433" y="763"/>
                </a:lnTo>
                <a:lnTo>
                  <a:pt x="425" y="771"/>
                </a:lnTo>
                <a:lnTo>
                  <a:pt x="419" y="786"/>
                </a:lnTo>
                <a:close/>
                <a:moveTo>
                  <a:pt x="80" y="887"/>
                </a:moveTo>
                <a:lnTo>
                  <a:pt x="83" y="905"/>
                </a:lnTo>
                <a:lnTo>
                  <a:pt x="92" y="917"/>
                </a:lnTo>
                <a:lnTo>
                  <a:pt x="105" y="923"/>
                </a:lnTo>
                <a:lnTo>
                  <a:pt x="194" y="923"/>
                </a:lnTo>
                <a:lnTo>
                  <a:pt x="199" y="923"/>
                </a:lnTo>
                <a:lnTo>
                  <a:pt x="209" y="918"/>
                </a:lnTo>
                <a:lnTo>
                  <a:pt x="215" y="914"/>
                </a:lnTo>
                <a:lnTo>
                  <a:pt x="220" y="909"/>
                </a:lnTo>
                <a:lnTo>
                  <a:pt x="224" y="902"/>
                </a:lnTo>
                <a:lnTo>
                  <a:pt x="226" y="891"/>
                </a:lnTo>
                <a:lnTo>
                  <a:pt x="224" y="882"/>
                </a:lnTo>
                <a:lnTo>
                  <a:pt x="221" y="874"/>
                </a:lnTo>
                <a:lnTo>
                  <a:pt x="211" y="865"/>
                </a:lnTo>
                <a:lnTo>
                  <a:pt x="202" y="861"/>
                </a:lnTo>
                <a:lnTo>
                  <a:pt x="197" y="859"/>
                </a:lnTo>
                <a:lnTo>
                  <a:pt x="105" y="859"/>
                </a:lnTo>
                <a:lnTo>
                  <a:pt x="101" y="861"/>
                </a:lnTo>
                <a:lnTo>
                  <a:pt x="93" y="864"/>
                </a:lnTo>
                <a:lnTo>
                  <a:pt x="86" y="873"/>
                </a:lnTo>
                <a:lnTo>
                  <a:pt x="80" y="887"/>
                </a:lnTo>
                <a:close/>
                <a:moveTo>
                  <a:pt x="253" y="887"/>
                </a:moveTo>
                <a:lnTo>
                  <a:pt x="256" y="905"/>
                </a:lnTo>
                <a:lnTo>
                  <a:pt x="265" y="917"/>
                </a:lnTo>
                <a:lnTo>
                  <a:pt x="278" y="923"/>
                </a:lnTo>
                <a:lnTo>
                  <a:pt x="367" y="923"/>
                </a:lnTo>
                <a:lnTo>
                  <a:pt x="371" y="923"/>
                </a:lnTo>
                <a:lnTo>
                  <a:pt x="382" y="918"/>
                </a:lnTo>
                <a:lnTo>
                  <a:pt x="388" y="914"/>
                </a:lnTo>
                <a:lnTo>
                  <a:pt x="394" y="909"/>
                </a:lnTo>
                <a:lnTo>
                  <a:pt x="397" y="902"/>
                </a:lnTo>
                <a:lnTo>
                  <a:pt x="398" y="891"/>
                </a:lnTo>
                <a:lnTo>
                  <a:pt x="397" y="882"/>
                </a:lnTo>
                <a:lnTo>
                  <a:pt x="394" y="874"/>
                </a:lnTo>
                <a:lnTo>
                  <a:pt x="385" y="865"/>
                </a:lnTo>
                <a:lnTo>
                  <a:pt x="374" y="861"/>
                </a:lnTo>
                <a:lnTo>
                  <a:pt x="370" y="859"/>
                </a:lnTo>
                <a:lnTo>
                  <a:pt x="278" y="859"/>
                </a:lnTo>
                <a:lnTo>
                  <a:pt x="275" y="861"/>
                </a:lnTo>
                <a:lnTo>
                  <a:pt x="266" y="864"/>
                </a:lnTo>
                <a:lnTo>
                  <a:pt x="259" y="873"/>
                </a:lnTo>
                <a:lnTo>
                  <a:pt x="253" y="887"/>
                </a:lnTo>
                <a:close/>
                <a:moveTo>
                  <a:pt x="419" y="887"/>
                </a:moveTo>
                <a:lnTo>
                  <a:pt x="422" y="905"/>
                </a:lnTo>
                <a:lnTo>
                  <a:pt x="431" y="917"/>
                </a:lnTo>
                <a:lnTo>
                  <a:pt x="445" y="923"/>
                </a:lnTo>
                <a:lnTo>
                  <a:pt x="533" y="923"/>
                </a:lnTo>
                <a:lnTo>
                  <a:pt x="538" y="923"/>
                </a:lnTo>
                <a:lnTo>
                  <a:pt x="548" y="918"/>
                </a:lnTo>
                <a:lnTo>
                  <a:pt x="554" y="914"/>
                </a:lnTo>
                <a:lnTo>
                  <a:pt x="560" y="909"/>
                </a:lnTo>
                <a:lnTo>
                  <a:pt x="563" y="902"/>
                </a:lnTo>
                <a:lnTo>
                  <a:pt x="565" y="891"/>
                </a:lnTo>
                <a:lnTo>
                  <a:pt x="563" y="882"/>
                </a:lnTo>
                <a:lnTo>
                  <a:pt x="560" y="874"/>
                </a:lnTo>
                <a:lnTo>
                  <a:pt x="551" y="865"/>
                </a:lnTo>
                <a:lnTo>
                  <a:pt x="541" y="861"/>
                </a:lnTo>
                <a:lnTo>
                  <a:pt x="536" y="859"/>
                </a:lnTo>
                <a:lnTo>
                  <a:pt x="445" y="859"/>
                </a:lnTo>
                <a:lnTo>
                  <a:pt x="442" y="861"/>
                </a:lnTo>
                <a:lnTo>
                  <a:pt x="433" y="864"/>
                </a:lnTo>
                <a:lnTo>
                  <a:pt x="425" y="873"/>
                </a:lnTo>
                <a:lnTo>
                  <a:pt x="419" y="887"/>
                </a:lnTo>
                <a:close/>
                <a:moveTo>
                  <a:pt x="80" y="989"/>
                </a:moveTo>
                <a:lnTo>
                  <a:pt x="83" y="1008"/>
                </a:lnTo>
                <a:lnTo>
                  <a:pt x="92" y="1019"/>
                </a:lnTo>
                <a:lnTo>
                  <a:pt x="105" y="1025"/>
                </a:lnTo>
                <a:lnTo>
                  <a:pt x="194" y="1025"/>
                </a:lnTo>
                <a:lnTo>
                  <a:pt x="199" y="1025"/>
                </a:lnTo>
                <a:lnTo>
                  <a:pt x="209" y="1020"/>
                </a:lnTo>
                <a:lnTo>
                  <a:pt x="215" y="1016"/>
                </a:lnTo>
                <a:lnTo>
                  <a:pt x="220" y="1011"/>
                </a:lnTo>
                <a:lnTo>
                  <a:pt x="224" y="1004"/>
                </a:lnTo>
                <a:lnTo>
                  <a:pt x="226" y="993"/>
                </a:lnTo>
                <a:lnTo>
                  <a:pt x="224" y="984"/>
                </a:lnTo>
                <a:lnTo>
                  <a:pt x="221" y="977"/>
                </a:lnTo>
                <a:lnTo>
                  <a:pt x="211" y="968"/>
                </a:lnTo>
                <a:lnTo>
                  <a:pt x="202" y="963"/>
                </a:lnTo>
                <a:lnTo>
                  <a:pt x="197" y="962"/>
                </a:lnTo>
                <a:lnTo>
                  <a:pt x="104" y="963"/>
                </a:lnTo>
                <a:lnTo>
                  <a:pt x="101" y="963"/>
                </a:lnTo>
                <a:lnTo>
                  <a:pt x="93" y="966"/>
                </a:lnTo>
                <a:lnTo>
                  <a:pt x="84" y="975"/>
                </a:lnTo>
                <a:lnTo>
                  <a:pt x="80" y="989"/>
                </a:lnTo>
                <a:close/>
                <a:moveTo>
                  <a:pt x="253" y="989"/>
                </a:moveTo>
                <a:lnTo>
                  <a:pt x="256" y="1008"/>
                </a:lnTo>
                <a:lnTo>
                  <a:pt x="265" y="1019"/>
                </a:lnTo>
                <a:lnTo>
                  <a:pt x="278" y="1025"/>
                </a:lnTo>
                <a:lnTo>
                  <a:pt x="367" y="1025"/>
                </a:lnTo>
                <a:lnTo>
                  <a:pt x="371" y="1025"/>
                </a:lnTo>
                <a:lnTo>
                  <a:pt x="382" y="1020"/>
                </a:lnTo>
                <a:lnTo>
                  <a:pt x="388" y="1016"/>
                </a:lnTo>
                <a:lnTo>
                  <a:pt x="392" y="1011"/>
                </a:lnTo>
                <a:lnTo>
                  <a:pt x="397" y="1004"/>
                </a:lnTo>
                <a:lnTo>
                  <a:pt x="398" y="993"/>
                </a:lnTo>
                <a:lnTo>
                  <a:pt x="397" y="984"/>
                </a:lnTo>
                <a:lnTo>
                  <a:pt x="394" y="977"/>
                </a:lnTo>
                <a:lnTo>
                  <a:pt x="383" y="968"/>
                </a:lnTo>
                <a:lnTo>
                  <a:pt x="374" y="963"/>
                </a:lnTo>
                <a:lnTo>
                  <a:pt x="370" y="962"/>
                </a:lnTo>
                <a:lnTo>
                  <a:pt x="278" y="963"/>
                </a:lnTo>
                <a:lnTo>
                  <a:pt x="274" y="963"/>
                </a:lnTo>
                <a:lnTo>
                  <a:pt x="266" y="966"/>
                </a:lnTo>
                <a:lnTo>
                  <a:pt x="257" y="975"/>
                </a:lnTo>
                <a:lnTo>
                  <a:pt x="253" y="989"/>
                </a:lnTo>
                <a:close/>
                <a:moveTo>
                  <a:pt x="419" y="989"/>
                </a:moveTo>
                <a:lnTo>
                  <a:pt x="422" y="1008"/>
                </a:lnTo>
                <a:lnTo>
                  <a:pt x="431" y="1019"/>
                </a:lnTo>
                <a:lnTo>
                  <a:pt x="445" y="1025"/>
                </a:lnTo>
                <a:lnTo>
                  <a:pt x="533" y="1025"/>
                </a:lnTo>
                <a:lnTo>
                  <a:pt x="538" y="1025"/>
                </a:lnTo>
                <a:lnTo>
                  <a:pt x="548" y="1020"/>
                </a:lnTo>
                <a:lnTo>
                  <a:pt x="554" y="1016"/>
                </a:lnTo>
                <a:lnTo>
                  <a:pt x="559" y="1011"/>
                </a:lnTo>
                <a:lnTo>
                  <a:pt x="563" y="1004"/>
                </a:lnTo>
                <a:lnTo>
                  <a:pt x="565" y="993"/>
                </a:lnTo>
                <a:lnTo>
                  <a:pt x="563" y="984"/>
                </a:lnTo>
                <a:lnTo>
                  <a:pt x="560" y="977"/>
                </a:lnTo>
                <a:lnTo>
                  <a:pt x="550" y="968"/>
                </a:lnTo>
                <a:lnTo>
                  <a:pt x="541" y="963"/>
                </a:lnTo>
                <a:lnTo>
                  <a:pt x="536" y="962"/>
                </a:lnTo>
                <a:lnTo>
                  <a:pt x="445" y="963"/>
                </a:lnTo>
                <a:lnTo>
                  <a:pt x="440" y="963"/>
                </a:lnTo>
                <a:lnTo>
                  <a:pt x="433" y="966"/>
                </a:lnTo>
                <a:lnTo>
                  <a:pt x="424" y="975"/>
                </a:lnTo>
                <a:lnTo>
                  <a:pt x="419" y="989"/>
                </a:lnTo>
                <a:close/>
                <a:moveTo>
                  <a:pt x="80" y="1091"/>
                </a:moveTo>
                <a:lnTo>
                  <a:pt x="83" y="1111"/>
                </a:lnTo>
                <a:lnTo>
                  <a:pt x="92" y="1121"/>
                </a:lnTo>
                <a:lnTo>
                  <a:pt x="105" y="1127"/>
                </a:lnTo>
                <a:lnTo>
                  <a:pt x="194" y="1127"/>
                </a:lnTo>
                <a:lnTo>
                  <a:pt x="199" y="1127"/>
                </a:lnTo>
                <a:lnTo>
                  <a:pt x="209" y="1123"/>
                </a:lnTo>
                <a:lnTo>
                  <a:pt x="215" y="1118"/>
                </a:lnTo>
                <a:lnTo>
                  <a:pt x="220" y="1114"/>
                </a:lnTo>
                <a:lnTo>
                  <a:pt x="224" y="1106"/>
                </a:lnTo>
                <a:lnTo>
                  <a:pt x="226" y="1096"/>
                </a:lnTo>
                <a:lnTo>
                  <a:pt x="224" y="1087"/>
                </a:lnTo>
                <a:lnTo>
                  <a:pt x="221" y="1079"/>
                </a:lnTo>
                <a:lnTo>
                  <a:pt x="211" y="1070"/>
                </a:lnTo>
                <a:lnTo>
                  <a:pt x="202" y="1066"/>
                </a:lnTo>
                <a:lnTo>
                  <a:pt x="197" y="1064"/>
                </a:lnTo>
                <a:lnTo>
                  <a:pt x="104" y="1066"/>
                </a:lnTo>
                <a:lnTo>
                  <a:pt x="101" y="1066"/>
                </a:lnTo>
                <a:lnTo>
                  <a:pt x="93" y="1069"/>
                </a:lnTo>
                <a:lnTo>
                  <a:pt x="84" y="1078"/>
                </a:lnTo>
                <a:lnTo>
                  <a:pt x="80" y="1091"/>
                </a:lnTo>
                <a:close/>
                <a:moveTo>
                  <a:pt x="253" y="1091"/>
                </a:moveTo>
                <a:lnTo>
                  <a:pt x="256" y="1111"/>
                </a:lnTo>
                <a:lnTo>
                  <a:pt x="265" y="1121"/>
                </a:lnTo>
                <a:lnTo>
                  <a:pt x="278" y="1127"/>
                </a:lnTo>
                <a:lnTo>
                  <a:pt x="367" y="1127"/>
                </a:lnTo>
                <a:lnTo>
                  <a:pt x="371" y="1127"/>
                </a:lnTo>
                <a:lnTo>
                  <a:pt x="382" y="1123"/>
                </a:lnTo>
                <a:lnTo>
                  <a:pt x="388" y="1118"/>
                </a:lnTo>
                <a:lnTo>
                  <a:pt x="392" y="1114"/>
                </a:lnTo>
                <a:lnTo>
                  <a:pt x="397" y="1106"/>
                </a:lnTo>
                <a:lnTo>
                  <a:pt x="398" y="1096"/>
                </a:lnTo>
                <a:lnTo>
                  <a:pt x="397" y="1087"/>
                </a:lnTo>
                <a:lnTo>
                  <a:pt x="394" y="1079"/>
                </a:lnTo>
                <a:lnTo>
                  <a:pt x="383" y="1070"/>
                </a:lnTo>
                <a:lnTo>
                  <a:pt x="374" y="1066"/>
                </a:lnTo>
                <a:lnTo>
                  <a:pt x="370" y="1064"/>
                </a:lnTo>
                <a:lnTo>
                  <a:pt x="278" y="1066"/>
                </a:lnTo>
                <a:lnTo>
                  <a:pt x="274" y="1066"/>
                </a:lnTo>
                <a:lnTo>
                  <a:pt x="266" y="1069"/>
                </a:lnTo>
                <a:lnTo>
                  <a:pt x="257" y="1078"/>
                </a:lnTo>
                <a:lnTo>
                  <a:pt x="253" y="1091"/>
                </a:lnTo>
                <a:close/>
                <a:moveTo>
                  <a:pt x="419" y="1091"/>
                </a:moveTo>
                <a:lnTo>
                  <a:pt x="422" y="1111"/>
                </a:lnTo>
                <a:lnTo>
                  <a:pt x="431" y="1121"/>
                </a:lnTo>
                <a:lnTo>
                  <a:pt x="445" y="1127"/>
                </a:lnTo>
                <a:lnTo>
                  <a:pt x="533" y="1127"/>
                </a:lnTo>
                <a:lnTo>
                  <a:pt x="538" y="1127"/>
                </a:lnTo>
                <a:lnTo>
                  <a:pt x="548" y="1123"/>
                </a:lnTo>
                <a:lnTo>
                  <a:pt x="554" y="1118"/>
                </a:lnTo>
                <a:lnTo>
                  <a:pt x="559" y="1114"/>
                </a:lnTo>
                <a:lnTo>
                  <a:pt x="563" y="1106"/>
                </a:lnTo>
                <a:lnTo>
                  <a:pt x="565" y="1096"/>
                </a:lnTo>
                <a:lnTo>
                  <a:pt x="563" y="1087"/>
                </a:lnTo>
                <a:lnTo>
                  <a:pt x="560" y="1079"/>
                </a:lnTo>
                <a:lnTo>
                  <a:pt x="550" y="1070"/>
                </a:lnTo>
                <a:lnTo>
                  <a:pt x="541" y="1066"/>
                </a:lnTo>
                <a:lnTo>
                  <a:pt x="536" y="1064"/>
                </a:lnTo>
                <a:lnTo>
                  <a:pt x="445" y="1066"/>
                </a:lnTo>
                <a:lnTo>
                  <a:pt x="440" y="1066"/>
                </a:lnTo>
                <a:lnTo>
                  <a:pt x="433" y="1069"/>
                </a:lnTo>
                <a:lnTo>
                  <a:pt x="424" y="1078"/>
                </a:lnTo>
                <a:lnTo>
                  <a:pt x="419" y="1091"/>
                </a:lnTo>
                <a:close/>
                <a:moveTo>
                  <a:pt x="233" y="0"/>
                </a:moveTo>
                <a:lnTo>
                  <a:pt x="412" y="0"/>
                </a:lnTo>
                <a:lnTo>
                  <a:pt x="427" y="2"/>
                </a:lnTo>
                <a:lnTo>
                  <a:pt x="464" y="9"/>
                </a:lnTo>
                <a:lnTo>
                  <a:pt x="487" y="15"/>
                </a:lnTo>
                <a:lnTo>
                  <a:pt x="511" y="26"/>
                </a:lnTo>
                <a:lnTo>
                  <a:pt x="535" y="38"/>
                </a:lnTo>
                <a:lnTo>
                  <a:pt x="556" y="55"/>
                </a:lnTo>
                <a:lnTo>
                  <a:pt x="575" y="74"/>
                </a:lnTo>
                <a:lnTo>
                  <a:pt x="590" y="92"/>
                </a:lnTo>
                <a:lnTo>
                  <a:pt x="604" y="112"/>
                </a:lnTo>
                <a:lnTo>
                  <a:pt x="616" y="131"/>
                </a:lnTo>
                <a:lnTo>
                  <a:pt x="625" y="152"/>
                </a:lnTo>
                <a:lnTo>
                  <a:pt x="632" y="176"/>
                </a:lnTo>
                <a:lnTo>
                  <a:pt x="637" y="200"/>
                </a:lnTo>
                <a:lnTo>
                  <a:pt x="640" y="229"/>
                </a:lnTo>
                <a:lnTo>
                  <a:pt x="641" y="1094"/>
                </a:lnTo>
                <a:lnTo>
                  <a:pt x="640" y="1111"/>
                </a:lnTo>
                <a:lnTo>
                  <a:pt x="631" y="1150"/>
                </a:lnTo>
                <a:lnTo>
                  <a:pt x="623" y="1174"/>
                </a:lnTo>
                <a:lnTo>
                  <a:pt x="611" y="1199"/>
                </a:lnTo>
                <a:lnTo>
                  <a:pt x="595" y="1224"/>
                </a:lnTo>
                <a:lnTo>
                  <a:pt x="574" y="1246"/>
                </a:lnTo>
                <a:lnTo>
                  <a:pt x="532" y="1281"/>
                </a:lnTo>
                <a:lnTo>
                  <a:pt x="512" y="1293"/>
                </a:lnTo>
                <a:lnTo>
                  <a:pt x="493" y="1302"/>
                </a:lnTo>
                <a:lnTo>
                  <a:pt x="475" y="1309"/>
                </a:lnTo>
                <a:lnTo>
                  <a:pt x="457" y="1314"/>
                </a:lnTo>
                <a:lnTo>
                  <a:pt x="437" y="1317"/>
                </a:lnTo>
                <a:lnTo>
                  <a:pt x="416" y="1318"/>
                </a:lnTo>
                <a:lnTo>
                  <a:pt x="211" y="1318"/>
                </a:lnTo>
                <a:lnTo>
                  <a:pt x="197" y="1317"/>
                </a:lnTo>
                <a:lnTo>
                  <a:pt x="162" y="1308"/>
                </a:lnTo>
                <a:lnTo>
                  <a:pt x="140" y="1299"/>
                </a:lnTo>
                <a:lnTo>
                  <a:pt x="114" y="1285"/>
                </a:lnTo>
                <a:lnTo>
                  <a:pt x="89" y="1267"/>
                </a:lnTo>
                <a:lnTo>
                  <a:pt x="63" y="1243"/>
                </a:lnTo>
                <a:lnTo>
                  <a:pt x="42" y="1216"/>
                </a:lnTo>
                <a:lnTo>
                  <a:pt x="26" y="1189"/>
                </a:lnTo>
                <a:lnTo>
                  <a:pt x="8" y="1141"/>
                </a:lnTo>
                <a:lnTo>
                  <a:pt x="3" y="1120"/>
                </a:lnTo>
                <a:lnTo>
                  <a:pt x="0" y="1103"/>
                </a:lnTo>
                <a:lnTo>
                  <a:pt x="0" y="1084"/>
                </a:lnTo>
                <a:lnTo>
                  <a:pt x="0" y="235"/>
                </a:lnTo>
                <a:lnTo>
                  <a:pt x="0" y="220"/>
                </a:lnTo>
                <a:lnTo>
                  <a:pt x="6" y="181"/>
                </a:lnTo>
                <a:lnTo>
                  <a:pt x="15" y="155"/>
                </a:lnTo>
                <a:lnTo>
                  <a:pt x="29" y="127"/>
                </a:lnTo>
                <a:lnTo>
                  <a:pt x="47" y="98"/>
                </a:lnTo>
                <a:lnTo>
                  <a:pt x="59" y="83"/>
                </a:lnTo>
                <a:lnTo>
                  <a:pt x="72" y="68"/>
                </a:lnTo>
                <a:lnTo>
                  <a:pt x="87" y="55"/>
                </a:lnTo>
                <a:lnTo>
                  <a:pt x="102" y="44"/>
                </a:lnTo>
                <a:lnTo>
                  <a:pt x="131" y="26"/>
                </a:lnTo>
                <a:lnTo>
                  <a:pt x="158" y="14"/>
                </a:lnTo>
                <a:lnTo>
                  <a:pt x="182" y="6"/>
                </a:lnTo>
                <a:lnTo>
                  <a:pt x="220" y="0"/>
                </a:lnTo>
                <a:lnTo>
                  <a:pt x="23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343160" y="1496880"/>
            <a:ext cx="153720" cy="301680"/>
          </a:xfrm>
          <a:custGeom>
            <a:avLst/>
            <a:gdLst>
              <a:gd name="textAreaLeft" fmla="*/ 14040 w 153720"/>
              <a:gd name="textAreaRight" fmla="*/ 139680 w 153720"/>
              <a:gd name="textAreaTop" fmla="*/ 14040 h 301680"/>
              <a:gd name="textAreaBottom" fmla="*/ 287640 h 301680"/>
            </a:gdLst>
            <a:ahLst/>
            <a:rect l="textAreaLeft" t="textAreaTop" r="textAreaRight" b="textAreaBottom"/>
            <a:pathLst>
              <a:path w="21600" h="42342">
                <a:moveTo>
                  <a:pt x="6840" y="0"/>
                </a:moveTo>
                <a:arcTo wR="6840" hR="6840" stAng="16200000" swAng="-5400000"/>
                <a:lnTo>
                  <a:pt x="0" y="35502"/>
                </a:lnTo>
                <a:arcTo wR="6840" hR="6840" stAng="10800000" swAng="-5400000"/>
                <a:lnTo>
                  <a:pt x="14760" y="42342"/>
                </a:lnTo>
                <a:arcTo wR="6840" hR="6840" stAng="5400000" swAng="-5400000"/>
                <a:lnTo>
                  <a:pt x="21600" y="6840"/>
                </a:lnTo>
                <a:arcTo wR="6840" hR="6840" stAng="0" swAng="-5400000"/>
                <a:close/>
              </a:path>
            </a:pathLst>
          </a:custGeom>
          <a:solidFill>
            <a:srgbClr val="426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333440" y="1487520"/>
            <a:ext cx="176400" cy="320760"/>
          </a:xfrm>
          <a:custGeom>
            <a:avLst/>
            <a:gdLst/>
            <a:ahLst/>
            <a:rect l="l" t="t" r="r" b="b"/>
            <a:pathLst>
              <a:path w="822" h="1509">
                <a:moveTo>
                  <a:pt x="280" y="89"/>
                </a:moveTo>
                <a:lnTo>
                  <a:pt x="259" y="90"/>
                </a:lnTo>
                <a:lnTo>
                  <a:pt x="250" y="92"/>
                </a:lnTo>
                <a:lnTo>
                  <a:pt x="241" y="93"/>
                </a:lnTo>
                <a:lnTo>
                  <a:pt x="232" y="95"/>
                </a:lnTo>
                <a:lnTo>
                  <a:pt x="222" y="98"/>
                </a:lnTo>
                <a:lnTo>
                  <a:pt x="205" y="105"/>
                </a:lnTo>
                <a:lnTo>
                  <a:pt x="196" y="108"/>
                </a:lnTo>
                <a:lnTo>
                  <a:pt x="187" y="113"/>
                </a:lnTo>
                <a:lnTo>
                  <a:pt x="180" y="117"/>
                </a:lnTo>
                <a:lnTo>
                  <a:pt x="172" y="122"/>
                </a:lnTo>
                <a:lnTo>
                  <a:pt x="165" y="128"/>
                </a:lnTo>
                <a:lnTo>
                  <a:pt x="157" y="134"/>
                </a:lnTo>
                <a:lnTo>
                  <a:pt x="150" y="140"/>
                </a:lnTo>
                <a:lnTo>
                  <a:pt x="144" y="146"/>
                </a:lnTo>
                <a:lnTo>
                  <a:pt x="132" y="160"/>
                </a:lnTo>
                <a:lnTo>
                  <a:pt x="120" y="175"/>
                </a:lnTo>
                <a:lnTo>
                  <a:pt x="111" y="191"/>
                </a:lnTo>
                <a:lnTo>
                  <a:pt x="102" y="208"/>
                </a:lnTo>
                <a:lnTo>
                  <a:pt x="96" y="226"/>
                </a:lnTo>
                <a:lnTo>
                  <a:pt x="91" y="244"/>
                </a:lnTo>
                <a:lnTo>
                  <a:pt x="88" y="263"/>
                </a:lnTo>
                <a:lnTo>
                  <a:pt x="87" y="283"/>
                </a:lnTo>
                <a:lnTo>
                  <a:pt x="87" y="1226"/>
                </a:lnTo>
                <a:lnTo>
                  <a:pt x="88" y="1237"/>
                </a:lnTo>
                <a:lnTo>
                  <a:pt x="88" y="1246"/>
                </a:lnTo>
                <a:lnTo>
                  <a:pt x="90" y="1256"/>
                </a:lnTo>
                <a:lnTo>
                  <a:pt x="91" y="1265"/>
                </a:lnTo>
                <a:lnTo>
                  <a:pt x="93" y="1274"/>
                </a:lnTo>
                <a:lnTo>
                  <a:pt x="96" y="1283"/>
                </a:lnTo>
                <a:lnTo>
                  <a:pt x="102" y="1302"/>
                </a:lnTo>
                <a:lnTo>
                  <a:pt x="106" y="1311"/>
                </a:lnTo>
                <a:lnTo>
                  <a:pt x="111" y="1318"/>
                </a:lnTo>
                <a:lnTo>
                  <a:pt x="115" y="1327"/>
                </a:lnTo>
                <a:lnTo>
                  <a:pt x="120" y="1335"/>
                </a:lnTo>
                <a:lnTo>
                  <a:pt x="126" y="1342"/>
                </a:lnTo>
                <a:lnTo>
                  <a:pt x="132" y="1350"/>
                </a:lnTo>
                <a:lnTo>
                  <a:pt x="138" y="1356"/>
                </a:lnTo>
                <a:lnTo>
                  <a:pt x="144" y="1363"/>
                </a:lnTo>
                <a:lnTo>
                  <a:pt x="157" y="1375"/>
                </a:lnTo>
                <a:lnTo>
                  <a:pt x="172" y="1386"/>
                </a:lnTo>
                <a:lnTo>
                  <a:pt x="187" y="1396"/>
                </a:lnTo>
                <a:lnTo>
                  <a:pt x="205" y="1404"/>
                </a:lnTo>
                <a:lnTo>
                  <a:pt x="222" y="1411"/>
                </a:lnTo>
                <a:lnTo>
                  <a:pt x="241" y="1416"/>
                </a:lnTo>
                <a:lnTo>
                  <a:pt x="259" y="1419"/>
                </a:lnTo>
                <a:lnTo>
                  <a:pt x="280" y="1419"/>
                </a:lnTo>
                <a:lnTo>
                  <a:pt x="543" y="1419"/>
                </a:lnTo>
                <a:lnTo>
                  <a:pt x="563" y="1419"/>
                </a:lnTo>
                <a:lnTo>
                  <a:pt x="572" y="1417"/>
                </a:lnTo>
                <a:lnTo>
                  <a:pt x="582" y="1416"/>
                </a:lnTo>
                <a:lnTo>
                  <a:pt x="591" y="1413"/>
                </a:lnTo>
                <a:lnTo>
                  <a:pt x="600" y="1411"/>
                </a:lnTo>
                <a:lnTo>
                  <a:pt x="618" y="1404"/>
                </a:lnTo>
                <a:lnTo>
                  <a:pt x="626" y="1401"/>
                </a:lnTo>
                <a:lnTo>
                  <a:pt x="635" y="1396"/>
                </a:lnTo>
                <a:lnTo>
                  <a:pt x="642" y="1392"/>
                </a:lnTo>
                <a:lnTo>
                  <a:pt x="651" y="1386"/>
                </a:lnTo>
                <a:lnTo>
                  <a:pt x="659" y="1381"/>
                </a:lnTo>
                <a:lnTo>
                  <a:pt x="665" y="1375"/>
                </a:lnTo>
                <a:lnTo>
                  <a:pt x="672" y="1369"/>
                </a:lnTo>
                <a:lnTo>
                  <a:pt x="678" y="1363"/>
                </a:lnTo>
                <a:lnTo>
                  <a:pt x="692" y="1350"/>
                </a:lnTo>
                <a:lnTo>
                  <a:pt x="702" y="1335"/>
                </a:lnTo>
                <a:lnTo>
                  <a:pt x="713" y="1318"/>
                </a:lnTo>
                <a:lnTo>
                  <a:pt x="720" y="1302"/>
                </a:lnTo>
                <a:lnTo>
                  <a:pt x="726" y="1283"/>
                </a:lnTo>
                <a:lnTo>
                  <a:pt x="731" y="1265"/>
                </a:lnTo>
                <a:lnTo>
                  <a:pt x="734" y="1246"/>
                </a:lnTo>
                <a:lnTo>
                  <a:pt x="735" y="1226"/>
                </a:lnTo>
                <a:lnTo>
                  <a:pt x="735" y="283"/>
                </a:lnTo>
                <a:lnTo>
                  <a:pt x="735" y="272"/>
                </a:lnTo>
                <a:lnTo>
                  <a:pt x="734" y="263"/>
                </a:lnTo>
                <a:lnTo>
                  <a:pt x="734" y="253"/>
                </a:lnTo>
                <a:lnTo>
                  <a:pt x="731" y="244"/>
                </a:lnTo>
                <a:lnTo>
                  <a:pt x="729" y="235"/>
                </a:lnTo>
                <a:lnTo>
                  <a:pt x="726" y="226"/>
                </a:lnTo>
                <a:lnTo>
                  <a:pt x="720" y="208"/>
                </a:lnTo>
                <a:lnTo>
                  <a:pt x="716" y="199"/>
                </a:lnTo>
                <a:lnTo>
                  <a:pt x="713" y="191"/>
                </a:lnTo>
                <a:lnTo>
                  <a:pt x="707" y="182"/>
                </a:lnTo>
                <a:lnTo>
                  <a:pt x="702" y="175"/>
                </a:lnTo>
                <a:lnTo>
                  <a:pt x="698" y="167"/>
                </a:lnTo>
                <a:lnTo>
                  <a:pt x="692" y="160"/>
                </a:lnTo>
                <a:lnTo>
                  <a:pt x="686" y="152"/>
                </a:lnTo>
                <a:lnTo>
                  <a:pt x="678" y="146"/>
                </a:lnTo>
                <a:lnTo>
                  <a:pt x="665" y="134"/>
                </a:lnTo>
                <a:lnTo>
                  <a:pt x="651" y="122"/>
                </a:lnTo>
                <a:lnTo>
                  <a:pt x="635" y="113"/>
                </a:lnTo>
                <a:lnTo>
                  <a:pt x="618" y="105"/>
                </a:lnTo>
                <a:lnTo>
                  <a:pt x="600" y="98"/>
                </a:lnTo>
                <a:lnTo>
                  <a:pt x="582" y="93"/>
                </a:lnTo>
                <a:lnTo>
                  <a:pt x="563" y="90"/>
                </a:lnTo>
                <a:lnTo>
                  <a:pt x="543" y="89"/>
                </a:lnTo>
                <a:lnTo>
                  <a:pt x="280" y="89"/>
                </a:lnTo>
                <a:close/>
                <a:moveTo>
                  <a:pt x="274" y="0"/>
                </a:moveTo>
                <a:lnTo>
                  <a:pt x="548" y="0"/>
                </a:lnTo>
                <a:lnTo>
                  <a:pt x="563" y="0"/>
                </a:lnTo>
                <a:lnTo>
                  <a:pt x="576" y="2"/>
                </a:lnTo>
                <a:lnTo>
                  <a:pt x="590" y="3"/>
                </a:lnTo>
                <a:lnTo>
                  <a:pt x="603" y="6"/>
                </a:lnTo>
                <a:lnTo>
                  <a:pt x="617" y="9"/>
                </a:lnTo>
                <a:lnTo>
                  <a:pt x="630" y="12"/>
                </a:lnTo>
                <a:lnTo>
                  <a:pt x="642" y="17"/>
                </a:lnTo>
                <a:lnTo>
                  <a:pt x="656" y="23"/>
                </a:lnTo>
                <a:lnTo>
                  <a:pt x="668" y="27"/>
                </a:lnTo>
                <a:lnTo>
                  <a:pt x="680" y="33"/>
                </a:lnTo>
                <a:lnTo>
                  <a:pt x="690" y="41"/>
                </a:lnTo>
                <a:lnTo>
                  <a:pt x="702" y="47"/>
                </a:lnTo>
                <a:lnTo>
                  <a:pt x="713" y="56"/>
                </a:lnTo>
                <a:lnTo>
                  <a:pt x="723" y="63"/>
                </a:lnTo>
                <a:lnTo>
                  <a:pt x="743" y="81"/>
                </a:lnTo>
                <a:lnTo>
                  <a:pt x="752" y="90"/>
                </a:lnTo>
                <a:lnTo>
                  <a:pt x="761" y="101"/>
                </a:lnTo>
                <a:lnTo>
                  <a:pt x="768" y="111"/>
                </a:lnTo>
                <a:lnTo>
                  <a:pt x="776" y="122"/>
                </a:lnTo>
                <a:lnTo>
                  <a:pt x="789" y="145"/>
                </a:lnTo>
                <a:lnTo>
                  <a:pt x="795" y="157"/>
                </a:lnTo>
                <a:lnTo>
                  <a:pt x="801" y="169"/>
                </a:lnTo>
                <a:lnTo>
                  <a:pt x="810" y="194"/>
                </a:lnTo>
                <a:lnTo>
                  <a:pt x="815" y="208"/>
                </a:lnTo>
                <a:lnTo>
                  <a:pt x="818" y="220"/>
                </a:lnTo>
                <a:lnTo>
                  <a:pt x="819" y="233"/>
                </a:lnTo>
                <a:lnTo>
                  <a:pt x="821" y="248"/>
                </a:lnTo>
                <a:lnTo>
                  <a:pt x="822" y="262"/>
                </a:lnTo>
                <a:lnTo>
                  <a:pt x="822" y="275"/>
                </a:lnTo>
                <a:lnTo>
                  <a:pt x="822" y="1234"/>
                </a:lnTo>
                <a:lnTo>
                  <a:pt x="822" y="1247"/>
                </a:lnTo>
                <a:lnTo>
                  <a:pt x="821" y="1261"/>
                </a:lnTo>
                <a:lnTo>
                  <a:pt x="819" y="1274"/>
                </a:lnTo>
                <a:lnTo>
                  <a:pt x="818" y="1288"/>
                </a:lnTo>
                <a:lnTo>
                  <a:pt x="815" y="1302"/>
                </a:lnTo>
                <a:lnTo>
                  <a:pt x="810" y="1315"/>
                </a:lnTo>
                <a:lnTo>
                  <a:pt x="806" y="1329"/>
                </a:lnTo>
                <a:lnTo>
                  <a:pt x="801" y="1341"/>
                </a:lnTo>
                <a:lnTo>
                  <a:pt x="795" y="1353"/>
                </a:lnTo>
                <a:lnTo>
                  <a:pt x="789" y="1365"/>
                </a:lnTo>
                <a:lnTo>
                  <a:pt x="783" y="1377"/>
                </a:lnTo>
                <a:lnTo>
                  <a:pt x="776" y="1387"/>
                </a:lnTo>
                <a:lnTo>
                  <a:pt x="768" y="1398"/>
                </a:lnTo>
                <a:lnTo>
                  <a:pt x="761" y="1408"/>
                </a:lnTo>
                <a:lnTo>
                  <a:pt x="743" y="1428"/>
                </a:lnTo>
                <a:lnTo>
                  <a:pt x="732" y="1437"/>
                </a:lnTo>
                <a:lnTo>
                  <a:pt x="723" y="1446"/>
                </a:lnTo>
                <a:lnTo>
                  <a:pt x="713" y="1453"/>
                </a:lnTo>
                <a:lnTo>
                  <a:pt x="702" y="1461"/>
                </a:lnTo>
                <a:lnTo>
                  <a:pt x="680" y="1476"/>
                </a:lnTo>
                <a:lnTo>
                  <a:pt x="668" y="1482"/>
                </a:lnTo>
                <a:lnTo>
                  <a:pt x="656" y="1487"/>
                </a:lnTo>
                <a:lnTo>
                  <a:pt x="630" y="1496"/>
                </a:lnTo>
                <a:lnTo>
                  <a:pt x="617" y="1500"/>
                </a:lnTo>
                <a:lnTo>
                  <a:pt x="603" y="1503"/>
                </a:lnTo>
                <a:lnTo>
                  <a:pt x="590" y="1506"/>
                </a:lnTo>
                <a:lnTo>
                  <a:pt x="576" y="1508"/>
                </a:lnTo>
                <a:lnTo>
                  <a:pt x="563" y="1508"/>
                </a:lnTo>
                <a:lnTo>
                  <a:pt x="548" y="1509"/>
                </a:lnTo>
                <a:lnTo>
                  <a:pt x="274" y="1509"/>
                </a:lnTo>
                <a:lnTo>
                  <a:pt x="261" y="1508"/>
                </a:lnTo>
                <a:lnTo>
                  <a:pt x="246" y="1508"/>
                </a:lnTo>
                <a:lnTo>
                  <a:pt x="232" y="1506"/>
                </a:lnTo>
                <a:lnTo>
                  <a:pt x="219" y="1503"/>
                </a:lnTo>
                <a:lnTo>
                  <a:pt x="205" y="1500"/>
                </a:lnTo>
                <a:lnTo>
                  <a:pt x="193" y="1496"/>
                </a:lnTo>
                <a:lnTo>
                  <a:pt x="180" y="1493"/>
                </a:lnTo>
                <a:lnTo>
                  <a:pt x="168" y="1487"/>
                </a:lnTo>
                <a:lnTo>
                  <a:pt x="156" y="1482"/>
                </a:lnTo>
                <a:lnTo>
                  <a:pt x="144" y="1476"/>
                </a:lnTo>
                <a:lnTo>
                  <a:pt x="132" y="1469"/>
                </a:lnTo>
                <a:lnTo>
                  <a:pt x="121" y="1461"/>
                </a:lnTo>
                <a:lnTo>
                  <a:pt x="111" y="1453"/>
                </a:lnTo>
                <a:lnTo>
                  <a:pt x="100" y="1446"/>
                </a:lnTo>
                <a:lnTo>
                  <a:pt x="81" y="1428"/>
                </a:lnTo>
                <a:lnTo>
                  <a:pt x="72" y="1419"/>
                </a:lnTo>
                <a:lnTo>
                  <a:pt x="63" y="1408"/>
                </a:lnTo>
                <a:lnTo>
                  <a:pt x="54" y="1398"/>
                </a:lnTo>
                <a:lnTo>
                  <a:pt x="46" y="1387"/>
                </a:lnTo>
                <a:lnTo>
                  <a:pt x="33" y="1365"/>
                </a:lnTo>
                <a:lnTo>
                  <a:pt x="27" y="1353"/>
                </a:lnTo>
                <a:lnTo>
                  <a:pt x="21" y="1341"/>
                </a:lnTo>
                <a:lnTo>
                  <a:pt x="12" y="1315"/>
                </a:lnTo>
                <a:lnTo>
                  <a:pt x="9" y="1302"/>
                </a:lnTo>
                <a:lnTo>
                  <a:pt x="6" y="1288"/>
                </a:lnTo>
                <a:lnTo>
                  <a:pt x="3" y="1274"/>
                </a:lnTo>
                <a:lnTo>
                  <a:pt x="1" y="1261"/>
                </a:lnTo>
                <a:lnTo>
                  <a:pt x="0" y="1247"/>
                </a:lnTo>
                <a:lnTo>
                  <a:pt x="0" y="1234"/>
                </a:lnTo>
                <a:lnTo>
                  <a:pt x="0" y="275"/>
                </a:lnTo>
                <a:lnTo>
                  <a:pt x="0" y="262"/>
                </a:lnTo>
                <a:lnTo>
                  <a:pt x="1" y="248"/>
                </a:lnTo>
                <a:lnTo>
                  <a:pt x="3" y="233"/>
                </a:lnTo>
                <a:lnTo>
                  <a:pt x="6" y="220"/>
                </a:lnTo>
                <a:lnTo>
                  <a:pt x="9" y="208"/>
                </a:lnTo>
                <a:lnTo>
                  <a:pt x="12" y="194"/>
                </a:lnTo>
                <a:lnTo>
                  <a:pt x="16" y="181"/>
                </a:lnTo>
                <a:lnTo>
                  <a:pt x="21" y="169"/>
                </a:lnTo>
                <a:lnTo>
                  <a:pt x="27" y="157"/>
                </a:lnTo>
                <a:lnTo>
                  <a:pt x="33" y="145"/>
                </a:lnTo>
                <a:lnTo>
                  <a:pt x="40" y="133"/>
                </a:lnTo>
                <a:lnTo>
                  <a:pt x="46" y="122"/>
                </a:lnTo>
                <a:lnTo>
                  <a:pt x="54" y="111"/>
                </a:lnTo>
                <a:lnTo>
                  <a:pt x="63" y="101"/>
                </a:lnTo>
                <a:lnTo>
                  <a:pt x="81" y="81"/>
                </a:lnTo>
                <a:lnTo>
                  <a:pt x="90" y="72"/>
                </a:lnTo>
                <a:lnTo>
                  <a:pt x="100" y="63"/>
                </a:lnTo>
                <a:lnTo>
                  <a:pt x="111" y="56"/>
                </a:lnTo>
                <a:lnTo>
                  <a:pt x="121" y="47"/>
                </a:lnTo>
                <a:lnTo>
                  <a:pt x="144" y="33"/>
                </a:lnTo>
                <a:lnTo>
                  <a:pt x="156" y="27"/>
                </a:lnTo>
                <a:lnTo>
                  <a:pt x="168" y="23"/>
                </a:lnTo>
                <a:lnTo>
                  <a:pt x="193" y="12"/>
                </a:lnTo>
                <a:lnTo>
                  <a:pt x="205" y="9"/>
                </a:lnTo>
                <a:lnTo>
                  <a:pt x="219" y="6"/>
                </a:lnTo>
                <a:lnTo>
                  <a:pt x="232" y="3"/>
                </a:lnTo>
                <a:lnTo>
                  <a:pt x="246" y="2"/>
                </a:lnTo>
                <a:lnTo>
                  <a:pt x="261" y="0"/>
                </a:lnTo>
                <a:lnTo>
                  <a:pt x="27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352520" y="1506600"/>
            <a:ext cx="138240" cy="282600"/>
          </a:xfrm>
          <a:custGeom>
            <a:avLst/>
            <a:gdLst/>
            <a:ahLst/>
            <a:rect l="l" t="t" r="r" b="b"/>
            <a:pathLst>
              <a:path w="648" h="1330">
                <a:moveTo>
                  <a:pt x="192" y="0"/>
                </a:moveTo>
                <a:lnTo>
                  <a:pt x="154" y="4"/>
                </a:lnTo>
                <a:lnTo>
                  <a:pt x="118" y="15"/>
                </a:lnTo>
                <a:lnTo>
                  <a:pt x="100" y="24"/>
                </a:lnTo>
                <a:lnTo>
                  <a:pt x="85" y="33"/>
                </a:lnTo>
                <a:lnTo>
                  <a:pt x="57" y="57"/>
                </a:lnTo>
                <a:lnTo>
                  <a:pt x="33" y="86"/>
                </a:lnTo>
                <a:lnTo>
                  <a:pt x="24" y="101"/>
                </a:lnTo>
                <a:lnTo>
                  <a:pt x="15" y="119"/>
                </a:lnTo>
                <a:lnTo>
                  <a:pt x="9" y="135"/>
                </a:lnTo>
                <a:lnTo>
                  <a:pt x="4" y="155"/>
                </a:lnTo>
                <a:lnTo>
                  <a:pt x="1" y="173"/>
                </a:lnTo>
                <a:lnTo>
                  <a:pt x="0" y="194"/>
                </a:lnTo>
                <a:lnTo>
                  <a:pt x="0" y="1137"/>
                </a:lnTo>
                <a:lnTo>
                  <a:pt x="4" y="1176"/>
                </a:lnTo>
                <a:lnTo>
                  <a:pt x="15" y="1213"/>
                </a:lnTo>
                <a:lnTo>
                  <a:pt x="24" y="1229"/>
                </a:lnTo>
                <a:lnTo>
                  <a:pt x="33" y="1246"/>
                </a:lnTo>
                <a:lnTo>
                  <a:pt x="57" y="1274"/>
                </a:lnTo>
                <a:lnTo>
                  <a:pt x="85" y="1297"/>
                </a:lnTo>
                <a:lnTo>
                  <a:pt x="100" y="1307"/>
                </a:lnTo>
                <a:lnTo>
                  <a:pt x="118" y="1315"/>
                </a:lnTo>
                <a:lnTo>
                  <a:pt x="135" y="1321"/>
                </a:lnTo>
                <a:lnTo>
                  <a:pt x="154" y="1327"/>
                </a:lnTo>
                <a:lnTo>
                  <a:pt x="192" y="1330"/>
                </a:lnTo>
                <a:lnTo>
                  <a:pt x="456" y="1330"/>
                </a:lnTo>
                <a:lnTo>
                  <a:pt x="495" y="1327"/>
                </a:lnTo>
                <a:lnTo>
                  <a:pt x="531" y="1315"/>
                </a:lnTo>
                <a:lnTo>
                  <a:pt x="548" y="1307"/>
                </a:lnTo>
                <a:lnTo>
                  <a:pt x="563" y="1297"/>
                </a:lnTo>
                <a:lnTo>
                  <a:pt x="591" y="1274"/>
                </a:lnTo>
                <a:lnTo>
                  <a:pt x="615" y="1246"/>
                </a:lnTo>
                <a:lnTo>
                  <a:pt x="624" y="1229"/>
                </a:lnTo>
                <a:lnTo>
                  <a:pt x="633" y="1213"/>
                </a:lnTo>
                <a:lnTo>
                  <a:pt x="639" y="1194"/>
                </a:lnTo>
                <a:lnTo>
                  <a:pt x="644" y="1176"/>
                </a:lnTo>
                <a:lnTo>
                  <a:pt x="647" y="1157"/>
                </a:lnTo>
                <a:lnTo>
                  <a:pt x="648" y="1137"/>
                </a:lnTo>
                <a:lnTo>
                  <a:pt x="648" y="194"/>
                </a:lnTo>
                <a:lnTo>
                  <a:pt x="644" y="155"/>
                </a:lnTo>
                <a:lnTo>
                  <a:pt x="633" y="119"/>
                </a:lnTo>
                <a:lnTo>
                  <a:pt x="624" y="101"/>
                </a:lnTo>
                <a:lnTo>
                  <a:pt x="615" y="86"/>
                </a:lnTo>
                <a:lnTo>
                  <a:pt x="591" y="57"/>
                </a:lnTo>
                <a:lnTo>
                  <a:pt x="563" y="33"/>
                </a:lnTo>
                <a:lnTo>
                  <a:pt x="548" y="24"/>
                </a:lnTo>
                <a:lnTo>
                  <a:pt x="531" y="15"/>
                </a:lnTo>
                <a:lnTo>
                  <a:pt x="513" y="9"/>
                </a:lnTo>
                <a:lnTo>
                  <a:pt x="495" y="4"/>
                </a:lnTo>
                <a:lnTo>
                  <a:pt x="456" y="0"/>
                </a:lnTo>
                <a:lnTo>
                  <a:pt x="192" y="0"/>
                </a:lnTo>
              </a:path>
            </a:pathLst>
          </a:custGeom>
          <a:noFill/>
          <a:ln w="1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333440" y="1487520"/>
            <a:ext cx="176400" cy="320760"/>
          </a:xfrm>
          <a:custGeom>
            <a:avLst/>
            <a:gdLst/>
            <a:ahLst/>
            <a:rect l="l" t="t" r="r" b="b"/>
            <a:pathLst>
              <a:path w="822" h="1509">
                <a:moveTo>
                  <a:pt x="274" y="0"/>
                </a:moveTo>
                <a:lnTo>
                  <a:pt x="548" y="0"/>
                </a:lnTo>
                <a:lnTo>
                  <a:pt x="576" y="2"/>
                </a:lnTo>
                <a:lnTo>
                  <a:pt x="603" y="6"/>
                </a:lnTo>
                <a:lnTo>
                  <a:pt x="630" y="12"/>
                </a:lnTo>
                <a:lnTo>
                  <a:pt x="654" y="21"/>
                </a:lnTo>
                <a:lnTo>
                  <a:pt x="678" y="33"/>
                </a:lnTo>
                <a:lnTo>
                  <a:pt x="702" y="47"/>
                </a:lnTo>
                <a:lnTo>
                  <a:pt x="723" y="63"/>
                </a:lnTo>
                <a:lnTo>
                  <a:pt x="743" y="81"/>
                </a:lnTo>
                <a:lnTo>
                  <a:pt x="759" y="101"/>
                </a:lnTo>
                <a:lnTo>
                  <a:pt x="776" y="122"/>
                </a:lnTo>
                <a:lnTo>
                  <a:pt x="789" y="145"/>
                </a:lnTo>
                <a:lnTo>
                  <a:pt x="801" y="169"/>
                </a:lnTo>
                <a:lnTo>
                  <a:pt x="810" y="194"/>
                </a:lnTo>
                <a:lnTo>
                  <a:pt x="818" y="220"/>
                </a:lnTo>
                <a:lnTo>
                  <a:pt x="821" y="247"/>
                </a:lnTo>
                <a:lnTo>
                  <a:pt x="822" y="275"/>
                </a:lnTo>
                <a:lnTo>
                  <a:pt x="822" y="1232"/>
                </a:lnTo>
                <a:lnTo>
                  <a:pt x="821" y="1261"/>
                </a:lnTo>
                <a:lnTo>
                  <a:pt x="818" y="1288"/>
                </a:lnTo>
                <a:lnTo>
                  <a:pt x="810" y="1315"/>
                </a:lnTo>
                <a:lnTo>
                  <a:pt x="801" y="1341"/>
                </a:lnTo>
                <a:lnTo>
                  <a:pt x="789" y="1365"/>
                </a:lnTo>
                <a:lnTo>
                  <a:pt x="776" y="1387"/>
                </a:lnTo>
                <a:lnTo>
                  <a:pt x="759" y="1408"/>
                </a:lnTo>
                <a:lnTo>
                  <a:pt x="743" y="1428"/>
                </a:lnTo>
                <a:lnTo>
                  <a:pt x="723" y="1446"/>
                </a:lnTo>
                <a:lnTo>
                  <a:pt x="702" y="1461"/>
                </a:lnTo>
                <a:lnTo>
                  <a:pt x="678" y="1475"/>
                </a:lnTo>
                <a:lnTo>
                  <a:pt x="654" y="1487"/>
                </a:lnTo>
                <a:lnTo>
                  <a:pt x="630" y="1496"/>
                </a:lnTo>
                <a:lnTo>
                  <a:pt x="603" y="1503"/>
                </a:lnTo>
                <a:lnTo>
                  <a:pt x="576" y="1508"/>
                </a:lnTo>
                <a:lnTo>
                  <a:pt x="548" y="1509"/>
                </a:lnTo>
                <a:lnTo>
                  <a:pt x="274" y="1509"/>
                </a:lnTo>
                <a:lnTo>
                  <a:pt x="246" y="1508"/>
                </a:lnTo>
                <a:lnTo>
                  <a:pt x="219" y="1503"/>
                </a:lnTo>
                <a:lnTo>
                  <a:pt x="193" y="1496"/>
                </a:lnTo>
                <a:lnTo>
                  <a:pt x="168" y="1487"/>
                </a:lnTo>
                <a:lnTo>
                  <a:pt x="144" y="1475"/>
                </a:lnTo>
                <a:lnTo>
                  <a:pt x="121" y="1461"/>
                </a:lnTo>
                <a:lnTo>
                  <a:pt x="100" y="1446"/>
                </a:lnTo>
                <a:lnTo>
                  <a:pt x="81" y="1428"/>
                </a:lnTo>
                <a:lnTo>
                  <a:pt x="63" y="1408"/>
                </a:lnTo>
                <a:lnTo>
                  <a:pt x="46" y="1387"/>
                </a:lnTo>
                <a:lnTo>
                  <a:pt x="33" y="1365"/>
                </a:lnTo>
                <a:lnTo>
                  <a:pt x="21" y="1341"/>
                </a:lnTo>
                <a:lnTo>
                  <a:pt x="12" y="1315"/>
                </a:lnTo>
                <a:lnTo>
                  <a:pt x="6" y="1288"/>
                </a:lnTo>
                <a:lnTo>
                  <a:pt x="1" y="1261"/>
                </a:lnTo>
                <a:lnTo>
                  <a:pt x="0" y="1232"/>
                </a:lnTo>
                <a:lnTo>
                  <a:pt x="0" y="275"/>
                </a:lnTo>
                <a:lnTo>
                  <a:pt x="1" y="247"/>
                </a:lnTo>
                <a:lnTo>
                  <a:pt x="6" y="220"/>
                </a:lnTo>
                <a:lnTo>
                  <a:pt x="12" y="194"/>
                </a:lnTo>
                <a:lnTo>
                  <a:pt x="21" y="169"/>
                </a:lnTo>
                <a:lnTo>
                  <a:pt x="33" y="145"/>
                </a:lnTo>
                <a:lnTo>
                  <a:pt x="46" y="122"/>
                </a:lnTo>
                <a:lnTo>
                  <a:pt x="63" y="101"/>
                </a:lnTo>
                <a:lnTo>
                  <a:pt x="81" y="81"/>
                </a:lnTo>
                <a:lnTo>
                  <a:pt x="100" y="63"/>
                </a:lnTo>
                <a:lnTo>
                  <a:pt x="121" y="47"/>
                </a:lnTo>
                <a:lnTo>
                  <a:pt x="144" y="33"/>
                </a:lnTo>
                <a:lnTo>
                  <a:pt x="168" y="21"/>
                </a:lnTo>
                <a:lnTo>
                  <a:pt x="193" y="12"/>
                </a:lnTo>
                <a:lnTo>
                  <a:pt x="219" y="6"/>
                </a:lnTo>
                <a:lnTo>
                  <a:pt x="246" y="2"/>
                </a:lnTo>
                <a:lnTo>
                  <a:pt x="274" y="0"/>
                </a:lnTo>
              </a:path>
            </a:pathLst>
          </a:custGeom>
          <a:noFill/>
          <a:ln w="1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370160" y="1542960"/>
            <a:ext cx="102960" cy="6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449360" y="1670040"/>
            <a:ext cx="190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444680" y="167004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461960" y="167004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414440" y="1670040"/>
            <a:ext cx="1764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407960" y="167004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427040" y="1670040"/>
            <a:ext cx="972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376280" y="1670040"/>
            <a:ext cx="1764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370160" y="1670040"/>
            <a:ext cx="1080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389240" y="1670040"/>
            <a:ext cx="1080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449360" y="1692360"/>
            <a:ext cx="190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444680" y="169236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461960" y="169236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414440" y="1692360"/>
            <a:ext cx="1764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407960" y="169236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427040" y="1692360"/>
            <a:ext cx="972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376280" y="1692360"/>
            <a:ext cx="1764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370160" y="1692360"/>
            <a:ext cx="1080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389240" y="1692360"/>
            <a:ext cx="1080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449360" y="1714680"/>
            <a:ext cx="19080" cy="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444680" y="1714680"/>
            <a:ext cx="11160" cy="10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461960" y="1714680"/>
            <a:ext cx="11160" cy="10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414440" y="1714680"/>
            <a:ext cx="17640" cy="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407960" y="1714680"/>
            <a:ext cx="11160" cy="10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427040" y="1714680"/>
            <a:ext cx="9720" cy="10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376280" y="1714680"/>
            <a:ext cx="17640" cy="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370160" y="1714680"/>
            <a:ext cx="10800" cy="10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389240" y="1714680"/>
            <a:ext cx="10800" cy="10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449360" y="1736640"/>
            <a:ext cx="19080" cy="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444680" y="1736640"/>
            <a:ext cx="1116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461960" y="1736640"/>
            <a:ext cx="1116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414440" y="1736640"/>
            <a:ext cx="17640" cy="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407960" y="1736640"/>
            <a:ext cx="1116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427040" y="1736640"/>
            <a:ext cx="972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376280" y="1736640"/>
            <a:ext cx="17640" cy="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0160" y="1736640"/>
            <a:ext cx="1080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389240" y="1736640"/>
            <a:ext cx="1080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414440" y="1633680"/>
            <a:ext cx="17640" cy="1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405080" y="1633680"/>
            <a:ext cx="19080" cy="19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422360" y="1633680"/>
            <a:ext cx="19080" cy="19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374840" y="1631880"/>
            <a:ext cx="20520" cy="17640"/>
          </a:xfrm>
          <a:custGeom>
            <a:avLst/>
            <a:gdLst/>
            <a:ahLst/>
            <a:rect l="l" t="t" r="r" b="b"/>
            <a:pathLst>
              <a:path w="99" h="84">
                <a:moveTo>
                  <a:pt x="74" y="84"/>
                </a:moveTo>
                <a:lnTo>
                  <a:pt x="99" y="42"/>
                </a:lnTo>
                <a:lnTo>
                  <a:pt x="26" y="0"/>
                </a:lnTo>
                <a:lnTo>
                  <a:pt x="0" y="42"/>
                </a:lnTo>
                <a:lnTo>
                  <a:pt x="74" y="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371600" y="1631880"/>
            <a:ext cx="1116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387440" y="163980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449360" y="1631880"/>
            <a:ext cx="20520" cy="17640"/>
          </a:xfrm>
          <a:custGeom>
            <a:avLst/>
            <a:gdLst/>
            <a:ahLst/>
            <a:rect l="l" t="t" r="r" b="b"/>
            <a:pathLst>
              <a:path w="98" h="86">
                <a:moveTo>
                  <a:pt x="0" y="42"/>
                </a:moveTo>
                <a:lnTo>
                  <a:pt x="24" y="86"/>
                </a:lnTo>
                <a:lnTo>
                  <a:pt x="98" y="44"/>
                </a:lnTo>
                <a:lnTo>
                  <a:pt x="74" y="0"/>
                </a:lnTo>
                <a:lnTo>
                  <a:pt x="0" y="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61960" y="1631880"/>
            <a:ext cx="1116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446120" y="163980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4374360" y="1165320"/>
            <a:ext cx="1654920" cy="788760"/>
            <a:chOff x="4374360" y="1165320"/>
            <a:chExt cx="1654920" cy="788760"/>
          </a:xfrm>
        </p:grpSpPr>
        <p:sp>
          <p:nvSpPr>
            <p:cNvPr id="463" name=""/>
            <p:cNvSpPr/>
            <p:nvPr/>
          </p:nvSpPr>
          <p:spPr>
            <a:xfrm>
              <a:off x="4559400" y="1165320"/>
              <a:ext cx="1469880" cy="788760"/>
            </a:xfrm>
            <a:prstGeom prst="rect">
              <a:avLst/>
            </a:prstGeom>
            <a:solidFill>
              <a:srgbClr val="42677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278680" y="1200240"/>
              <a:ext cx="7412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853240" y="1671480"/>
              <a:ext cx="39600" cy="65160"/>
            </a:xfrm>
            <a:custGeom>
              <a:avLst/>
              <a:gdLst/>
              <a:ahLst/>
              <a:rect l="l" t="t" r="r" b="b"/>
              <a:pathLst>
                <a:path w="181" h="302">
                  <a:moveTo>
                    <a:pt x="0" y="0"/>
                  </a:moveTo>
                  <a:lnTo>
                    <a:pt x="19" y="1"/>
                  </a:lnTo>
                  <a:lnTo>
                    <a:pt x="37" y="3"/>
                  </a:lnTo>
                  <a:lnTo>
                    <a:pt x="54" y="7"/>
                  </a:lnTo>
                  <a:lnTo>
                    <a:pt x="70" y="12"/>
                  </a:lnTo>
                  <a:lnTo>
                    <a:pt x="87" y="19"/>
                  </a:lnTo>
                  <a:lnTo>
                    <a:pt x="102" y="27"/>
                  </a:lnTo>
                  <a:lnTo>
                    <a:pt x="115" y="34"/>
                  </a:lnTo>
                  <a:lnTo>
                    <a:pt x="129" y="45"/>
                  </a:lnTo>
                  <a:lnTo>
                    <a:pt x="141" y="55"/>
                  </a:lnTo>
                  <a:lnTo>
                    <a:pt x="151" y="67"/>
                  </a:lnTo>
                  <a:lnTo>
                    <a:pt x="160" y="79"/>
                  </a:lnTo>
                  <a:lnTo>
                    <a:pt x="168" y="93"/>
                  </a:lnTo>
                  <a:lnTo>
                    <a:pt x="171" y="99"/>
                  </a:lnTo>
                  <a:lnTo>
                    <a:pt x="174" y="106"/>
                  </a:lnTo>
                  <a:lnTo>
                    <a:pt x="178" y="120"/>
                  </a:lnTo>
                  <a:lnTo>
                    <a:pt x="180" y="128"/>
                  </a:lnTo>
                  <a:lnTo>
                    <a:pt x="181" y="135"/>
                  </a:lnTo>
                  <a:lnTo>
                    <a:pt x="181" y="143"/>
                  </a:lnTo>
                  <a:lnTo>
                    <a:pt x="181" y="152"/>
                  </a:lnTo>
                  <a:lnTo>
                    <a:pt x="181" y="167"/>
                  </a:lnTo>
                  <a:lnTo>
                    <a:pt x="178" y="182"/>
                  </a:lnTo>
                  <a:lnTo>
                    <a:pt x="175" y="189"/>
                  </a:lnTo>
                  <a:lnTo>
                    <a:pt x="174" y="195"/>
                  </a:lnTo>
                  <a:lnTo>
                    <a:pt x="168" y="210"/>
                  </a:lnTo>
                  <a:lnTo>
                    <a:pt x="160" y="222"/>
                  </a:lnTo>
                  <a:lnTo>
                    <a:pt x="150" y="236"/>
                  </a:lnTo>
                  <a:lnTo>
                    <a:pt x="139" y="246"/>
                  </a:lnTo>
                  <a:lnTo>
                    <a:pt x="129" y="257"/>
                  </a:lnTo>
                  <a:lnTo>
                    <a:pt x="115" y="267"/>
                  </a:lnTo>
                  <a:lnTo>
                    <a:pt x="102" y="276"/>
                  </a:lnTo>
                  <a:lnTo>
                    <a:pt x="87" y="284"/>
                  </a:lnTo>
                  <a:lnTo>
                    <a:pt x="70" y="290"/>
                  </a:lnTo>
                  <a:lnTo>
                    <a:pt x="63" y="293"/>
                  </a:lnTo>
                  <a:lnTo>
                    <a:pt x="54" y="295"/>
                  </a:lnTo>
                  <a:lnTo>
                    <a:pt x="36" y="299"/>
                  </a:lnTo>
                  <a:lnTo>
                    <a:pt x="18" y="301"/>
                  </a:lnTo>
                  <a:lnTo>
                    <a:pt x="0" y="302"/>
                  </a:lnTo>
                  <a:lnTo>
                    <a:pt x="0" y="1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521320" y="1671480"/>
              <a:ext cx="777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861160" y="1589040"/>
              <a:ext cx="92160" cy="120600"/>
            </a:xfrm>
            <a:custGeom>
              <a:avLst/>
              <a:gdLst/>
              <a:ahLst/>
              <a:rect l="l" t="t" r="r" b="b"/>
              <a:pathLst>
                <a:path w="426" h="560">
                  <a:moveTo>
                    <a:pt x="426" y="468"/>
                  </a:moveTo>
                  <a:lnTo>
                    <a:pt x="426" y="129"/>
                  </a:lnTo>
                  <a:lnTo>
                    <a:pt x="186" y="93"/>
                  </a:lnTo>
                  <a:lnTo>
                    <a:pt x="132" y="65"/>
                  </a:lnTo>
                  <a:lnTo>
                    <a:pt x="75" y="35"/>
                  </a:lnTo>
                  <a:lnTo>
                    <a:pt x="9" y="0"/>
                  </a:lnTo>
                  <a:lnTo>
                    <a:pt x="7" y="2"/>
                  </a:lnTo>
                  <a:lnTo>
                    <a:pt x="6" y="6"/>
                  </a:lnTo>
                  <a:lnTo>
                    <a:pt x="6" y="14"/>
                  </a:lnTo>
                  <a:lnTo>
                    <a:pt x="4" y="24"/>
                  </a:lnTo>
                  <a:lnTo>
                    <a:pt x="3" y="51"/>
                  </a:lnTo>
                  <a:lnTo>
                    <a:pt x="3" y="86"/>
                  </a:lnTo>
                  <a:lnTo>
                    <a:pt x="1" y="176"/>
                  </a:lnTo>
                  <a:lnTo>
                    <a:pt x="0" y="278"/>
                  </a:lnTo>
                  <a:lnTo>
                    <a:pt x="0" y="471"/>
                  </a:lnTo>
                  <a:lnTo>
                    <a:pt x="1" y="560"/>
                  </a:lnTo>
                  <a:lnTo>
                    <a:pt x="96" y="560"/>
                  </a:lnTo>
                  <a:lnTo>
                    <a:pt x="102" y="551"/>
                  </a:lnTo>
                  <a:lnTo>
                    <a:pt x="106" y="548"/>
                  </a:lnTo>
                  <a:lnTo>
                    <a:pt x="111" y="543"/>
                  </a:lnTo>
                  <a:lnTo>
                    <a:pt x="121" y="534"/>
                  </a:lnTo>
                  <a:lnTo>
                    <a:pt x="129" y="530"/>
                  </a:lnTo>
                  <a:lnTo>
                    <a:pt x="136" y="524"/>
                  </a:lnTo>
                  <a:lnTo>
                    <a:pt x="153" y="515"/>
                  </a:lnTo>
                  <a:lnTo>
                    <a:pt x="164" y="512"/>
                  </a:lnTo>
                  <a:lnTo>
                    <a:pt x="174" y="509"/>
                  </a:lnTo>
                  <a:lnTo>
                    <a:pt x="179" y="507"/>
                  </a:lnTo>
                  <a:lnTo>
                    <a:pt x="185" y="506"/>
                  </a:lnTo>
                  <a:lnTo>
                    <a:pt x="197" y="504"/>
                  </a:lnTo>
                  <a:lnTo>
                    <a:pt x="225" y="501"/>
                  </a:lnTo>
                  <a:lnTo>
                    <a:pt x="260" y="497"/>
                  </a:lnTo>
                  <a:lnTo>
                    <a:pt x="335" y="484"/>
                  </a:lnTo>
                  <a:lnTo>
                    <a:pt x="426" y="4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465880" y="1569960"/>
              <a:ext cx="236520" cy="139680"/>
            </a:xfrm>
            <a:custGeom>
              <a:avLst/>
              <a:gdLst/>
              <a:ahLst/>
              <a:rect l="l" t="t" r="r" b="b"/>
              <a:pathLst>
                <a:path w="1089" h="643">
                  <a:moveTo>
                    <a:pt x="1087" y="0"/>
                  </a:moveTo>
                  <a:lnTo>
                    <a:pt x="1060" y="3"/>
                  </a:lnTo>
                  <a:lnTo>
                    <a:pt x="1038" y="6"/>
                  </a:lnTo>
                  <a:lnTo>
                    <a:pt x="1020" y="11"/>
                  </a:lnTo>
                  <a:lnTo>
                    <a:pt x="1006" y="15"/>
                  </a:lnTo>
                  <a:lnTo>
                    <a:pt x="989" y="23"/>
                  </a:lnTo>
                  <a:lnTo>
                    <a:pt x="968" y="35"/>
                  </a:lnTo>
                  <a:lnTo>
                    <a:pt x="917" y="65"/>
                  </a:lnTo>
                  <a:lnTo>
                    <a:pt x="859" y="103"/>
                  </a:lnTo>
                  <a:lnTo>
                    <a:pt x="799" y="143"/>
                  </a:lnTo>
                  <a:lnTo>
                    <a:pt x="740" y="182"/>
                  </a:lnTo>
                  <a:lnTo>
                    <a:pt x="692" y="215"/>
                  </a:lnTo>
                  <a:lnTo>
                    <a:pt x="647" y="246"/>
                  </a:lnTo>
                  <a:lnTo>
                    <a:pt x="601" y="252"/>
                  </a:lnTo>
                  <a:lnTo>
                    <a:pt x="489" y="267"/>
                  </a:lnTo>
                  <a:lnTo>
                    <a:pt x="423" y="276"/>
                  </a:lnTo>
                  <a:lnTo>
                    <a:pt x="359" y="285"/>
                  </a:lnTo>
                  <a:lnTo>
                    <a:pt x="329" y="291"/>
                  </a:lnTo>
                  <a:lnTo>
                    <a:pt x="302" y="295"/>
                  </a:lnTo>
                  <a:lnTo>
                    <a:pt x="276" y="300"/>
                  </a:lnTo>
                  <a:lnTo>
                    <a:pt x="255" y="304"/>
                  </a:lnTo>
                  <a:lnTo>
                    <a:pt x="236" y="309"/>
                  </a:lnTo>
                  <a:lnTo>
                    <a:pt x="216" y="315"/>
                  </a:lnTo>
                  <a:lnTo>
                    <a:pt x="195" y="324"/>
                  </a:lnTo>
                  <a:lnTo>
                    <a:pt x="185" y="327"/>
                  </a:lnTo>
                  <a:lnTo>
                    <a:pt x="174" y="331"/>
                  </a:lnTo>
                  <a:lnTo>
                    <a:pt x="153" y="342"/>
                  </a:lnTo>
                  <a:lnTo>
                    <a:pt x="132" y="352"/>
                  </a:lnTo>
                  <a:lnTo>
                    <a:pt x="111" y="364"/>
                  </a:lnTo>
                  <a:lnTo>
                    <a:pt x="92" y="376"/>
                  </a:lnTo>
                  <a:lnTo>
                    <a:pt x="73" y="388"/>
                  </a:lnTo>
                  <a:lnTo>
                    <a:pt x="64" y="394"/>
                  </a:lnTo>
                  <a:lnTo>
                    <a:pt x="57" y="400"/>
                  </a:lnTo>
                  <a:lnTo>
                    <a:pt x="42" y="414"/>
                  </a:lnTo>
                  <a:lnTo>
                    <a:pt x="34" y="420"/>
                  </a:lnTo>
                  <a:lnTo>
                    <a:pt x="28" y="428"/>
                  </a:lnTo>
                  <a:lnTo>
                    <a:pt x="22" y="434"/>
                  </a:lnTo>
                  <a:lnTo>
                    <a:pt x="16" y="440"/>
                  </a:lnTo>
                  <a:lnTo>
                    <a:pt x="9" y="452"/>
                  </a:lnTo>
                  <a:lnTo>
                    <a:pt x="3" y="464"/>
                  </a:lnTo>
                  <a:lnTo>
                    <a:pt x="1" y="470"/>
                  </a:lnTo>
                  <a:lnTo>
                    <a:pt x="0" y="476"/>
                  </a:lnTo>
                  <a:lnTo>
                    <a:pt x="0" y="488"/>
                  </a:lnTo>
                  <a:lnTo>
                    <a:pt x="1" y="500"/>
                  </a:lnTo>
                  <a:lnTo>
                    <a:pt x="4" y="513"/>
                  </a:lnTo>
                  <a:lnTo>
                    <a:pt x="9" y="527"/>
                  </a:lnTo>
                  <a:lnTo>
                    <a:pt x="13" y="540"/>
                  </a:lnTo>
                  <a:lnTo>
                    <a:pt x="19" y="554"/>
                  </a:lnTo>
                  <a:lnTo>
                    <a:pt x="33" y="581"/>
                  </a:lnTo>
                  <a:lnTo>
                    <a:pt x="45" y="605"/>
                  </a:lnTo>
                  <a:lnTo>
                    <a:pt x="57" y="625"/>
                  </a:lnTo>
                  <a:lnTo>
                    <a:pt x="69" y="643"/>
                  </a:lnTo>
                  <a:lnTo>
                    <a:pt x="1086" y="643"/>
                  </a:lnTo>
                  <a:lnTo>
                    <a:pt x="1087" y="321"/>
                  </a:lnTo>
                  <a:lnTo>
                    <a:pt x="1089" y="101"/>
                  </a:lnTo>
                  <a:lnTo>
                    <a:pt x="108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693040" y="1488960"/>
              <a:ext cx="177480" cy="32544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80" y="89"/>
                  </a:moveTo>
                  <a:lnTo>
                    <a:pt x="259" y="90"/>
                  </a:lnTo>
                  <a:lnTo>
                    <a:pt x="250" y="92"/>
                  </a:lnTo>
                  <a:lnTo>
                    <a:pt x="241" y="93"/>
                  </a:lnTo>
                  <a:lnTo>
                    <a:pt x="232" y="95"/>
                  </a:lnTo>
                  <a:lnTo>
                    <a:pt x="222" y="98"/>
                  </a:lnTo>
                  <a:lnTo>
                    <a:pt x="205" y="105"/>
                  </a:lnTo>
                  <a:lnTo>
                    <a:pt x="196" y="108"/>
                  </a:lnTo>
                  <a:lnTo>
                    <a:pt x="187" y="113"/>
                  </a:lnTo>
                  <a:lnTo>
                    <a:pt x="180" y="117"/>
                  </a:lnTo>
                  <a:lnTo>
                    <a:pt x="172" y="122"/>
                  </a:lnTo>
                  <a:lnTo>
                    <a:pt x="165" y="128"/>
                  </a:lnTo>
                  <a:lnTo>
                    <a:pt x="157" y="134"/>
                  </a:lnTo>
                  <a:lnTo>
                    <a:pt x="150" y="140"/>
                  </a:lnTo>
                  <a:lnTo>
                    <a:pt x="144" y="146"/>
                  </a:lnTo>
                  <a:lnTo>
                    <a:pt x="132" y="160"/>
                  </a:lnTo>
                  <a:lnTo>
                    <a:pt x="120" y="175"/>
                  </a:lnTo>
                  <a:lnTo>
                    <a:pt x="111" y="191"/>
                  </a:lnTo>
                  <a:lnTo>
                    <a:pt x="102" y="208"/>
                  </a:lnTo>
                  <a:lnTo>
                    <a:pt x="96" y="226"/>
                  </a:lnTo>
                  <a:lnTo>
                    <a:pt x="91" y="244"/>
                  </a:lnTo>
                  <a:lnTo>
                    <a:pt x="88" y="263"/>
                  </a:lnTo>
                  <a:lnTo>
                    <a:pt x="87" y="283"/>
                  </a:lnTo>
                  <a:lnTo>
                    <a:pt x="87" y="1226"/>
                  </a:lnTo>
                  <a:lnTo>
                    <a:pt x="88" y="1237"/>
                  </a:lnTo>
                  <a:lnTo>
                    <a:pt x="88" y="1246"/>
                  </a:lnTo>
                  <a:lnTo>
                    <a:pt x="90" y="1256"/>
                  </a:lnTo>
                  <a:lnTo>
                    <a:pt x="91" y="1265"/>
                  </a:lnTo>
                  <a:lnTo>
                    <a:pt x="93" y="1274"/>
                  </a:lnTo>
                  <a:lnTo>
                    <a:pt x="96" y="1283"/>
                  </a:lnTo>
                  <a:lnTo>
                    <a:pt x="102" y="1302"/>
                  </a:lnTo>
                  <a:lnTo>
                    <a:pt x="106" y="1311"/>
                  </a:lnTo>
                  <a:lnTo>
                    <a:pt x="111" y="1318"/>
                  </a:lnTo>
                  <a:lnTo>
                    <a:pt x="115" y="1327"/>
                  </a:lnTo>
                  <a:lnTo>
                    <a:pt x="120" y="1335"/>
                  </a:lnTo>
                  <a:lnTo>
                    <a:pt x="126" y="1342"/>
                  </a:lnTo>
                  <a:lnTo>
                    <a:pt x="132" y="1350"/>
                  </a:lnTo>
                  <a:lnTo>
                    <a:pt x="138" y="1356"/>
                  </a:lnTo>
                  <a:lnTo>
                    <a:pt x="144" y="1363"/>
                  </a:lnTo>
                  <a:lnTo>
                    <a:pt x="157" y="1375"/>
                  </a:lnTo>
                  <a:lnTo>
                    <a:pt x="172" y="1386"/>
                  </a:lnTo>
                  <a:lnTo>
                    <a:pt x="187" y="1396"/>
                  </a:lnTo>
                  <a:lnTo>
                    <a:pt x="205" y="1404"/>
                  </a:lnTo>
                  <a:lnTo>
                    <a:pt x="222" y="1411"/>
                  </a:lnTo>
                  <a:lnTo>
                    <a:pt x="241" y="1416"/>
                  </a:lnTo>
                  <a:lnTo>
                    <a:pt x="259" y="1419"/>
                  </a:lnTo>
                  <a:lnTo>
                    <a:pt x="280" y="1419"/>
                  </a:lnTo>
                  <a:lnTo>
                    <a:pt x="543" y="1419"/>
                  </a:lnTo>
                  <a:lnTo>
                    <a:pt x="563" y="1419"/>
                  </a:lnTo>
                  <a:lnTo>
                    <a:pt x="572" y="1417"/>
                  </a:lnTo>
                  <a:lnTo>
                    <a:pt x="582" y="1416"/>
                  </a:lnTo>
                  <a:lnTo>
                    <a:pt x="591" y="1413"/>
                  </a:lnTo>
                  <a:lnTo>
                    <a:pt x="600" y="1411"/>
                  </a:lnTo>
                  <a:lnTo>
                    <a:pt x="618" y="1404"/>
                  </a:lnTo>
                  <a:lnTo>
                    <a:pt x="626" y="1401"/>
                  </a:lnTo>
                  <a:lnTo>
                    <a:pt x="635" y="1396"/>
                  </a:lnTo>
                  <a:lnTo>
                    <a:pt x="642" y="1392"/>
                  </a:lnTo>
                  <a:lnTo>
                    <a:pt x="651" y="1386"/>
                  </a:lnTo>
                  <a:lnTo>
                    <a:pt x="659" y="1381"/>
                  </a:lnTo>
                  <a:lnTo>
                    <a:pt x="665" y="1375"/>
                  </a:lnTo>
                  <a:lnTo>
                    <a:pt x="672" y="1369"/>
                  </a:lnTo>
                  <a:lnTo>
                    <a:pt x="678" y="1363"/>
                  </a:lnTo>
                  <a:lnTo>
                    <a:pt x="692" y="1350"/>
                  </a:lnTo>
                  <a:lnTo>
                    <a:pt x="702" y="1335"/>
                  </a:lnTo>
                  <a:lnTo>
                    <a:pt x="713" y="1318"/>
                  </a:lnTo>
                  <a:lnTo>
                    <a:pt x="720" y="1302"/>
                  </a:lnTo>
                  <a:lnTo>
                    <a:pt x="726" y="1283"/>
                  </a:lnTo>
                  <a:lnTo>
                    <a:pt x="731" y="1265"/>
                  </a:lnTo>
                  <a:lnTo>
                    <a:pt x="734" y="1246"/>
                  </a:lnTo>
                  <a:lnTo>
                    <a:pt x="735" y="1226"/>
                  </a:lnTo>
                  <a:lnTo>
                    <a:pt x="735" y="283"/>
                  </a:lnTo>
                  <a:lnTo>
                    <a:pt x="735" y="272"/>
                  </a:lnTo>
                  <a:lnTo>
                    <a:pt x="734" y="263"/>
                  </a:lnTo>
                  <a:lnTo>
                    <a:pt x="734" y="253"/>
                  </a:lnTo>
                  <a:lnTo>
                    <a:pt x="731" y="244"/>
                  </a:lnTo>
                  <a:lnTo>
                    <a:pt x="729" y="235"/>
                  </a:lnTo>
                  <a:lnTo>
                    <a:pt x="726" y="226"/>
                  </a:lnTo>
                  <a:lnTo>
                    <a:pt x="720" y="208"/>
                  </a:lnTo>
                  <a:lnTo>
                    <a:pt x="716" y="199"/>
                  </a:lnTo>
                  <a:lnTo>
                    <a:pt x="713" y="191"/>
                  </a:lnTo>
                  <a:lnTo>
                    <a:pt x="707" y="182"/>
                  </a:lnTo>
                  <a:lnTo>
                    <a:pt x="702" y="175"/>
                  </a:lnTo>
                  <a:lnTo>
                    <a:pt x="698" y="167"/>
                  </a:lnTo>
                  <a:lnTo>
                    <a:pt x="692" y="160"/>
                  </a:lnTo>
                  <a:lnTo>
                    <a:pt x="686" y="152"/>
                  </a:lnTo>
                  <a:lnTo>
                    <a:pt x="678" y="146"/>
                  </a:lnTo>
                  <a:lnTo>
                    <a:pt x="665" y="134"/>
                  </a:lnTo>
                  <a:lnTo>
                    <a:pt x="651" y="122"/>
                  </a:lnTo>
                  <a:lnTo>
                    <a:pt x="635" y="113"/>
                  </a:lnTo>
                  <a:lnTo>
                    <a:pt x="618" y="105"/>
                  </a:lnTo>
                  <a:lnTo>
                    <a:pt x="600" y="98"/>
                  </a:lnTo>
                  <a:lnTo>
                    <a:pt x="582" y="93"/>
                  </a:lnTo>
                  <a:lnTo>
                    <a:pt x="563" y="90"/>
                  </a:lnTo>
                  <a:lnTo>
                    <a:pt x="543" y="89"/>
                  </a:lnTo>
                  <a:lnTo>
                    <a:pt x="280" y="89"/>
                  </a:lnTo>
                  <a:close/>
                  <a:moveTo>
                    <a:pt x="274" y="0"/>
                  </a:moveTo>
                  <a:lnTo>
                    <a:pt x="548" y="0"/>
                  </a:lnTo>
                  <a:lnTo>
                    <a:pt x="563" y="0"/>
                  </a:lnTo>
                  <a:lnTo>
                    <a:pt x="576" y="2"/>
                  </a:lnTo>
                  <a:lnTo>
                    <a:pt x="590" y="3"/>
                  </a:lnTo>
                  <a:lnTo>
                    <a:pt x="603" y="6"/>
                  </a:lnTo>
                  <a:lnTo>
                    <a:pt x="617" y="9"/>
                  </a:lnTo>
                  <a:lnTo>
                    <a:pt x="630" y="12"/>
                  </a:lnTo>
                  <a:lnTo>
                    <a:pt x="642" y="17"/>
                  </a:lnTo>
                  <a:lnTo>
                    <a:pt x="656" y="23"/>
                  </a:lnTo>
                  <a:lnTo>
                    <a:pt x="668" y="27"/>
                  </a:lnTo>
                  <a:lnTo>
                    <a:pt x="680" y="33"/>
                  </a:lnTo>
                  <a:lnTo>
                    <a:pt x="690" y="41"/>
                  </a:lnTo>
                  <a:lnTo>
                    <a:pt x="702" y="47"/>
                  </a:lnTo>
                  <a:lnTo>
                    <a:pt x="713" y="56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2" y="90"/>
                  </a:lnTo>
                  <a:lnTo>
                    <a:pt x="761" y="101"/>
                  </a:lnTo>
                  <a:lnTo>
                    <a:pt x="768" y="11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795" y="157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5" y="208"/>
                  </a:lnTo>
                  <a:lnTo>
                    <a:pt x="818" y="220"/>
                  </a:lnTo>
                  <a:lnTo>
                    <a:pt x="819" y="233"/>
                  </a:lnTo>
                  <a:lnTo>
                    <a:pt x="821" y="248"/>
                  </a:lnTo>
                  <a:lnTo>
                    <a:pt x="822" y="262"/>
                  </a:lnTo>
                  <a:lnTo>
                    <a:pt x="822" y="275"/>
                  </a:lnTo>
                  <a:lnTo>
                    <a:pt x="822" y="1234"/>
                  </a:lnTo>
                  <a:lnTo>
                    <a:pt x="822" y="1247"/>
                  </a:lnTo>
                  <a:lnTo>
                    <a:pt x="821" y="1261"/>
                  </a:lnTo>
                  <a:lnTo>
                    <a:pt x="819" y="1274"/>
                  </a:lnTo>
                  <a:lnTo>
                    <a:pt x="818" y="1288"/>
                  </a:lnTo>
                  <a:lnTo>
                    <a:pt x="815" y="1302"/>
                  </a:lnTo>
                  <a:lnTo>
                    <a:pt x="810" y="1315"/>
                  </a:lnTo>
                  <a:lnTo>
                    <a:pt x="806" y="1329"/>
                  </a:lnTo>
                  <a:lnTo>
                    <a:pt x="801" y="1341"/>
                  </a:lnTo>
                  <a:lnTo>
                    <a:pt x="795" y="1353"/>
                  </a:lnTo>
                  <a:lnTo>
                    <a:pt x="789" y="1365"/>
                  </a:lnTo>
                  <a:lnTo>
                    <a:pt x="783" y="1377"/>
                  </a:lnTo>
                  <a:lnTo>
                    <a:pt x="776" y="1387"/>
                  </a:lnTo>
                  <a:lnTo>
                    <a:pt x="768" y="1398"/>
                  </a:lnTo>
                  <a:lnTo>
                    <a:pt x="761" y="1408"/>
                  </a:lnTo>
                  <a:lnTo>
                    <a:pt x="743" y="1428"/>
                  </a:lnTo>
                  <a:lnTo>
                    <a:pt x="732" y="1437"/>
                  </a:lnTo>
                  <a:lnTo>
                    <a:pt x="723" y="1446"/>
                  </a:lnTo>
                  <a:lnTo>
                    <a:pt x="713" y="1453"/>
                  </a:lnTo>
                  <a:lnTo>
                    <a:pt x="702" y="1461"/>
                  </a:lnTo>
                  <a:lnTo>
                    <a:pt x="680" y="1476"/>
                  </a:lnTo>
                  <a:lnTo>
                    <a:pt x="668" y="1482"/>
                  </a:lnTo>
                  <a:lnTo>
                    <a:pt x="656" y="1487"/>
                  </a:lnTo>
                  <a:lnTo>
                    <a:pt x="630" y="1496"/>
                  </a:lnTo>
                  <a:lnTo>
                    <a:pt x="617" y="1500"/>
                  </a:lnTo>
                  <a:lnTo>
                    <a:pt x="603" y="1503"/>
                  </a:lnTo>
                  <a:lnTo>
                    <a:pt x="590" y="1506"/>
                  </a:lnTo>
                  <a:lnTo>
                    <a:pt x="576" y="1508"/>
                  </a:lnTo>
                  <a:lnTo>
                    <a:pt x="563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61" y="1508"/>
                  </a:lnTo>
                  <a:lnTo>
                    <a:pt x="246" y="1508"/>
                  </a:lnTo>
                  <a:lnTo>
                    <a:pt x="232" y="1506"/>
                  </a:lnTo>
                  <a:lnTo>
                    <a:pt x="219" y="1503"/>
                  </a:lnTo>
                  <a:lnTo>
                    <a:pt x="205" y="1500"/>
                  </a:lnTo>
                  <a:lnTo>
                    <a:pt x="193" y="1496"/>
                  </a:lnTo>
                  <a:lnTo>
                    <a:pt x="180" y="1493"/>
                  </a:lnTo>
                  <a:lnTo>
                    <a:pt x="168" y="1487"/>
                  </a:lnTo>
                  <a:lnTo>
                    <a:pt x="156" y="1482"/>
                  </a:lnTo>
                  <a:lnTo>
                    <a:pt x="144" y="1476"/>
                  </a:lnTo>
                  <a:lnTo>
                    <a:pt x="132" y="1469"/>
                  </a:lnTo>
                  <a:lnTo>
                    <a:pt x="121" y="1461"/>
                  </a:lnTo>
                  <a:lnTo>
                    <a:pt x="111" y="1453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72" y="1419"/>
                  </a:lnTo>
                  <a:lnTo>
                    <a:pt x="63" y="1408"/>
                  </a:lnTo>
                  <a:lnTo>
                    <a:pt x="54" y="139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7" y="1353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9" y="1302"/>
                  </a:lnTo>
                  <a:lnTo>
                    <a:pt x="6" y="1288"/>
                  </a:lnTo>
                  <a:lnTo>
                    <a:pt x="3" y="1274"/>
                  </a:lnTo>
                  <a:lnTo>
                    <a:pt x="1" y="1261"/>
                  </a:lnTo>
                  <a:lnTo>
                    <a:pt x="0" y="1247"/>
                  </a:lnTo>
                  <a:lnTo>
                    <a:pt x="0" y="1234"/>
                  </a:lnTo>
                  <a:lnTo>
                    <a:pt x="0" y="275"/>
                  </a:lnTo>
                  <a:lnTo>
                    <a:pt x="0" y="262"/>
                  </a:lnTo>
                  <a:lnTo>
                    <a:pt x="1" y="248"/>
                  </a:lnTo>
                  <a:lnTo>
                    <a:pt x="3" y="233"/>
                  </a:lnTo>
                  <a:lnTo>
                    <a:pt x="6" y="220"/>
                  </a:lnTo>
                  <a:lnTo>
                    <a:pt x="9" y="208"/>
                  </a:lnTo>
                  <a:lnTo>
                    <a:pt x="12" y="194"/>
                  </a:lnTo>
                  <a:lnTo>
                    <a:pt x="16" y="181"/>
                  </a:lnTo>
                  <a:lnTo>
                    <a:pt x="21" y="169"/>
                  </a:lnTo>
                  <a:lnTo>
                    <a:pt x="27" y="157"/>
                  </a:lnTo>
                  <a:lnTo>
                    <a:pt x="33" y="145"/>
                  </a:lnTo>
                  <a:lnTo>
                    <a:pt x="40" y="133"/>
                  </a:lnTo>
                  <a:lnTo>
                    <a:pt x="46" y="122"/>
                  </a:lnTo>
                  <a:lnTo>
                    <a:pt x="54" y="111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90" y="72"/>
                  </a:lnTo>
                  <a:lnTo>
                    <a:pt x="100" y="63"/>
                  </a:lnTo>
                  <a:lnTo>
                    <a:pt x="111" y="56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56" y="27"/>
                  </a:lnTo>
                  <a:lnTo>
                    <a:pt x="168" y="23"/>
                  </a:lnTo>
                  <a:lnTo>
                    <a:pt x="193" y="12"/>
                  </a:lnTo>
                  <a:lnTo>
                    <a:pt x="205" y="9"/>
                  </a:lnTo>
                  <a:lnTo>
                    <a:pt x="219" y="6"/>
                  </a:lnTo>
                  <a:lnTo>
                    <a:pt x="232" y="3"/>
                  </a:lnTo>
                  <a:lnTo>
                    <a:pt x="246" y="2"/>
                  </a:lnTo>
                  <a:lnTo>
                    <a:pt x="261" y="0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711760" y="1508040"/>
              <a:ext cx="140040" cy="287280"/>
            </a:xfrm>
            <a:custGeom>
              <a:avLst/>
              <a:gdLst/>
              <a:ahLst/>
              <a:rect l="l" t="t" r="r" b="b"/>
              <a:pathLst>
                <a:path w="648" h="1330">
                  <a:moveTo>
                    <a:pt x="192" y="0"/>
                  </a:moveTo>
                  <a:lnTo>
                    <a:pt x="154" y="4"/>
                  </a:lnTo>
                  <a:lnTo>
                    <a:pt x="118" y="15"/>
                  </a:lnTo>
                  <a:lnTo>
                    <a:pt x="100" y="24"/>
                  </a:lnTo>
                  <a:lnTo>
                    <a:pt x="85" y="33"/>
                  </a:lnTo>
                  <a:lnTo>
                    <a:pt x="57" y="57"/>
                  </a:lnTo>
                  <a:lnTo>
                    <a:pt x="33" y="86"/>
                  </a:lnTo>
                  <a:lnTo>
                    <a:pt x="24" y="101"/>
                  </a:lnTo>
                  <a:lnTo>
                    <a:pt x="15" y="119"/>
                  </a:lnTo>
                  <a:lnTo>
                    <a:pt x="9" y="135"/>
                  </a:lnTo>
                  <a:lnTo>
                    <a:pt x="4" y="155"/>
                  </a:lnTo>
                  <a:lnTo>
                    <a:pt x="1" y="173"/>
                  </a:lnTo>
                  <a:lnTo>
                    <a:pt x="0" y="194"/>
                  </a:lnTo>
                  <a:lnTo>
                    <a:pt x="0" y="1137"/>
                  </a:lnTo>
                  <a:lnTo>
                    <a:pt x="4" y="1176"/>
                  </a:lnTo>
                  <a:lnTo>
                    <a:pt x="15" y="1213"/>
                  </a:lnTo>
                  <a:lnTo>
                    <a:pt x="24" y="1229"/>
                  </a:lnTo>
                  <a:lnTo>
                    <a:pt x="33" y="1246"/>
                  </a:lnTo>
                  <a:lnTo>
                    <a:pt x="57" y="1274"/>
                  </a:lnTo>
                  <a:lnTo>
                    <a:pt x="85" y="1297"/>
                  </a:lnTo>
                  <a:lnTo>
                    <a:pt x="100" y="1307"/>
                  </a:lnTo>
                  <a:lnTo>
                    <a:pt x="118" y="1315"/>
                  </a:lnTo>
                  <a:lnTo>
                    <a:pt x="135" y="1321"/>
                  </a:lnTo>
                  <a:lnTo>
                    <a:pt x="154" y="1327"/>
                  </a:lnTo>
                  <a:lnTo>
                    <a:pt x="192" y="1330"/>
                  </a:lnTo>
                  <a:lnTo>
                    <a:pt x="456" y="1330"/>
                  </a:lnTo>
                  <a:lnTo>
                    <a:pt x="495" y="1327"/>
                  </a:lnTo>
                  <a:lnTo>
                    <a:pt x="531" y="1315"/>
                  </a:lnTo>
                  <a:lnTo>
                    <a:pt x="548" y="1307"/>
                  </a:lnTo>
                  <a:lnTo>
                    <a:pt x="563" y="1297"/>
                  </a:lnTo>
                  <a:lnTo>
                    <a:pt x="591" y="1274"/>
                  </a:lnTo>
                  <a:lnTo>
                    <a:pt x="615" y="1246"/>
                  </a:lnTo>
                  <a:lnTo>
                    <a:pt x="624" y="1229"/>
                  </a:lnTo>
                  <a:lnTo>
                    <a:pt x="633" y="1213"/>
                  </a:lnTo>
                  <a:lnTo>
                    <a:pt x="639" y="1194"/>
                  </a:lnTo>
                  <a:lnTo>
                    <a:pt x="644" y="1176"/>
                  </a:lnTo>
                  <a:lnTo>
                    <a:pt x="647" y="1157"/>
                  </a:lnTo>
                  <a:lnTo>
                    <a:pt x="648" y="1137"/>
                  </a:lnTo>
                  <a:lnTo>
                    <a:pt x="648" y="194"/>
                  </a:lnTo>
                  <a:lnTo>
                    <a:pt x="644" y="155"/>
                  </a:lnTo>
                  <a:lnTo>
                    <a:pt x="633" y="119"/>
                  </a:lnTo>
                  <a:lnTo>
                    <a:pt x="624" y="101"/>
                  </a:lnTo>
                  <a:lnTo>
                    <a:pt x="615" y="86"/>
                  </a:lnTo>
                  <a:lnTo>
                    <a:pt x="591" y="57"/>
                  </a:lnTo>
                  <a:lnTo>
                    <a:pt x="563" y="33"/>
                  </a:lnTo>
                  <a:lnTo>
                    <a:pt x="548" y="24"/>
                  </a:lnTo>
                  <a:lnTo>
                    <a:pt x="531" y="15"/>
                  </a:lnTo>
                  <a:lnTo>
                    <a:pt x="513" y="9"/>
                  </a:lnTo>
                  <a:lnTo>
                    <a:pt x="495" y="4"/>
                  </a:lnTo>
                  <a:lnTo>
                    <a:pt x="456" y="0"/>
                  </a:lnTo>
                  <a:lnTo>
                    <a:pt x="192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693040" y="1488960"/>
              <a:ext cx="177480" cy="32544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74" y="0"/>
                  </a:moveTo>
                  <a:lnTo>
                    <a:pt x="548" y="0"/>
                  </a:lnTo>
                  <a:lnTo>
                    <a:pt x="576" y="2"/>
                  </a:lnTo>
                  <a:lnTo>
                    <a:pt x="603" y="6"/>
                  </a:lnTo>
                  <a:lnTo>
                    <a:pt x="630" y="12"/>
                  </a:lnTo>
                  <a:lnTo>
                    <a:pt x="654" y="21"/>
                  </a:lnTo>
                  <a:lnTo>
                    <a:pt x="678" y="33"/>
                  </a:lnTo>
                  <a:lnTo>
                    <a:pt x="702" y="47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9" y="10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8" y="220"/>
                  </a:lnTo>
                  <a:lnTo>
                    <a:pt x="821" y="247"/>
                  </a:lnTo>
                  <a:lnTo>
                    <a:pt x="822" y="275"/>
                  </a:lnTo>
                  <a:lnTo>
                    <a:pt x="822" y="1232"/>
                  </a:lnTo>
                  <a:lnTo>
                    <a:pt x="821" y="1261"/>
                  </a:lnTo>
                  <a:lnTo>
                    <a:pt x="818" y="1288"/>
                  </a:lnTo>
                  <a:lnTo>
                    <a:pt x="810" y="1315"/>
                  </a:lnTo>
                  <a:lnTo>
                    <a:pt x="801" y="1341"/>
                  </a:lnTo>
                  <a:lnTo>
                    <a:pt x="789" y="1365"/>
                  </a:lnTo>
                  <a:lnTo>
                    <a:pt x="776" y="1387"/>
                  </a:lnTo>
                  <a:lnTo>
                    <a:pt x="759" y="1408"/>
                  </a:lnTo>
                  <a:lnTo>
                    <a:pt x="743" y="1428"/>
                  </a:lnTo>
                  <a:lnTo>
                    <a:pt x="723" y="1446"/>
                  </a:lnTo>
                  <a:lnTo>
                    <a:pt x="702" y="1461"/>
                  </a:lnTo>
                  <a:lnTo>
                    <a:pt x="678" y="1475"/>
                  </a:lnTo>
                  <a:lnTo>
                    <a:pt x="654" y="1487"/>
                  </a:lnTo>
                  <a:lnTo>
                    <a:pt x="630" y="1496"/>
                  </a:lnTo>
                  <a:lnTo>
                    <a:pt x="603" y="1503"/>
                  </a:lnTo>
                  <a:lnTo>
                    <a:pt x="576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46" y="1508"/>
                  </a:lnTo>
                  <a:lnTo>
                    <a:pt x="219" y="1503"/>
                  </a:lnTo>
                  <a:lnTo>
                    <a:pt x="193" y="1496"/>
                  </a:lnTo>
                  <a:lnTo>
                    <a:pt x="168" y="1487"/>
                  </a:lnTo>
                  <a:lnTo>
                    <a:pt x="144" y="1475"/>
                  </a:lnTo>
                  <a:lnTo>
                    <a:pt x="121" y="1461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63" y="140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6" y="1288"/>
                  </a:lnTo>
                  <a:lnTo>
                    <a:pt x="1" y="1261"/>
                  </a:lnTo>
                  <a:lnTo>
                    <a:pt x="0" y="1232"/>
                  </a:lnTo>
                  <a:lnTo>
                    <a:pt x="0" y="275"/>
                  </a:lnTo>
                  <a:lnTo>
                    <a:pt x="1" y="247"/>
                  </a:lnTo>
                  <a:lnTo>
                    <a:pt x="6" y="220"/>
                  </a:lnTo>
                  <a:lnTo>
                    <a:pt x="12" y="194"/>
                  </a:lnTo>
                  <a:lnTo>
                    <a:pt x="21" y="169"/>
                  </a:lnTo>
                  <a:lnTo>
                    <a:pt x="33" y="145"/>
                  </a:lnTo>
                  <a:lnTo>
                    <a:pt x="46" y="122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100" y="63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68" y="21"/>
                  </a:lnTo>
                  <a:lnTo>
                    <a:pt x="193" y="12"/>
                  </a:lnTo>
                  <a:lnTo>
                    <a:pt x="219" y="6"/>
                  </a:lnTo>
                  <a:lnTo>
                    <a:pt x="246" y="2"/>
                  </a:lnTo>
                  <a:lnTo>
                    <a:pt x="274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729400" y="1546200"/>
              <a:ext cx="10476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810400" y="167472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805720" y="167472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823000" y="16747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773680" y="167472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769000" y="16747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786640" y="16747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735880" y="167472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730840" y="167472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748480" y="16747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810400" y="169704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805720" y="169704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823000" y="16970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773680" y="169704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769000" y="16970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786640" y="16970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735880" y="169704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730840" y="169704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748480" y="16970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10400" y="171936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805720" y="171936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823000" y="171936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773680" y="171936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769000" y="171936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786640" y="171936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735880" y="171936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730840" y="171936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748480" y="171936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810400" y="174132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805720" y="174132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823000" y="17413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773680" y="174132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769000" y="17413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786640" y="17413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735880" y="174132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730840" y="174132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748480" y="17413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773680" y="1636560"/>
              <a:ext cx="1908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764320" y="1636560"/>
              <a:ext cx="19080" cy="19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783400" y="1636560"/>
              <a:ext cx="19080" cy="19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734080" y="1635120"/>
              <a:ext cx="20880" cy="19080"/>
            </a:xfrm>
            <a:custGeom>
              <a:avLst/>
              <a:gdLst/>
              <a:ahLst/>
              <a:rect l="l" t="t" r="r" b="b"/>
              <a:pathLst>
                <a:path w="99" h="84">
                  <a:moveTo>
                    <a:pt x="74" y="84"/>
                  </a:moveTo>
                  <a:lnTo>
                    <a:pt x="99" y="42"/>
                  </a:lnTo>
                  <a:lnTo>
                    <a:pt x="26" y="0"/>
                  </a:lnTo>
                  <a:lnTo>
                    <a:pt x="0" y="42"/>
                  </a:lnTo>
                  <a:lnTo>
                    <a:pt x="74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730840" y="16351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748480" y="1644480"/>
              <a:ext cx="93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810400" y="1635120"/>
              <a:ext cx="20520" cy="19080"/>
            </a:xfrm>
            <a:custGeom>
              <a:avLst/>
              <a:gdLst/>
              <a:ahLst/>
              <a:rect l="l" t="t" r="r" b="b"/>
              <a:pathLst>
                <a:path w="98" h="86">
                  <a:moveTo>
                    <a:pt x="0" y="42"/>
                  </a:moveTo>
                  <a:lnTo>
                    <a:pt x="24" y="86"/>
                  </a:lnTo>
                  <a:lnTo>
                    <a:pt x="98" y="44"/>
                  </a:lnTo>
                  <a:lnTo>
                    <a:pt x="74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823000" y="16351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807160" y="164448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374360" y="1413000"/>
              <a:ext cx="13816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olu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2891520" y="1400040"/>
            <a:ext cx="14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andsf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5847840" y="1165320"/>
            <a:ext cx="1649880" cy="788760"/>
            <a:chOff x="5847840" y="1165320"/>
            <a:chExt cx="1649880" cy="788760"/>
          </a:xfrm>
        </p:grpSpPr>
        <p:sp>
          <p:nvSpPr>
            <p:cNvPr id="521" name=""/>
            <p:cNvSpPr/>
            <p:nvPr/>
          </p:nvSpPr>
          <p:spPr>
            <a:xfrm>
              <a:off x="6029280" y="1165320"/>
              <a:ext cx="1468440" cy="788760"/>
            </a:xfrm>
            <a:prstGeom prst="rect">
              <a:avLst/>
            </a:prstGeom>
            <a:solidFill>
              <a:srgbClr val="42677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756480" y="1200240"/>
              <a:ext cx="7412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032600" y="1490760"/>
              <a:ext cx="309600" cy="2397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174080" y="1609560"/>
              <a:ext cx="135000" cy="120960"/>
            </a:xfrm>
            <a:custGeom>
              <a:avLst/>
              <a:gdLst/>
              <a:ahLst/>
              <a:rect l="l" t="t" r="r" b="b"/>
              <a:pathLst>
                <a:path w="628" h="562">
                  <a:moveTo>
                    <a:pt x="0" y="549"/>
                  </a:moveTo>
                  <a:lnTo>
                    <a:pt x="72" y="546"/>
                  </a:lnTo>
                  <a:lnTo>
                    <a:pt x="107" y="543"/>
                  </a:lnTo>
                  <a:lnTo>
                    <a:pt x="140" y="538"/>
                  </a:lnTo>
                  <a:lnTo>
                    <a:pt x="173" y="532"/>
                  </a:lnTo>
                  <a:lnTo>
                    <a:pt x="203" y="525"/>
                  </a:lnTo>
                  <a:lnTo>
                    <a:pt x="261" y="505"/>
                  </a:lnTo>
                  <a:lnTo>
                    <a:pt x="317" y="483"/>
                  </a:lnTo>
                  <a:lnTo>
                    <a:pt x="368" y="454"/>
                  </a:lnTo>
                  <a:lnTo>
                    <a:pt x="413" y="424"/>
                  </a:lnTo>
                  <a:lnTo>
                    <a:pt x="455" y="388"/>
                  </a:lnTo>
                  <a:lnTo>
                    <a:pt x="493" y="349"/>
                  </a:lnTo>
                  <a:lnTo>
                    <a:pt x="523" y="305"/>
                  </a:lnTo>
                  <a:lnTo>
                    <a:pt x="551" y="262"/>
                  </a:lnTo>
                  <a:lnTo>
                    <a:pt x="563" y="238"/>
                  </a:lnTo>
                  <a:lnTo>
                    <a:pt x="574" y="213"/>
                  </a:lnTo>
                  <a:lnTo>
                    <a:pt x="584" y="188"/>
                  </a:lnTo>
                  <a:lnTo>
                    <a:pt x="593" y="164"/>
                  </a:lnTo>
                  <a:lnTo>
                    <a:pt x="605" y="110"/>
                  </a:lnTo>
                  <a:lnTo>
                    <a:pt x="613" y="54"/>
                  </a:lnTo>
                  <a:lnTo>
                    <a:pt x="616" y="0"/>
                  </a:lnTo>
                  <a:lnTo>
                    <a:pt x="628" y="0"/>
                  </a:lnTo>
                  <a:lnTo>
                    <a:pt x="625" y="57"/>
                  </a:lnTo>
                  <a:lnTo>
                    <a:pt x="617" y="114"/>
                  </a:lnTo>
                  <a:lnTo>
                    <a:pt x="605" y="168"/>
                  </a:lnTo>
                  <a:lnTo>
                    <a:pt x="596" y="194"/>
                  </a:lnTo>
                  <a:lnTo>
                    <a:pt x="586" y="219"/>
                  </a:lnTo>
                  <a:lnTo>
                    <a:pt x="575" y="244"/>
                  </a:lnTo>
                  <a:lnTo>
                    <a:pt x="562" y="269"/>
                  </a:lnTo>
                  <a:lnTo>
                    <a:pt x="533" y="314"/>
                  </a:lnTo>
                  <a:lnTo>
                    <a:pt x="502" y="359"/>
                  </a:lnTo>
                  <a:lnTo>
                    <a:pt x="464" y="399"/>
                  </a:lnTo>
                  <a:lnTo>
                    <a:pt x="422" y="435"/>
                  </a:lnTo>
                  <a:lnTo>
                    <a:pt x="374" y="466"/>
                  </a:lnTo>
                  <a:lnTo>
                    <a:pt x="323" y="495"/>
                  </a:lnTo>
                  <a:lnTo>
                    <a:pt x="267" y="517"/>
                  </a:lnTo>
                  <a:lnTo>
                    <a:pt x="206" y="538"/>
                  </a:lnTo>
                  <a:lnTo>
                    <a:pt x="174" y="546"/>
                  </a:lnTo>
                  <a:lnTo>
                    <a:pt x="141" y="552"/>
                  </a:lnTo>
                  <a:lnTo>
                    <a:pt x="108" y="556"/>
                  </a:lnTo>
                  <a:lnTo>
                    <a:pt x="72" y="559"/>
                  </a:lnTo>
                  <a:lnTo>
                    <a:pt x="0" y="562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174080" y="1488960"/>
              <a:ext cx="135000" cy="120600"/>
            </a:xfrm>
            <a:custGeom>
              <a:avLst/>
              <a:gdLst/>
              <a:ahLst/>
              <a:rect l="l" t="t" r="r" b="b"/>
              <a:pathLst>
                <a:path w="628" h="563">
                  <a:moveTo>
                    <a:pt x="616" y="563"/>
                  </a:moveTo>
                  <a:lnTo>
                    <a:pt x="613" y="506"/>
                  </a:lnTo>
                  <a:lnTo>
                    <a:pt x="605" y="451"/>
                  </a:lnTo>
                  <a:lnTo>
                    <a:pt x="599" y="426"/>
                  </a:lnTo>
                  <a:lnTo>
                    <a:pt x="593" y="400"/>
                  </a:lnTo>
                  <a:lnTo>
                    <a:pt x="584" y="375"/>
                  </a:lnTo>
                  <a:lnTo>
                    <a:pt x="574" y="349"/>
                  </a:lnTo>
                  <a:lnTo>
                    <a:pt x="551" y="301"/>
                  </a:lnTo>
                  <a:lnTo>
                    <a:pt x="523" y="256"/>
                  </a:lnTo>
                  <a:lnTo>
                    <a:pt x="493" y="214"/>
                  </a:lnTo>
                  <a:lnTo>
                    <a:pt x="455" y="175"/>
                  </a:lnTo>
                  <a:lnTo>
                    <a:pt x="413" y="139"/>
                  </a:lnTo>
                  <a:lnTo>
                    <a:pt x="390" y="122"/>
                  </a:lnTo>
                  <a:lnTo>
                    <a:pt x="366" y="107"/>
                  </a:lnTo>
                  <a:lnTo>
                    <a:pt x="317" y="80"/>
                  </a:lnTo>
                  <a:lnTo>
                    <a:pt x="261" y="56"/>
                  </a:lnTo>
                  <a:lnTo>
                    <a:pt x="231" y="45"/>
                  </a:lnTo>
                  <a:lnTo>
                    <a:pt x="201" y="38"/>
                  </a:lnTo>
                  <a:lnTo>
                    <a:pt x="171" y="30"/>
                  </a:lnTo>
                  <a:lnTo>
                    <a:pt x="138" y="24"/>
                  </a:lnTo>
                  <a:lnTo>
                    <a:pt x="72" y="15"/>
                  </a:lnTo>
                  <a:lnTo>
                    <a:pt x="0" y="12"/>
                  </a:lnTo>
                  <a:lnTo>
                    <a:pt x="0" y="0"/>
                  </a:lnTo>
                  <a:lnTo>
                    <a:pt x="72" y="3"/>
                  </a:lnTo>
                  <a:lnTo>
                    <a:pt x="141" y="12"/>
                  </a:lnTo>
                  <a:lnTo>
                    <a:pt x="174" y="18"/>
                  </a:lnTo>
                  <a:lnTo>
                    <a:pt x="206" y="26"/>
                  </a:lnTo>
                  <a:lnTo>
                    <a:pt x="236" y="33"/>
                  </a:lnTo>
                  <a:lnTo>
                    <a:pt x="267" y="44"/>
                  </a:lnTo>
                  <a:lnTo>
                    <a:pt x="323" y="68"/>
                  </a:lnTo>
                  <a:lnTo>
                    <a:pt x="374" y="96"/>
                  </a:lnTo>
                  <a:lnTo>
                    <a:pt x="399" y="111"/>
                  </a:lnTo>
                  <a:lnTo>
                    <a:pt x="422" y="128"/>
                  </a:lnTo>
                  <a:lnTo>
                    <a:pt x="464" y="164"/>
                  </a:lnTo>
                  <a:lnTo>
                    <a:pt x="502" y="205"/>
                  </a:lnTo>
                  <a:lnTo>
                    <a:pt x="533" y="247"/>
                  </a:lnTo>
                  <a:lnTo>
                    <a:pt x="562" y="294"/>
                  </a:lnTo>
                  <a:lnTo>
                    <a:pt x="586" y="343"/>
                  </a:lnTo>
                  <a:lnTo>
                    <a:pt x="596" y="369"/>
                  </a:lnTo>
                  <a:lnTo>
                    <a:pt x="605" y="396"/>
                  </a:lnTo>
                  <a:lnTo>
                    <a:pt x="611" y="421"/>
                  </a:lnTo>
                  <a:lnTo>
                    <a:pt x="617" y="448"/>
                  </a:lnTo>
                  <a:lnTo>
                    <a:pt x="625" y="506"/>
                  </a:lnTo>
                  <a:lnTo>
                    <a:pt x="628" y="563"/>
                  </a:lnTo>
                  <a:lnTo>
                    <a:pt x="616" y="563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067520" y="1609560"/>
              <a:ext cx="136800" cy="120960"/>
            </a:xfrm>
            <a:custGeom>
              <a:avLst/>
              <a:gdLst/>
              <a:ahLst/>
              <a:rect l="l" t="t" r="r" b="b"/>
              <a:pathLst>
                <a:path w="627" h="561">
                  <a:moveTo>
                    <a:pt x="627" y="561"/>
                  </a:moveTo>
                  <a:lnTo>
                    <a:pt x="555" y="558"/>
                  </a:lnTo>
                  <a:lnTo>
                    <a:pt x="519" y="555"/>
                  </a:lnTo>
                  <a:lnTo>
                    <a:pt x="485" y="550"/>
                  </a:lnTo>
                  <a:lnTo>
                    <a:pt x="453" y="544"/>
                  </a:lnTo>
                  <a:lnTo>
                    <a:pt x="420" y="537"/>
                  </a:lnTo>
                  <a:lnTo>
                    <a:pt x="360" y="517"/>
                  </a:lnTo>
                  <a:lnTo>
                    <a:pt x="304" y="495"/>
                  </a:lnTo>
                  <a:lnTo>
                    <a:pt x="252" y="466"/>
                  </a:lnTo>
                  <a:lnTo>
                    <a:pt x="205" y="435"/>
                  </a:lnTo>
                  <a:lnTo>
                    <a:pt x="163" y="399"/>
                  </a:lnTo>
                  <a:lnTo>
                    <a:pt x="126" y="358"/>
                  </a:lnTo>
                  <a:lnTo>
                    <a:pt x="91" y="314"/>
                  </a:lnTo>
                  <a:lnTo>
                    <a:pt x="64" y="269"/>
                  </a:lnTo>
                  <a:lnTo>
                    <a:pt x="52" y="244"/>
                  </a:lnTo>
                  <a:lnTo>
                    <a:pt x="40" y="219"/>
                  </a:lnTo>
                  <a:lnTo>
                    <a:pt x="31" y="194"/>
                  </a:lnTo>
                  <a:lnTo>
                    <a:pt x="22" y="168"/>
                  </a:lnTo>
                  <a:lnTo>
                    <a:pt x="10" y="113"/>
                  </a:lnTo>
                  <a:lnTo>
                    <a:pt x="1" y="55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3" y="55"/>
                  </a:lnTo>
                  <a:lnTo>
                    <a:pt x="22" y="110"/>
                  </a:lnTo>
                  <a:lnTo>
                    <a:pt x="34" y="164"/>
                  </a:lnTo>
                  <a:lnTo>
                    <a:pt x="43" y="188"/>
                  </a:lnTo>
                  <a:lnTo>
                    <a:pt x="52" y="213"/>
                  </a:lnTo>
                  <a:lnTo>
                    <a:pt x="64" y="238"/>
                  </a:lnTo>
                  <a:lnTo>
                    <a:pt x="75" y="262"/>
                  </a:lnTo>
                  <a:lnTo>
                    <a:pt x="102" y="305"/>
                  </a:lnTo>
                  <a:lnTo>
                    <a:pt x="135" y="349"/>
                  </a:lnTo>
                  <a:lnTo>
                    <a:pt x="172" y="388"/>
                  </a:lnTo>
                  <a:lnTo>
                    <a:pt x="214" y="424"/>
                  </a:lnTo>
                  <a:lnTo>
                    <a:pt x="259" y="456"/>
                  </a:lnTo>
                  <a:lnTo>
                    <a:pt x="310" y="483"/>
                  </a:lnTo>
                  <a:lnTo>
                    <a:pt x="366" y="505"/>
                  </a:lnTo>
                  <a:lnTo>
                    <a:pt x="424" y="525"/>
                  </a:lnTo>
                  <a:lnTo>
                    <a:pt x="456" y="532"/>
                  </a:lnTo>
                  <a:lnTo>
                    <a:pt x="488" y="538"/>
                  </a:lnTo>
                  <a:lnTo>
                    <a:pt x="522" y="543"/>
                  </a:lnTo>
                  <a:lnTo>
                    <a:pt x="555" y="546"/>
                  </a:lnTo>
                  <a:lnTo>
                    <a:pt x="627" y="549"/>
                  </a:lnTo>
                  <a:lnTo>
                    <a:pt x="627" y="561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067520" y="1488960"/>
              <a:ext cx="136800" cy="120600"/>
            </a:xfrm>
            <a:custGeom>
              <a:avLst/>
              <a:gdLst/>
              <a:ahLst/>
              <a:rect l="l" t="t" r="r" b="b"/>
              <a:pathLst>
                <a:path w="627" h="563">
                  <a:moveTo>
                    <a:pt x="0" y="563"/>
                  </a:moveTo>
                  <a:lnTo>
                    <a:pt x="1" y="504"/>
                  </a:lnTo>
                  <a:lnTo>
                    <a:pt x="10" y="448"/>
                  </a:lnTo>
                  <a:lnTo>
                    <a:pt x="15" y="421"/>
                  </a:lnTo>
                  <a:lnTo>
                    <a:pt x="22" y="394"/>
                  </a:lnTo>
                  <a:lnTo>
                    <a:pt x="31" y="369"/>
                  </a:lnTo>
                  <a:lnTo>
                    <a:pt x="40" y="343"/>
                  </a:lnTo>
                  <a:lnTo>
                    <a:pt x="64" y="294"/>
                  </a:lnTo>
                  <a:lnTo>
                    <a:pt x="91" y="247"/>
                  </a:lnTo>
                  <a:lnTo>
                    <a:pt x="126" y="205"/>
                  </a:lnTo>
                  <a:lnTo>
                    <a:pt x="163" y="164"/>
                  </a:lnTo>
                  <a:lnTo>
                    <a:pt x="205" y="128"/>
                  </a:lnTo>
                  <a:lnTo>
                    <a:pt x="228" y="111"/>
                  </a:lnTo>
                  <a:lnTo>
                    <a:pt x="253" y="95"/>
                  </a:lnTo>
                  <a:lnTo>
                    <a:pt x="304" y="68"/>
                  </a:lnTo>
                  <a:lnTo>
                    <a:pt x="360" y="44"/>
                  </a:lnTo>
                  <a:lnTo>
                    <a:pt x="391" y="33"/>
                  </a:lnTo>
                  <a:lnTo>
                    <a:pt x="421" y="26"/>
                  </a:lnTo>
                  <a:lnTo>
                    <a:pt x="455" y="18"/>
                  </a:lnTo>
                  <a:lnTo>
                    <a:pt x="486" y="12"/>
                  </a:lnTo>
                  <a:lnTo>
                    <a:pt x="555" y="3"/>
                  </a:lnTo>
                  <a:lnTo>
                    <a:pt x="627" y="0"/>
                  </a:lnTo>
                  <a:lnTo>
                    <a:pt x="627" y="14"/>
                  </a:lnTo>
                  <a:lnTo>
                    <a:pt x="555" y="17"/>
                  </a:lnTo>
                  <a:lnTo>
                    <a:pt x="488" y="26"/>
                  </a:lnTo>
                  <a:lnTo>
                    <a:pt x="456" y="32"/>
                  </a:lnTo>
                  <a:lnTo>
                    <a:pt x="424" y="39"/>
                  </a:lnTo>
                  <a:lnTo>
                    <a:pt x="394" y="47"/>
                  </a:lnTo>
                  <a:lnTo>
                    <a:pt x="366" y="56"/>
                  </a:lnTo>
                  <a:lnTo>
                    <a:pt x="310" y="80"/>
                  </a:lnTo>
                  <a:lnTo>
                    <a:pt x="259" y="107"/>
                  </a:lnTo>
                  <a:lnTo>
                    <a:pt x="237" y="122"/>
                  </a:lnTo>
                  <a:lnTo>
                    <a:pt x="214" y="139"/>
                  </a:lnTo>
                  <a:lnTo>
                    <a:pt x="172" y="175"/>
                  </a:lnTo>
                  <a:lnTo>
                    <a:pt x="135" y="215"/>
                  </a:lnTo>
                  <a:lnTo>
                    <a:pt x="102" y="256"/>
                  </a:lnTo>
                  <a:lnTo>
                    <a:pt x="75" y="301"/>
                  </a:lnTo>
                  <a:lnTo>
                    <a:pt x="52" y="349"/>
                  </a:lnTo>
                  <a:lnTo>
                    <a:pt x="43" y="375"/>
                  </a:lnTo>
                  <a:lnTo>
                    <a:pt x="34" y="400"/>
                  </a:lnTo>
                  <a:lnTo>
                    <a:pt x="27" y="426"/>
                  </a:lnTo>
                  <a:lnTo>
                    <a:pt x="22" y="451"/>
                  </a:lnTo>
                  <a:lnTo>
                    <a:pt x="13" y="507"/>
                  </a:lnTo>
                  <a:lnTo>
                    <a:pt x="12" y="563"/>
                  </a:lnTo>
                  <a:lnTo>
                    <a:pt x="0" y="563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112160" y="1490760"/>
              <a:ext cx="154080" cy="2379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186680" y="1670040"/>
              <a:ext cx="114480" cy="25560"/>
            </a:xfrm>
            <a:custGeom>
              <a:avLst/>
              <a:gdLst/>
              <a:ahLst/>
              <a:rect l="l" t="t" r="r" b="b"/>
              <a:pathLst>
                <a:path w="522" h="118">
                  <a:moveTo>
                    <a:pt x="516" y="118"/>
                  </a:moveTo>
                  <a:lnTo>
                    <a:pt x="465" y="96"/>
                  </a:lnTo>
                  <a:lnTo>
                    <a:pt x="410" y="75"/>
                  </a:lnTo>
                  <a:lnTo>
                    <a:pt x="348" y="57"/>
                  </a:lnTo>
                  <a:lnTo>
                    <a:pt x="286" y="40"/>
                  </a:lnTo>
                  <a:lnTo>
                    <a:pt x="219" y="28"/>
                  </a:lnTo>
                  <a:lnTo>
                    <a:pt x="150" y="19"/>
                  </a:lnTo>
                  <a:lnTo>
                    <a:pt x="76" y="15"/>
                  </a:lnTo>
                  <a:lnTo>
                    <a:pt x="0" y="12"/>
                  </a:lnTo>
                  <a:lnTo>
                    <a:pt x="0" y="0"/>
                  </a:lnTo>
                  <a:lnTo>
                    <a:pt x="76" y="3"/>
                  </a:lnTo>
                  <a:lnTo>
                    <a:pt x="150" y="7"/>
                  </a:lnTo>
                  <a:lnTo>
                    <a:pt x="222" y="16"/>
                  </a:lnTo>
                  <a:lnTo>
                    <a:pt x="289" y="28"/>
                  </a:lnTo>
                  <a:lnTo>
                    <a:pt x="352" y="45"/>
                  </a:lnTo>
                  <a:lnTo>
                    <a:pt x="414" y="63"/>
                  </a:lnTo>
                  <a:lnTo>
                    <a:pt x="471" y="84"/>
                  </a:lnTo>
                  <a:lnTo>
                    <a:pt x="522" y="106"/>
                  </a:lnTo>
                  <a:lnTo>
                    <a:pt x="516" y="118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074000" y="1670040"/>
              <a:ext cx="112680" cy="23760"/>
            </a:xfrm>
            <a:custGeom>
              <a:avLst/>
              <a:gdLst/>
              <a:ahLst/>
              <a:rect l="l" t="t" r="r" b="b"/>
              <a:pathLst>
                <a:path w="518" h="117">
                  <a:moveTo>
                    <a:pt x="518" y="12"/>
                  </a:moveTo>
                  <a:lnTo>
                    <a:pt x="443" y="13"/>
                  </a:lnTo>
                  <a:lnTo>
                    <a:pt x="372" y="19"/>
                  </a:lnTo>
                  <a:lnTo>
                    <a:pt x="301" y="28"/>
                  </a:lnTo>
                  <a:lnTo>
                    <a:pt x="234" y="40"/>
                  </a:lnTo>
                  <a:lnTo>
                    <a:pt x="171" y="55"/>
                  </a:lnTo>
                  <a:lnTo>
                    <a:pt x="112" y="73"/>
                  </a:lnTo>
                  <a:lnTo>
                    <a:pt x="57" y="93"/>
                  </a:lnTo>
                  <a:lnTo>
                    <a:pt x="6" y="117"/>
                  </a:lnTo>
                  <a:lnTo>
                    <a:pt x="0" y="105"/>
                  </a:lnTo>
                  <a:lnTo>
                    <a:pt x="51" y="81"/>
                  </a:lnTo>
                  <a:lnTo>
                    <a:pt x="106" y="61"/>
                  </a:lnTo>
                  <a:lnTo>
                    <a:pt x="166" y="43"/>
                  </a:lnTo>
                  <a:lnTo>
                    <a:pt x="229" y="28"/>
                  </a:lnTo>
                  <a:lnTo>
                    <a:pt x="298" y="16"/>
                  </a:lnTo>
                  <a:lnTo>
                    <a:pt x="369" y="7"/>
                  </a:lnTo>
                  <a:lnTo>
                    <a:pt x="443" y="1"/>
                  </a:lnTo>
                  <a:lnTo>
                    <a:pt x="518" y="0"/>
                  </a:lnTo>
                  <a:lnTo>
                    <a:pt x="518" y="12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074000" y="1523880"/>
              <a:ext cx="114480" cy="25560"/>
            </a:xfrm>
            <a:custGeom>
              <a:avLst/>
              <a:gdLst/>
              <a:ahLst/>
              <a:rect l="l" t="t" r="r" b="b"/>
              <a:pathLst>
                <a:path w="522" h="120">
                  <a:moveTo>
                    <a:pt x="6" y="0"/>
                  </a:moveTo>
                  <a:lnTo>
                    <a:pt x="57" y="24"/>
                  </a:lnTo>
                  <a:lnTo>
                    <a:pt x="111" y="44"/>
                  </a:lnTo>
                  <a:lnTo>
                    <a:pt x="171" y="63"/>
                  </a:lnTo>
                  <a:lnTo>
                    <a:pt x="235" y="78"/>
                  </a:lnTo>
                  <a:lnTo>
                    <a:pt x="301" y="90"/>
                  </a:lnTo>
                  <a:lnTo>
                    <a:pt x="372" y="99"/>
                  </a:lnTo>
                  <a:lnTo>
                    <a:pt x="446" y="105"/>
                  </a:lnTo>
                  <a:lnTo>
                    <a:pt x="522" y="107"/>
                  </a:lnTo>
                  <a:lnTo>
                    <a:pt x="522" y="120"/>
                  </a:lnTo>
                  <a:lnTo>
                    <a:pt x="446" y="119"/>
                  </a:lnTo>
                  <a:lnTo>
                    <a:pt x="370" y="113"/>
                  </a:lnTo>
                  <a:lnTo>
                    <a:pt x="300" y="104"/>
                  </a:lnTo>
                  <a:lnTo>
                    <a:pt x="232" y="92"/>
                  </a:lnTo>
                  <a:lnTo>
                    <a:pt x="168" y="77"/>
                  </a:lnTo>
                  <a:lnTo>
                    <a:pt x="108" y="57"/>
                  </a:lnTo>
                  <a:lnTo>
                    <a:pt x="51" y="36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188480" y="1523880"/>
              <a:ext cx="112680" cy="25560"/>
            </a:xfrm>
            <a:custGeom>
              <a:avLst/>
              <a:gdLst/>
              <a:ahLst/>
              <a:rect l="l" t="t" r="r" b="b"/>
              <a:pathLst>
                <a:path w="518" h="117">
                  <a:moveTo>
                    <a:pt x="0" y="104"/>
                  </a:moveTo>
                  <a:lnTo>
                    <a:pt x="75" y="102"/>
                  </a:lnTo>
                  <a:lnTo>
                    <a:pt x="147" y="96"/>
                  </a:lnTo>
                  <a:lnTo>
                    <a:pt x="218" y="87"/>
                  </a:lnTo>
                  <a:lnTo>
                    <a:pt x="284" y="75"/>
                  </a:lnTo>
                  <a:lnTo>
                    <a:pt x="347" y="60"/>
                  </a:lnTo>
                  <a:lnTo>
                    <a:pt x="407" y="42"/>
                  </a:lnTo>
                  <a:lnTo>
                    <a:pt x="461" y="23"/>
                  </a:lnTo>
                  <a:lnTo>
                    <a:pt x="512" y="0"/>
                  </a:lnTo>
                  <a:lnTo>
                    <a:pt x="518" y="12"/>
                  </a:lnTo>
                  <a:lnTo>
                    <a:pt x="467" y="35"/>
                  </a:lnTo>
                  <a:lnTo>
                    <a:pt x="410" y="56"/>
                  </a:lnTo>
                  <a:lnTo>
                    <a:pt x="350" y="74"/>
                  </a:lnTo>
                  <a:lnTo>
                    <a:pt x="285" y="89"/>
                  </a:lnTo>
                  <a:lnTo>
                    <a:pt x="219" y="101"/>
                  </a:lnTo>
                  <a:lnTo>
                    <a:pt x="147" y="110"/>
                  </a:lnTo>
                  <a:lnTo>
                    <a:pt x="75" y="116"/>
                  </a:lnTo>
                  <a:lnTo>
                    <a:pt x="0" y="117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191360" y="1627200"/>
              <a:ext cx="149400" cy="15840"/>
            </a:xfrm>
            <a:custGeom>
              <a:avLst/>
              <a:gdLst/>
              <a:ahLst/>
              <a:rect l="l" t="t" r="r" b="b"/>
              <a:pathLst>
                <a:path w="681" h="75">
                  <a:moveTo>
                    <a:pt x="677" y="75"/>
                  </a:moveTo>
                  <a:lnTo>
                    <a:pt x="602" y="56"/>
                  </a:lnTo>
                  <a:lnTo>
                    <a:pt x="527" y="41"/>
                  </a:lnTo>
                  <a:lnTo>
                    <a:pt x="446" y="29"/>
                  </a:lnTo>
                  <a:lnTo>
                    <a:pt x="363" y="21"/>
                  </a:lnTo>
                  <a:lnTo>
                    <a:pt x="276" y="15"/>
                  </a:lnTo>
                  <a:lnTo>
                    <a:pt x="186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86" y="2"/>
                  </a:lnTo>
                  <a:lnTo>
                    <a:pt x="276" y="3"/>
                  </a:lnTo>
                  <a:lnTo>
                    <a:pt x="363" y="9"/>
                  </a:lnTo>
                  <a:lnTo>
                    <a:pt x="449" y="17"/>
                  </a:lnTo>
                  <a:lnTo>
                    <a:pt x="530" y="29"/>
                  </a:lnTo>
                  <a:lnTo>
                    <a:pt x="606" y="44"/>
                  </a:lnTo>
                  <a:lnTo>
                    <a:pt x="681" y="63"/>
                  </a:lnTo>
                  <a:lnTo>
                    <a:pt x="677" y="75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037640" y="1627200"/>
              <a:ext cx="153720" cy="17280"/>
            </a:xfrm>
            <a:custGeom>
              <a:avLst/>
              <a:gdLst/>
              <a:ahLst/>
              <a:rect l="l" t="t" r="r" b="b"/>
              <a:pathLst>
                <a:path w="703" h="81">
                  <a:moveTo>
                    <a:pt x="703" y="14"/>
                  </a:moveTo>
                  <a:lnTo>
                    <a:pt x="510" y="14"/>
                  </a:lnTo>
                  <a:lnTo>
                    <a:pt x="419" y="17"/>
                  </a:lnTo>
                  <a:lnTo>
                    <a:pt x="329" y="23"/>
                  </a:lnTo>
                  <a:lnTo>
                    <a:pt x="242" y="32"/>
                  </a:lnTo>
                  <a:lnTo>
                    <a:pt x="159" y="44"/>
                  </a:lnTo>
                  <a:lnTo>
                    <a:pt x="79" y="60"/>
                  </a:lnTo>
                  <a:lnTo>
                    <a:pt x="4" y="81"/>
                  </a:lnTo>
                  <a:lnTo>
                    <a:pt x="0" y="69"/>
                  </a:lnTo>
                  <a:lnTo>
                    <a:pt x="75" y="48"/>
                  </a:lnTo>
                  <a:lnTo>
                    <a:pt x="155" y="32"/>
                  </a:lnTo>
                  <a:lnTo>
                    <a:pt x="239" y="20"/>
                  </a:lnTo>
                  <a:lnTo>
                    <a:pt x="326" y="11"/>
                  </a:lnTo>
                  <a:lnTo>
                    <a:pt x="416" y="5"/>
                  </a:lnTo>
                  <a:lnTo>
                    <a:pt x="510" y="2"/>
                  </a:lnTo>
                  <a:lnTo>
                    <a:pt x="703" y="0"/>
                  </a:lnTo>
                  <a:lnTo>
                    <a:pt x="703" y="14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039080" y="1576440"/>
              <a:ext cx="147600" cy="19080"/>
            </a:xfrm>
            <a:custGeom>
              <a:avLst/>
              <a:gdLst/>
              <a:ahLst/>
              <a:rect l="l" t="t" r="r" b="b"/>
              <a:pathLst>
                <a:path w="682" h="78">
                  <a:moveTo>
                    <a:pt x="3" y="0"/>
                  </a:moveTo>
                  <a:lnTo>
                    <a:pt x="77" y="21"/>
                  </a:lnTo>
                  <a:lnTo>
                    <a:pt x="154" y="36"/>
                  </a:lnTo>
                  <a:lnTo>
                    <a:pt x="235" y="47"/>
                  </a:lnTo>
                  <a:lnTo>
                    <a:pt x="319" y="54"/>
                  </a:lnTo>
                  <a:lnTo>
                    <a:pt x="406" y="60"/>
                  </a:lnTo>
                  <a:lnTo>
                    <a:pt x="496" y="63"/>
                  </a:lnTo>
                  <a:lnTo>
                    <a:pt x="682" y="65"/>
                  </a:lnTo>
                  <a:lnTo>
                    <a:pt x="682" y="78"/>
                  </a:lnTo>
                  <a:lnTo>
                    <a:pt x="496" y="77"/>
                  </a:lnTo>
                  <a:lnTo>
                    <a:pt x="406" y="74"/>
                  </a:lnTo>
                  <a:lnTo>
                    <a:pt x="317" y="68"/>
                  </a:lnTo>
                  <a:lnTo>
                    <a:pt x="233" y="60"/>
                  </a:lnTo>
                  <a:lnTo>
                    <a:pt x="152" y="50"/>
                  </a:lnTo>
                  <a:lnTo>
                    <a:pt x="74" y="34"/>
                  </a:lnTo>
                  <a:lnTo>
                    <a:pt x="0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186680" y="1576440"/>
              <a:ext cx="154080" cy="19080"/>
            </a:xfrm>
            <a:custGeom>
              <a:avLst/>
              <a:gdLst/>
              <a:ahLst/>
              <a:rect l="l" t="t" r="r" b="b"/>
              <a:pathLst>
                <a:path w="701" h="83">
                  <a:moveTo>
                    <a:pt x="0" y="70"/>
                  </a:moveTo>
                  <a:lnTo>
                    <a:pt x="192" y="67"/>
                  </a:lnTo>
                  <a:lnTo>
                    <a:pt x="285" y="64"/>
                  </a:lnTo>
                  <a:lnTo>
                    <a:pt x="374" y="58"/>
                  </a:lnTo>
                  <a:lnTo>
                    <a:pt x="461" y="50"/>
                  </a:lnTo>
                  <a:lnTo>
                    <a:pt x="545" y="36"/>
                  </a:lnTo>
                  <a:lnTo>
                    <a:pt x="622" y="21"/>
                  </a:lnTo>
                  <a:lnTo>
                    <a:pt x="698" y="0"/>
                  </a:lnTo>
                  <a:lnTo>
                    <a:pt x="701" y="14"/>
                  </a:lnTo>
                  <a:lnTo>
                    <a:pt x="625" y="35"/>
                  </a:lnTo>
                  <a:lnTo>
                    <a:pt x="547" y="50"/>
                  </a:lnTo>
                  <a:lnTo>
                    <a:pt x="463" y="64"/>
                  </a:lnTo>
                  <a:lnTo>
                    <a:pt x="374" y="71"/>
                  </a:lnTo>
                  <a:lnTo>
                    <a:pt x="285" y="77"/>
                  </a:lnTo>
                  <a:lnTo>
                    <a:pt x="192" y="80"/>
                  </a:lnTo>
                  <a:lnTo>
                    <a:pt x="0" y="83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186680" y="1490760"/>
              <a:ext cx="3240" cy="239760"/>
            </a:xfrm>
            <a:prstGeom prst="rect">
              <a:avLst/>
            </a:prstGeom>
            <a:solidFill>
              <a:srgbClr val="42677e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220160" y="1503360"/>
              <a:ext cx="149040" cy="293760"/>
            </a:xfrm>
            <a:custGeom>
              <a:avLst/>
              <a:gdLst>
                <a:gd name="textAreaLeft" fmla="*/ 13680 w 149040"/>
                <a:gd name="textAreaRight" fmla="*/ 135360 w 149040"/>
                <a:gd name="textAreaTop" fmla="*/ 13680 h 293760"/>
                <a:gd name="textAreaBottom" fmla="*/ 280080 h 293760"/>
              </a:gdLst>
              <a:ahLst/>
              <a:rect l="textAreaLeft" t="textAreaTop" r="textAreaRight" b="textAreaBottom"/>
              <a:pathLst>
                <a:path w="21600" h="42523">
                  <a:moveTo>
                    <a:pt x="6840" y="0"/>
                  </a:moveTo>
                  <a:arcTo wR="6840" hR="6840" stAng="16200000" swAng="-5400000"/>
                  <a:lnTo>
                    <a:pt x="0" y="35683"/>
                  </a:lnTo>
                  <a:arcTo wR="6840" hR="6840" stAng="10800000" swAng="-5400000"/>
                  <a:lnTo>
                    <a:pt x="14760" y="42523"/>
                  </a:lnTo>
                  <a:arcTo wR="6840" hR="6840" stAng="5400000" swAng="-5400000"/>
                  <a:lnTo>
                    <a:pt x="21600" y="6840"/>
                  </a:lnTo>
                  <a:arcTo wR="6840" hR="6840" stAng="0" swAng="-5400000"/>
                  <a:close/>
                </a:path>
              </a:pathLst>
            </a:custGeom>
            <a:solidFill>
              <a:srgbClr val="426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9" name=""/>
            <p:cNvGrpSpPr/>
            <p:nvPr/>
          </p:nvGrpSpPr>
          <p:grpSpPr>
            <a:xfrm>
              <a:off x="7212240" y="1495440"/>
              <a:ext cx="169560" cy="309600"/>
              <a:chOff x="7212240" y="1495440"/>
              <a:chExt cx="169560" cy="309600"/>
            </a:xfrm>
          </p:grpSpPr>
          <p:sp>
            <p:nvSpPr>
              <p:cNvPr id="540" name=""/>
              <p:cNvSpPr/>
              <p:nvPr/>
            </p:nvSpPr>
            <p:spPr>
              <a:xfrm>
                <a:off x="7212240" y="1495440"/>
                <a:ext cx="169560" cy="309600"/>
              </a:xfrm>
              <a:custGeom>
                <a:avLst/>
                <a:gdLst/>
                <a:ahLst/>
                <a:rect l="l" t="t" r="r" b="b"/>
                <a:pathLst>
                  <a:path w="822" h="1509">
                    <a:moveTo>
                      <a:pt x="280" y="89"/>
                    </a:moveTo>
                    <a:lnTo>
                      <a:pt x="259" y="90"/>
                    </a:lnTo>
                    <a:lnTo>
                      <a:pt x="250" y="92"/>
                    </a:lnTo>
                    <a:lnTo>
                      <a:pt x="241" y="93"/>
                    </a:lnTo>
                    <a:lnTo>
                      <a:pt x="232" y="95"/>
                    </a:lnTo>
                    <a:lnTo>
                      <a:pt x="222" y="98"/>
                    </a:lnTo>
                    <a:lnTo>
                      <a:pt x="205" y="105"/>
                    </a:lnTo>
                    <a:lnTo>
                      <a:pt x="196" y="108"/>
                    </a:lnTo>
                    <a:lnTo>
                      <a:pt x="187" y="113"/>
                    </a:lnTo>
                    <a:lnTo>
                      <a:pt x="180" y="117"/>
                    </a:lnTo>
                    <a:lnTo>
                      <a:pt x="172" y="122"/>
                    </a:lnTo>
                    <a:lnTo>
                      <a:pt x="165" y="128"/>
                    </a:lnTo>
                    <a:lnTo>
                      <a:pt x="157" y="134"/>
                    </a:lnTo>
                    <a:lnTo>
                      <a:pt x="150" y="140"/>
                    </a:lnTo>
                    <a:lnTo>
                      <a:pt x="144" y="146"/>
                    </a:lnTo>
                    <a:lnTo>
                      <a:pt x="132" y="160"/>
                    </a:lnTo>
                    <a:lnTo>
                      <a:pt x="120" y="175"/>
                    </a:lnTo>
                    <a:lnTo>
                      <a:pt x="111" y="191"/>
                    </a:lnTo>
                    <a:lnTo>
                      <a:pt x="102" y="208"/>
                    </a:lnTo>
                    <a:lnTo>
                      <a:pt x="96" y="226"/>
                    </a:lnTo>
                    <a:lnTo>
                      <a:pt x="91" y="244"/>
                    </a:lnTo>
                    <a:lnTo>
                      <a:pt x="88" y="263"/>
                    </a:lnTo>
                    <a:lnTo>
                      <a:pt x="87" y="283"/>
                    </a:lnTo>
                    <a:lnTo>
                      <a:pt x="87" y="1226"/>
                    </a:lnTo>
                    <a:lnTo>
                      <a:pt x="88" y="1237"/>
                    </a:lnTo>
                    <a:lnTo>
                      <a:pt x="88" y="1246"/>
                    </a:lnTo>
                    <a:lnTo>
                      <a:pt x="90" y="1256"/>
                    </a:lnTo>
                    <a:lnTo>
                      <a:pt x="91" y="1265"/>
                    </a:lnTo>
                    <a:lnTo>
                      <a:pt x="93" y="1274"/>
                    </a:lnTo>
                    <a:lnTo>
                      <a:pt x="96" y="1283"/>
                    </a:lnTo>
                    <a:lnTo>
                      <a:pt x="102" y="1302"/>
                    </a:lnTo>
                    <a:lnTo>
                      <a:pt x="106" y="1311"/>
                    </a:lnTo>
                    <a:lnTo>
                      <a:pt x="111" y="1318"/>
                    </a:lnTo>
                    <a:lnTo>
                      <a:pt x="115" y="1327"/>
                    </a:lnTo>
                    <a:lnTo>
                      <a:pt x="120" y="1335"/>
                    </a:lnTo>
                    <a:lnTo>
                      <a:pt x="126" y="1342"/>
                    </a:lnTo>
                    <a:lnTo>
                      <a:pt x="132" y="1350"/>
                    </a:lnTo>
                    <a:lnTo>
                      <a:pt x="138" y="1356"/>
                    </a:lnTo>
                    <a:lnTo>
                      <a:pt x="144" y="1363"/>
                    </a:lnTo>
                    <a:lnTo>
                      <a:pt x="157" y="1375"/>
                    </a:lnTo>
                    <a:lnTo>
                      <a:pt x="172" y="1386"/>
                    </a:lnTo>
                    <a:lnTo>
                      <a:pt x="187" y="1396"/>
                    </a:lnTo>
                    <a:lnTo>
                      <a:pt x="205" y="1404"/>
                    </a:lnTo>
                    <a:lnTo>
                      <a:pt x="222" y="1411"/>
                    </a:lnTo>
                    <a:lnTo>
                      <a:pt x="241" y="1416"/>
                    </a:lnTo>
                    <a:lnTo>
                      <a:pt x="259" y="1419"/>
                    </a:lnTo>
                    <a:lnTo>
                      <a:pt x="280" y="1419"/>
                    </a:lnTo>
                    <a:lnTo>
                      <a:pt x="543" y="1419"/>
                    </a:lnTo>
                    <a:lnTo>
                      <a:pt x="563" y="1419"/>
                    </a:lnTo>
                    <a:lnTo>
                      <a:pt x="572" y="1417"/>
                    </a:lnTo>
                    <a:lnTo>
                      <a:pt x="582" y="1416"/>
                    </a:lnTo>
                    <a:lnTo>
                      <a:pt x="591" y="1413"/>
                    </a:lnTo>
                    <a:lnTo>
                      <a:pt x="600" y="1411"/>
                    </a:lnTo>
                    <a:lnTo>
                      <a:pt x="618" y="1404"/>
                    </a:lnTo>
                    <a:lnTo>
                      <a:pt x="626" y="1401"/>
                    </a:lnTo>
                    <a:lnTo>
                      <a:pt x="635" y="1396"/>
                    </a:lnTo>
                    <a:lnTo>
                      <a:pt x="642" y="1392"/>
                    </a:lnTo>
                    <a:lnTo>
                      <a:pt x="651" y="1386"/>
                    </a:lnTo>
                    <a:lnTo>
                      <a:pt x="659" y="1381"/>
                    </a:lnTo>
                    <a:lnTo>
                      <a:pt x="665" y="1375"/>
                    </a:lnTo>
                    <a:lnTo>
                      <a:pt x="672" y="1369"/>
                    </a:lnTo>
                    <a:lnTo>
                      <a:pt x="678" y="1363"/>
                    </a:lnTo>
                    <a:lnTo>
                      <a:pt x="692" y="1350"/>
                    </a:lnTo>
                    <a:lnTo>
                      <a:pt x="702" y="1335"/>
                    </a:lnTo>
                    <a:lnTo>
                      <a:pt x="713" y="1318"/>
                    </a:lnTo>
                    <a:lnTo>
                      <a:pt x="720" y="1302"/>
                    </a:lnTo>
                    <a:lnTo>
                      <a:pt x="726" y="1283"/>
                    </a:lnTo>
                    <a:lnTo>
                      <a:pt x="731" y="1265"/>
                    </a:lnTo>
                    <a:lnTo>
                      <a:pt x="734" y="1246"/>
                    </a:lnTo>
                    <a:lnTo>
                      <a:pt x="735" y="1226"/>
                    </a:lnTo>
                    <a:lnTo>
                      <a:pt x="735" y="283"/>
                    </a:lnTo>
                    <a:lnTo>
                      <a:pt x="735" y="272"/>
                    </a:lnTo>
                    <a:lnTo>
                      <a:pt x="734" y="263"/>
                    </a:lnTo>
                    <a:lnTo>
                      <a:pt x="734" y="253"/>
                    </a:lnTo>
                    <a:lnTo>
                      <a:pt x="731" y="244"/>
                    </a:lnTo>
                    <a:lnTo>
                      <a:pt x="729" y="235"/>
                    </a:lnTo>
                    <a:lnTo>
                      <a:pt x="726" y="226"/>
                    </a:lnTo>
                    <a:lnTo>
                      <a:pt x="720" y="208"/>
                    </a:lnTo>
                    <a:lnTo>
                      <a:pt x="716" y="199"/>
                    </a:lnTo>
                    <a:lnTo>
                      <a:pt x="713" y="191"/>
                    </a:lnTo>
                    <a:lnTo>
                      <a:pt x="707" y="182"/>
                    </a:lnTo>
                    <a:lnTo>
                      <a:pt x="702" y="175"/>
                    </a:lnTo>
                    <a:lnTo>
                      <a:pt x="698" y="167"/>
                    </a:lnTo>
                    <a:lnTo>
                      <a:pt x="692" y="160"/>
                    </a:lnTo>
                    <a:lnTo>
                      <a:pt x="686" y="152"/>
                    </a:lnTo>
                    <a:lnTo>
                      <a:pt x="678" y="146"/>
                    </a:lnTo>
                    <a:lnTo>
                      <a:pt x="665" y="134"/>
                    </a:lnTo>
                    <a:lnTo>
                      <a:pt x="651" y="122"/>
                    </a:lnTo>
                    <a:lnTo>
                      <a:pt x="635" y="113"/>
                    </a:lnTo>
                    <a:lnTo>
                      <a:pt x="618" y="105"/>
                    </a:lnTo>
                    <a:lnTo>
                      <a:pt x="600" y="98"/>
                    </a:lnTo>
                    <a:lnTo>
                      <a:pt x="582" y="93"/>
                    </a:lnTo>
                    <a:lnTo>
                      <a:pt x="563" y="90"/>
                    </a:lnTo>
                    <a:lnTo>
                      <a:pt x="543" y="89"/>
                    </a:lnTo>
                    <a:lnTo>
                      <a:pt x="280" y="89"/>
                    </a:lnTo>
                    <a:close/>
                    <a:moveTo>
                      <a:pt x="274" y="0"/>
                    </a:moveTo>
                    <a:lnTo>
                      <a:pt x="548" y="0"/>
                    </a:lnTo>
                    <a:lnTo>
                      <a:pt x="563" y="0"/>
                    </a:lnTo>
                    <a:lnTo>
                      <a:pt x="576" y="2"/>
                    </a:lnTo>
                    <a:lnTo>
                      <a:pt x="590" y="3"/>
                    </a:lnTo>
                    <a:lnTo>
                      <a:pt x="603" y="6"/>
                    </a:lnTo>
                    <a:lnTo>
                      <a:pt x="617" y="9"/>
                    </a:lnTo>
                    <a:lnTo>
                      <a:pt x="630" y="12"/>
                    </a:lnTo>
                    <a:lnTo>
                      <a:pt x="642" y="17"/>
                    </a:lnTo>
                    <a:lnTo>
                      <a:pt x="656" y="23"/>
                    </a:lnTo>
                    <a:lnTo>
                      <a:pt x="668" y="27"/>
                    </a:lnTo>
                    <a:lnTo>
                      <a:pt x="680" y="33"/>
                    </a:lnTo>
                    <a:lnTo>
                      <a:pt x="690" y="41"/>
                    </a:lnTo>
                    <a:lnTo>
                      <a:pt x="702" y="47"/>
                    </a:lnTo>
                    <a:lnTo>
                      <a:pt x="713" y="56"/>
                    </a:lnTo>
                    <a:lnTo>
                      <a:pt x="723" y="63"/>
                    </a:lnTo>
                    <a:lnTo>
                      <a:pt x="743" y="81"/>
                    </a:lnTo>
                    <a:lnTo>
                      <a:pt x="752" y="90"/>
                    </a:lnTo>
                    <a:lnTo>
                      <a:pt x="761" y="101"/>
                    </a:lnTo>
                    <a:lnTo>
                      <a:pt x="768" y="111"/>
                    </a:lnTo>
                    <a:lnTo>
                      <a:pt x="776" y="122"/>
                    </a:lnTo>
                    <a:lnTo>
                      <a:pt x="789" y="145"/>
                    </a:lnTo>
                    <a:lnTo>
                      <a:pt x="795" y="157"/>
                    </a:lnTo>
                    <a:lnTo>
                      <a:pt x="801" y="169"/>
                    </a:lnTo>
                    <a:lnTo>
                      <a:pt x="810" y="194"/>
                    </a:lnTo>
                    <a:lnTo>
                      <a:pt x="815" y="208"/>
                    </a:lnTo>
                    <a:lnTo>
                      <a:pt x="818" y="220"/>
                    </a:lnTo>
                    <a:lnTo>
                      <a:pt x="819" y="233"/>
                    </a:lnTo>
                    <a:lnTo>
                      <a:pt x="821" y="248"/>
                    </a:lnTo>
                    <a:lnTo>
                      <a:pt x="822" y="262"/>
                    </a:lnTo>
                    <a:lnTo>
                      <a:pt x="822" y="275"/>
                    </a:lnTo>
                    <a:lnTo>
                      <a:pt x="822" y="1234"/>
                    </a:lnTo>
                    <a:lnTo>
                      <a:pt x="822" y="1247"/>
                    </a:lnTo>
                    <a:lnTo>
                      <a:pt x="821" y="1261"/>
                    </a:lnTo>
                    <a:lnTo>
                      <a:pt x="819" y="1274"/>
                    </a:lnTo>
                    <a:lnTo>
                      <a:pt x="818" y="1288"/>
                    </a:lnTo>
                    <a:lnTo>
                      <a:pt x="815" y="1302"/>
                    </a:lnTo>
                    <a:lnTo>
                      <a:pt x="810" y="1315"/>
                    </a:lnTo>
                    <a:lnTo>
                      <a:pt x="806" y="1329"/>
                    </a:lnTo>
                    <a:lnTo>
                      <a:pt x="801" y="1341"/>
                    </a:lnTo>
                    <a:lnTo>
                      <a:pt x="795" y="1353"/>
                    </a:lnTo>
                    <a:lnTo>
                      <a:pt x="789" y="1365"/>
                    </a:lnTo>
                    <a:lnTo>
                      <a:pt x="783" y="1377"/>
                    </a:lnTo>
                    <a:lnTo>
                      <a:pt x="776" y="1387"/>
                    </a:lnTo>
                    <a:lnTo>
                      <a:pt x="768" y="1398"/>
                    </a:lnTo>
                    <a:lnTo>
                      <a:pt x="761" y="1408"/>
                    </a:lnTo>
                    <a:lnTo>
                      <a:pt x="743" y="1428"/>
                    </a:lnTo>
                    <a:lnTo>
                      <a:pt x="732" y="1437"/>
                    </a:lnTo>
                    <a:lnTo>
                      <a:pt x="723" y="1446"/>
                    </a:lnTo>
                    <a:lnTo>
                      <a:pt x="713" y="1453"/>
                    </a:lnTo>
                    <a:lnTo>
                      <a:pt x="702" y="1461"/>
                    </a:lnTo>
                    <a:lnTo>
                      <a:pt x="680" y="1476"/>
                    </a:lnTo>
                    <a:lnTo>
                      <a:pt x="668" y="1482"/>
                    </a:lnTo>
                    <a:lnTo>
                      <a:pt x="656" y="1487"/>
                    </a:lnTo>
                    <a:lnTo>
                      <a:pt x="630" y="1496"/>
                    </a:lnTo>
                    <a:lnTo>
                      <a:pt x="617" y="1500"/>
                    </a:lnTo>
                    <a:lnTo>
                      <a:pt x="603" y="1503"/>
                    </a:lnTo>
                    <a:lnTo>
                      <a:pt x="590" y="1506"/>
                    </a:lnTo>
                    <a:lnTo>
                      <a:pt x="576" y="1508"/>
                    </a:lnTo>
                    <a:lnTo>
                      <a:pt x="563" y="1508"/>
                    </a:lnTo>
                    <a:lnTo>
                      <a:pt x="548" y="1509"/>
                    </a:lnTo>
                    <a:lnTo>
                      <a:pt x="274" y="1509"/>
                    </a:lnTo>
                    <a:lnTo>
                      <a:pt x="261" y="1508"/>
                    </a:lnTo>
                    <a:lnTo>
                      <a:pt x="246" y="1508"/>
                    </a:lnTo>
                    <a:lnTo>
                      <a:pt x="232" y="1506"/>
                    </a:lnTo>
                    <a:lnTo>
                      <a:pt x="219" y="1503"/>
                    </a:lnTo>
                    <a:lnTo>
                      <a:pt x="205" y="1500"/>
                    </a:lnTo>
                    <a:lnTo>
                      <a:pt x="193" y="1496"/>
                    </a:lnTo>
                    <a:lnTo>
                      <a:pt x="180" y="1493"/>
                    </a:lnTo>
                    <a:lnTo>
                      <a:pt x="168" y="1487"/>
                    </a:lnTo>
                    <a:lnTo>
                      <a:pt x="156" y="1482"/>
                    </a:lnTo>
                    <a:lnTo>
                      <a:pt x="144" y="1476"/>
                    </a:lnTo>
                    <a:lnTo>
                      <a:pt x="132" y="1469"/>
                    </a:lnTo>
                    <a:lnTo>
                      <a:pt x="121" y="1461"/>
                    </a:lnTo>
                    <a:lnTo>
                      <a:pt x="111" y="1453"/>
                    </a:lnTo>
                    <a:lnTo>
                      <a:pt x="100" y="1446"/>
                    </a:lnTo>
                    <a:lnTo>
                      <a:pt x="81" y="1428"/>
                    </a:lnTo>
                    <a:lnTo>
                      <a:pt x="72" y="1419"/>
                    </a:lnTo>
                    <a:lnTo>
                      <a:pt x="63" y="1408"/>
                    </a:lnTo>
                    <a:lnTo>
                      <a:pt x="54" y="1398"/>
                    </a:lnTo>
                    <a:lnTo>
                      <a:pt x="46" y="1387"/>
                    </a:lnTo>
                    <a:lnTo>
                      <a:pt x="33" y="1365"/>
                    </a:lnTo>
                    <a:lnTo>
                      <a:pt x="27" y="1353"/>
                    </a:lnTo>
                    <a:lnTo>
                      <a:pt x="21" y="1341"/>
                    </a:lnTo>
                    <a:lnTo>
                      <a:pt x="12" y="1315"/>
                    </a:lnTo>
                    <a:lnTo>
                      <a:pt x="9" y="1302"/>
                    </a:lnTo>
                    <a:lnTo>
                      <a:pt x="6" y="1288"/>
                    </a:lnTo>
                    <a:lnTo>
                      <a:pt x="3" y="1274"/>
                    </a:lnTo>
                    <a:lnTo>
                      <a:pt x="1" y="1261"/>
                    </a:lnTo>
                    <a:lnTo>
                      <a:pt x="0" y="1247"/>
                    </a:lnTo>
                    <a:lnTo>
                      <a:pt x="0" y="1234"/>
                    </a:lnTo>
                    <a:lnTo>
                      <a:pt x="0" y="275"/>
                    </a:lnTo>
                    <a:lnTo>
                      <a:pt x="0" y="262"/>
                    </a:lnTo>
                    <a:lnTo>
                      <a:pt x="1" y="248"/>
                    </a:lnTo>
                    <a:lnTo>
                      <a:pt x="3" y="233"/>
                    </a:lnTo>
                    <a:lnTo>
                      <a:pt x="6" y="220"/>
                    </a:lnTo>
                    <a:lnTo>
                      <a:pt x="9" y="208"/>
                    </a:lnTo>
                    <a:lnTo>
                      <a:pt x="12" y="194"/>
                    </a:lnTo>
                    <a:lnTo>
                      <a:pt x="16" y="181"/>
                    </a:lnTo>
                    <a:lnTo>
                      <a:pt x="21" y="169"/>
                    </a:lnTo>
                    <a:lnTo>
                      <a:pt x="27" y="157"/>
                    </a:lnTo>
                    <a:lnTo>
                      <a:pt x="33" y="145"/>
                    </a:lnTo>
                    <a:lnTo>
                      <a:pt x="40" y="133"/>
                    </a:lnTo>
                    <a:lnTo>
                      <a:pt x="46" y="122"/>
                    </a:lnTo>
                    <a:lnTo>
                      <a:pt x="54" y="111"/>
                    </a:lnTo>
                    <a:lnTo>
                      <a:pt x="63" y="101"/>
                    </a:lnTo>
                    <a:lnTo>
                      <a:pt x="81" y="81"/>
                    </a:lnTo>
                    <a:lnTo>
                      <a:pt x="90" y="72"/>
                    </a:lnTo>
                    <a:lnTo>
                      <a:pt x="100" y="63"/>
                    </a:lnTo>
                    <a:lnTo>
                      <a:pt x="111" y="56"/>
                    </a:lnTo>
                    <a:lnTo>
                      <a:pt x="121" y="47"/>
                    </a:lnTo>
                    <a:lnTo>
                      <a:pt x="144" y="33"/>
                    </a:lnTo>
                    <a:lnTo>
                      <a:pt x="156" y="27"/>
                    </a:lnTo>
                    <a:lnTo>
                      <a:pt x="168" y="23"/>
                    </a:lnTo>
                    <a:lnTo>
                      <a:pt x="193" y="12"/>
                    </a:lnTo>
                    <a:lnTo>
                      <a:pt x="205" y="9"/>
                    </a:lnTo>
                    <a:lnTo>
                      <a:pt x="219" y="6"/>
                    </a:lnTo>
                    <a:lnTo>
                      <a:pt x="232" y="3"/>
                    </a:lnTo>
                    <a:lnTo>
                      <a:pt x="246" y="2"/>
                    </a:lnTo>
                    <a:lnTo>
                      <a:pt x="261" y="0"/>
                    </a:lnTo>
                    <a:lnTo>
                      <a:pt x="2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230240" y="1513440"/>
                <a:ext cx="133560" cy="272880"/>
              </a:xfrm>
              <a:custGeom>
                <a:avLst/>
                <a:gdLst/>
                <a:ahLst/>
                <a:rect l="l" t="t" r="r" b="b"/>
                <a:pathLst>
                  <a:path w="648" h="1330">
                    <a:moveTo>
                      <a:pt x="192" y="0"/>
                    </a:moveTo>
                    <a:lnTo>
                      <a:pt x="154" y="4"/>
                    </a:lnTo>
                    <a:lnTo>
                      <a:pt x="118" y="15"/>
                    </a:lnTo>
                    <a:lnTo>
                      <a:pt x="100" y="24"/>
                    </a:lnTo>
                    <a:lnTo>
                      <a:pt x="85" y="33"/>
                    </a:lnTo>
                    <a:lnTo>
                      <a:pt x="57" y="57"/>
                    </a:lnTo>
                    <a:lnTo>
                      <a:pt x="33" y="86"/>
                    </a:lnTo>
                    <a:lnTo>
                      <a:pt x="24" y="101"/>
                    </a:lnTo>
                    <a:lnTo>
                      <a:pt x="15" y="119"/>
                    </a:lnTo>
                    <a:lnTo>
                      <a:pt x="9" y="135"/>
                    </a:lnTo>
                    <a:lnTo>
                      <a:pt x="4" y="155"/>
                    </a:lnTo>
                    <a:lnTo>
                      <a:pt x="1" y="173"/>
                    </a:lnTo>
                    <a:lnTo>
                      <a:pt x="0" y="194"/>
                    </a:lnTo>
                    <a:lnTo>
                      <a:pt x="0" y="1137"/>
                    </a:lnTo>
                    <a:lnTo>
                      <a:pt x="4" y="1176"/>
                    </a:lnTo>
                    <a:lnTo>
                      <a:pt x="15" y="1213"/>
                    </a:lnTo>
                    <a:lnTo>
                      <a:pt x="24" y="1229"/>
                    </a:lnTo>
                    <a:lnTo>
                      <a:pt x="33" y="1246"/>
                    </a:lnTo>
                    <a:lnTo>
                      <a:pt x="57" y="1274"/>
                    </a:lnTo>
                    <a:lnTo>
                      <a:pt x="85" y="1297"/>
                    </a:lnTo>
                    <a:lnTo>
                      <a:pt x="100" y="1307"/>
                    </a:lnTo>
                    <a:lnTo>
                      <a:pt x="118" y="1315"/>
                    </a:lnTo>
                    <a:lnTo>
                      <a:pt x="135" y="1321"/>
                    </a:lnTo>
                    <a:lnTo>
                      <a:pt x="154" y="1327"/>
                    </a:lnTo>
                    <a:lnTo>
                      <a:pt x="192" y="1330"/>
                    </a:lnTo>
                    <a:lnTo>
                      <a:pt x="456" y="1330"/>
                    </a:lnTo>
                    <a:lnTo>
                      <a:pt x="495" y="1327"/>
                    </a:lnTo>
                    <a:lnTo>
                      <a:pt x="531" y="1315"/>
                    </a:lnTo>
                    <a:lnTo>
                      <a:pt x="548" y="1307"/>
                    </a:lnTo>
                    <a:lnTo>
                      <a:pt x="563" y="1297"/>
                    </a:lnTo>
                    <a:lnTo>
                      <a:pt x="591" y="1274"/>
                    </a:lnTo>
                    <a:lnTo>
                      <a:pt x="615" y="1246"/>
                    </a:lnTo>
                    <a:lnTo>
                      <a:pt x="624" y="1229"/>
                    </a:lnTo>
                    <a:lnTo>
                      <a:pt x="633" y="1213"/>
                    </a:lnTo>
                    <a:lnTo>
                      <a:pt x="639" y="1194"/>
                    </a:lnTo>
                    <a:lnTo>
                      <a:pt x="644" y="1176"/>
                    </a:lnTo>
                    <a:lnTo>
                      <a:pt x="647" y="1157"/>
                    </a:lnTo>
                    <a:lnTo>
                      <a:pt x="648" y="1137"/>
                    </a:lnTo>
                    <a:lnTo>
                      <a:pt x="648" y="194"/>
                    </a:lnTo>
                    <a:lnTo>
                      <a:pt x="644" y="155"/>
                    </a:lnTo>
                    <a:lnTo>
                      <a:pt x="633" y="119"/>
                    </a:lnTo>
                    <a:lnTo>
                      <a:pt x="624" y="101"/>
                    </a:lnTo>
                    <a:lnTo>
                      <a:pt x="615" y="86"/>
                    </a:lnTo>
                    <a:lnTo>
                      <a:pt x="591" y="57"/>
                    </a:lnTo>
                    <a:lnTo>
                      <a:pt x="563" y="33"/>
                    </a:lnTo>
                    <a:lnTo>
                      <a:pt x="548" y="24"/>
                    </a:lnTo>
                    <a:lnTo>
                      <a:pt x="531" y="15"/>
                    </a:lnTo>
                    <a:lnTo>
                      <a:pt x="513" y="9"/>
                    </a:lnTo>
                    <a:lnTo>
                      <a:pt x="495" y="4"/>
                    </a:lnTo>
                    <a:lnTo>
                      <a:pt x="456" y="0"/>
                    </a:lnTo>
                    <a:lnTo>
                      <a:pt x="192" y="0"/>
                    </a:lnTo>
                  </a:path>
                </a:pathLst>
              </a:custGeom>
              <a:noFill/>
              <a:ln w="1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7212240" y="1495440"/>
                <a:ext cx="169560" cy="309600"/>
              </a:xfrm>
              <a:custGeom>
                <a:avLst/>
                <a:gdLst/>
                <a:ahLst/>
                <a:rect l="l" t="t" r="r" b="b"/>
                <a:pathLst>
                  <a:path w="822" h="1509">
                    <a:moveTo>
                      <a:pt x="274" y="0"/>
                    </a:moveTo>
                    <a:lnTo>
                      <a:pt x="548" y="0"/>
                    </a:lnTo>
                    <a:lnTo>
                      <a:pt x="576" y="2"/>
                    </a:lnTo>
                    <a:lnTo>
                      <a:pt x="603" y="6"/>
                    </a:lnTo>
                    <a:lnTo>
                      <a:pt x="630" y="12"/>
                    </a:lnTo>
                    <a:lnTo>
                      <a:pt x="654" y="21"/>
                    </a:lnTo>
                    <a:lnTo>
                      <a:pt x="678" y="33"/>
                    </a:lnTo>
                    <a:lnTo>
                      <a:pt x="702" y="47"/>
                    </a:lnTo>
                    <a:lnTo>
                      <a:pt x="723" y="63"/>
                    </a:lnTo>
                    <a:lnTo>
                      <a:pt x="743" y="81"/>
                    </a:lnTo>
                    <a:lnTo>
                      <a:pt x="759" y="101"/>
                    </a:lnTo>
                    <a:lnTo>
                      <a:pt x="776" y="122"/>
                    </a:lnTo>
                    <a:lnTo>
                      <a:pt x="789" y="145"/>
                    </a:lnTo>
                    <a:lnTo>
                      <a:pt x="801" y="169"/>
                    </a:lnTo>
                    <a:lnTo>
                      <a:pt x="810" y="194"/>
                    </a:lnTo>
                    <a:lnTo>
                      <a:pt x="818" y="220"/>
                    </a:lnTo>
                    <a:lnTo>
                      <a:pt x="821" y="247"/>
                    </a:lnTo>
                    <a:lnTo>
                      <a:pt x="822" y="275"/>
                    </a:lnTo>
                    <a:lnTo>
                      <a:pt x="822" y="1232"/>
                    </a:lnTo>
                    <a:lnTo>
                      <a:pt x="821" y="1261"/>
                    </a:lnTo>
                    <a:lnTo>
                      <a:pt x="818" y="1288"/>
                    </a:lnTo>
                    <a:lnTo>
                      <a:pt x="810" y="1315"/>
                    </a:lnTo>
                    <a:lnTo>
                      <a:pt x="801" y="1341"/>
                    </a:lnTo>
                    <a:lnTo>
                      <a:pt x="789" y="1365"/>
                    </a:lnTo>
                    <a:lnTo>
                      <a:pt x="776" y="1387"/>
                    </a:lnTo>
                    <a:lnTo>
                      <a:pt x="759" y="1408"/>
                    </a:lnTo>
                    <a:lnTo>
                      <a:pt x="743" y="1428"/>
                    </a:lnTo>
                    <a:lnTo>
                      <a:pt x="723" y="1446"/>
                    </a:lnTo>
                    <a:lnTo>
                      <a:pt x="702" y="1461"/>
                    </a:lnTo>
                    <a:lnTo>
                      <a:pt x="678" y="1475"/>
                    </a:lnTo>
                    <a:lnTo>
                      <a:pt x="654" y="1487"/>
                    </a:lnTo>
                    <a:lnTo>
                      <a:pt x="630" y="1496"/>
                    </a:lnTo>
                    <a:lnTo>
                      <a:pt x="603" y="1503"/>
                    </a:lnTo>
                    <a:lnTo>
                      <a:pt x="576" y="1508"/>
                    </a:lnTo>
                    <a:lnTo>
                      <a:pt x="548" y="1509"/>
                    </a:lnTo>
                    <a:lnTo>
                      <a:pt x="274" y="1509"/>
                    </a:lnTo>
                    <a:lnTo>
                      <a:pt x="246" y="1508"/>
                    </a:lnTo>
                    <a:lnTo>
                      <a:pt x="219" y="1503"/>
                    </a:lnTo>
                    <a:lnTo>
                      <a:pt x="193" y="1496"/>
                    </a:lnTo>
                    <a:lnTo>
                      <a:pt x="168" y="1487"/>
                    </a:lnTo>
                    <a:lnTo>
                      <a:pt x="144" y="1475"/>
                    </a:lnTo>
                    <a:lnTo>
                      <a:pt x="121" y="1461"/>
                    </a:lnTo>
                    <a:lnTo>
                      <a:pt x="100" y="1446"/>
                    </a:lnTo>
                    <a:lnTo>
                      <a:pt x="81" y="1428"/>
                    </a:lnTo>
                    <a:lnTo>
                      <a:pt x="63" y="1408"/>
                    </a:lnTo>
                    <a:lnTo>
                      <a:pt x="46" y="1387"/>
                    </a:lnTo>
                    <a:lnTo>
                      <a:pt x="33" y="1365"/>
                    </a:lnTo>
                    <a:lnTo>
                      <a:pt x="21" y="1341"/>
                    </a:lnTo>
                    <a:lnTo>
                      <a:pt x="12" y="1315"/>
                    </a:lnTo>
                    <a:lnTo>
                      <a:pt x="6" y="1288"/>
                    </a:lnTo>
                    <a:lnTo>
                      <a:pt x="1" y="1261"/>
                    </a:lnTo>
                    <a:lnTo>
                      <a:pt x="0" y="1232"/>
                    </a:lnTo>
                    <a:lnTo>
                      <a:pt x="0" y="275"/>
                    </a:lnTo>
                    <a:lnTo>
                      <a:pt x="1" y="247"/>
                    </a:lnTo>
                    <a:lnTo>
                      <a:pt x="6" y="220"/>
                    </a:lnTo>
                    <a:lnTo>
                      <a:pt x="12" y="194"/>
                    </a:lnTo>
                    <a:lnTo>
                      <a:pt x="21" y="169"/>
                    </a:lnTo>
                    <a:lnTo>
                      <a:pt x="33" y="145"/>
                    </a:lnTo>
                    <a:lnTo>
                      <a:pt x="46" y="122"/>
                    </a:lnTo>
                    <a:lnTo>
                      <a:pt x="63" y="101"/>
                    </a:lnTo>
                    <a:lnTo>
                      <a:pt x="81" y="81"/>
                    </a:lnTo>
                    <a:lnTo>
                      <a:pt x="100" y="63"/>
                    </a:lnTo>
                    <a:lnTo>
                      <a:pt x="121" y="47"/>
                    </a:lnTo>
                    <a:lnTo>
                      <a:pt x="144" y="33"/>
                    </a:lnTo>
                    <a:lnTo>
                      <a:pt x="168" y="21"/>
                    </a:lnTo>
                    <a:lnTo>
                      <a:pt x="193" y="12"/>
                    </a:lnTo>
                    <a:lnTo>
                      <a:pt x="219" y="6"/>
                    </a:lnTo>
                    <a:lnTo>
                      <a:pt x="246" y="2"/>
                    </a:lnTo>
                    <a:lnTo>
                      <a:pt x="274" y="0"/>
                    </a:lnTo>
                  </a:path>
                </a:pathLst>
              </a:custGeom>
              <a:noFill/>
              <a:ln w="1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247520" y="1549440"/>
                <a:ext cx="9972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324200" y="167184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319160" y="167184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336440" y="167184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289640" y="167184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284600" y="167184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301880" y="167184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252920" y="1671840"/>
                <a:ext cx="1764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247880" y="167184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7265520" y="167184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324200" y="169308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7319160" y="169308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7336440" y="169308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289640" y="169308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284600" y="169308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301880" y="169308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252920" y="1693080"/>
                <a:ext cx="1764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7247880" y="169308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7265520" y="169308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324200" y="171432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319160" y="17143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7336440" y="17143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89640" y="171432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284600" y="17143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301880" y="17143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7252920" y="1714320"/>
                <a:ext cx="1764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247880" y="17143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265520" y="17143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324200" y="173592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7319160" y="1735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7336440" y="1735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289640" y="173592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7284600" y="1735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301880" y="1735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252920" y="1735920"/>
                <a:ext cx="1764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7247880" y="1735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265520" y="1735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289640" y="1636560"/>
                <a:ext cx="17280" cy="1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280640" y="1636560"/>
                <a:ext cx="18000" cy="18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297920" y="1636560"/>
                <a:ext cx="18360" cy="18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251480" y="1634760"/>
                <a:ext cx="20160" cy="16920"/>
              </a:xfrm>
              <a:custGeom>
                <a:avLst/>
                <a:gdLst/>
                <a:ahLst/>
                <a:rect l="l" t="t" r="r" b="b"/>
                <a:pathLst>
                  <a:path w="99" h="84">
                    <a:moveTo>
                      <a:pt x="74" y="84"/>
                    </a:moveTo>
                    <a:lnTo>
                      <a:pt x="99" y="42"/>
                    </a:lnTo>
                    <a:lnTo>
                      <a:pt x="26" y="0"/>
                    </a:lnTo>
                    <a:lnTo>
                      <a:pt x="0" y="42"/>
                    </a:lnTo>
                    <a:lnTo>
                      <a:pt x="74" y="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7249320" y="1634400"/>
                <a:ext cx="10080" cy="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264440" y="1643040"/>
                <a:ext cx="10080" cy="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323840" y="1634760"/>
                <a:ext cx="19800" cy="17640"/>
              </a:xfrm>
              <a:custGeom>
                <a:avLst/>
                <a:gdLst/>
                <a:ahLst/>
                <a:rect l="l" t="t" r="r" b="b"/>
                <a:pathLst>
                  <a:path w="98" h="86">
                    <a:moveTo>
                      <a:pt x="0" y="42"/>
                    </a:moveTo>
                    <a:lnTo>
                      <a:pt x="24" y="86"/>
                    </a:lnTo>
                    <a:lnTo>
                      <a:pt x="98" y="44"/>
                    </a:lnTo>
                    <a:lnTo>
                      <a:pt x="74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336080" y="1634400"/>
                <a:ext cx="10080" cy="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7321320" y="1643040"/>
                <a:ext cx="9720" cy="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9" name=""/>
            <p:cNvSpPr/>
            <p:nvPr/>
          </p:nvSpPr>
          <p:spPr>
            <a:xfrm>
              <a:off x="5847840" y="1400040"/>
              <a:ext cx="13222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ulti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ain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" name=""/>
          <p:cNvSpPr/>
          <p:nvPr/>
        </p:nvSpPr>
        <p:spPr>
          <a:xfrm>
            <a:off x="309600" y="5346720"/>
            <a:ext cx="250920" cy="14760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73960" y="5337000"/>
            <a:ext cx="2503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atible with 65 or 75 series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91960" y="5759280"/>
            <a:ext cx="250920" cy="147960"/>
          </a:xfrm>
          <a:prstGeom prst="rect">
            <a:avLst/>
          </a:prstGeom>
          <a:solidFill>
            <a:srgbClr val="9e1d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72160" y="5756400"/>
            <a:ext cx="1317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ne on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91960" y="5977080"/>
            <a:ext cx="250920" cy="147600"/>
          </a:xfrm>
          <a:prstGeom prst="rect">
            <a:avLst/>
          </a:prstGeom>
          <a:solidFill>
            <a:srgbClr val="6264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72520" y="5973840"/>
            <a:ext cx="1410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bulk on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72880" y="6221520"/>
            <a:ext cx="2035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Backwards compati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91960" y="5559480"/>
            <a:ext cx="250920" cy="147600"/>
          </a:xfrm>
          <a:prstGeom prst="rect">
            <a:avLst/>
          </a:prstGeom>
          <a:solidFill>
            <a:srgbClr val="4c9b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72880" y="5556240"/>
            <a:ext cx="263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ucts compatible with 85 se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147600" y="1996920"/>
            <a:ext cx="1468440" cy="507960"/>
            <a:chOff x="147600" y="1996920"/>
            <a:chExt cx="1468440" cy="507960"/>
          </a:xfrm>
        </p:grpSpPr>
        <p:sp>
          <p:nvSpPr>
            <p:cNvPr id="600" name=""/>
            <p:cNvSpPr/>
            <p:nvPr/>
          </p:nvSpPr>
          <p:spPr>
            <a:xfrm>
              <a:off x="147600" y="1996920"/>
              <a:ext cx="1468440" cy="50796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34040" y="2170440"/>
              <a:ext cx="296640" cy="15120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1630440" y="1996920"/>
            <a:ext cx="1468440" cy="507960"/>
            <a:chOff x="1630440" y="1996920"/>
            <a:chExt cx="1468440" cy="507960"/>
          </a:xfrm>
        </p:grpSpPr>
        <p:sp>
          <p:nvSpPr>
            <p:cNvPr id="603" name=""/>
            <p:cNvSpPr/>
            <p:nvPr/>
          </p:nvSpPr>
          <p:spPr>
            <a:xfrm>
              <a:off x="1630440" y="1996920"/>
              <a:ext cx="1468440" cy="507960"/>
            </a:xfrm>
            <a:prstGeom prst="rect">
              <a:avLst/>
            </a:prstGeom>
            <a:solidFill>
              <a:srgbClr val="9e1d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654200" y="2156040"/>
              <a:ext cx="1444680" cy="152640"/>
            </a:xfrm>
            <a:prstGeom prst="rect">
              <a:avLst/>
            </a:prstGeom>
            <a:solidFill>
              <a:srgbClr val="9e1d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i-Ion Batte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70 mA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BA-1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5" name=""/>
          <p:cNvSpPr/>
          <p:nvPr/>
        </p:nvSpPr>
        <p:spPr>
          <a:xfrm>
            <a:off x="1444680" y="2174760"/>
            <a:ext cx="171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181560" y="4606920"/>
            <a:ext cx="299736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marL="181080" indent="-181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Remark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andard case to be selected from existing AD portfol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ereo Headset and USB cable ready for bund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ew AD product, launch with POLARIS in 2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ar Kit EASY with universal phone fixation and GPS preparation, launch with FINCH in 1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aunch with IBIS in 05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ew AD product, launch with PLOVER in 2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4568760" y="4054320"/>
            <a:ext cx="1468440" cy="507960"/>
            <a:chOff x="4568760" y="4054320"/>
            <a:chExt cx="1468440" cy="507960"/>
          </a:xfrm>
        </p:grpSpPr>
        <p:sp>
          <p:nvSpPr>
            <p:cNvPr id="608" name=""/>
            <p:cNvSpPr/>
            <p:nvPr/>
          </p:nvSpPr>
          <p:spPr>
            <a:xfrm>
              <a:off x="4568760" y="4054320"/>
              <a:ext cx="1468440" cy="507960"/>
            </a:xfrm>
            <a:prstGeom prst="rect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752720" y="4228920"/>
              <a:ext cx="1127160" cy="154080"/>
            </a:xfrm>
            <a:prstGeom prst="rect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r Kit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luetooth</a:t>
              </a:r>
              <a:r>
                <a:rPr b="1" i="1" lang="en-US" sz="10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®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HKW-710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4562640" y="3032280"/>
            <a:ext cx="1468440" cy="507600"/>
            <a:chOff x="4562640" y="3032280"/>
            <a:chExt cx="1468440" cy="507600"/>
          </a:xfrm>
        </p:grpSpPr>
        <p:sp>
          <p:nvSpPr>
            <p:cNvPr id="611" name=""/>
            <p:cNvSpPr/>
            <p:nvPr/>
          </p:nvSpPr>
          <p:spPr>
            <a:xfrm>
              <a:off x="4562640" y="3032280"/>
              <a:ext cx="1468440" cy="507600"/>
            </a:xfrm>
            <a:prstGeom prst="rect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825800" y="3127680"/>
              <a:ext cx="952920" cy="305280"/>
            </a:xfrm>
            <a:prstGeom prst="rect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r Kit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luetooth</a:t>
              </a:r>
              <a:r>
                <a:rPr b="1" i="1" lang="en-US" sz="10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Portab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KW-7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2942280" y="5599080"/>
            <a:ext cx="1759680" cy="507600"/>
            <a:chOff x="2942280" y="5599080"/>
            <a:chExt cx="1759680" cy="507600"/>
          </a:xfrm>
        </p:grpSpPr>
        <p:sp>
          <p:nvSpPr>
            <p:cNvPr id="614" name=""/>
            <p:cNvSpPr/>
            <p:nvPr/>
          </p:nvSpPr>
          <p:spPr>
            <a:xfrm>
              <a:off x="3079800" y="5599080"/>
              <a:ext cx="1468440" cy="507600"/>
            </a:xfrm>
            <a:prstGeom prst="rect">
              <a:avLst/>
            </a:prstGeom>
            <a:solidFill>
              <a:srgbClr val="afc2c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942280" y="5694120"/>
              <a:ext cx="1759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dset Bluetooth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HB-700/7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4557600" y="4562640"/>
            <a:ext cx="1468440" cy="507600"/>
            <a:chOff x="4557600" y="4562640"/>
            <a:chExt cx="1468440" cy="507600"/>
          </a:xfrm>
        </p:grpSpPr>
        <p:sp>
          <p:nvSpPr>
            <p:cNvPr id="617" name=""/>
            <p:cNvSpPr/>
            <p:nvPr/>
          </p:nvSpPr>
          <p:spPr>
            <a:xfrm>
              <a:off x="4557600" y="4562640"/>
              <a:ext cx="1468440" cy="507600"/>
            </a:xfrm>
            <a:prstGeom prst="rect">
              <a:avLst/>
            </a:prstGeom>
            <a:solidFill>
              <a:srgbClr val="afc2c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820760" y="4657680"/>
              <a:ext cx="952920" cy="305640"/>
            </a:xfrm>
            <a:prstGeom prst="rect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r Kit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luetooth</a:t>
              </a:r>
              <a:r>
                <a:rPr b="1" i="1" lang="en-US" sz="10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SI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HKW-720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3051720" y="3533760"/>
            <a:ext cx="1564560" cy="507600"/>
            <a:chOff x="3051720" y="3533760"/>
            <a:chExt cx="1564560" cy="507600"/>
          </a:xfrm>
        </p:grpSpPr>
        <p:sp>
          <p:nvSpPr>
            <p:cNvPr id="620" name=""/>
            <p:cNvSpPr/>
            <p:nvPr/>
          </p:nvSpPr>
          <p:spPr>
            <a:xfrm>
              <a:off x="3094200" y="3533760"/>
              <a:ext cx="1468440" cy="50760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051720" y="3627000"/>
              <a:ext cx="1564560" cy="30492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dset Stere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HS-1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>
            <a:off x="5886360" y="3162240"/>
            <a:ext cx="20016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413240" y="3720960"/>
            <a:ext cx="17928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880240" y="2639880"/>
            <a:ext cx="19980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2911680" y="6148440"/>
            <a:ext cx="1812960" cy="507960"/>
            <a:chOff x="2911680" y="6148440"/>
            <a:chExt cx="1812960" cy="507960"/>
          </a:xfrm>
        </p:grpSpPr>
        <p:sp>
          <p:nvSpPr>
            <p:cNvPr id="626" name=""/>
            <p:cNvSpPr/>
            <p:nvPr/>
          </p:nvSpPr>
          <p:spPr>
            <a:xfrm>
              <a:off x="3075120" y="6148440"/>
              <a:ext cx="1468440" cy="507960"/>
            </a:xfrm>
            <a:prstGeom prst="rect">
              <a:avLst/>
            </a:prstGeom>
            <a:solidFill>
              <a:srgbClr val="4c9bc6"/>
            </a:solidFill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911680" y="6218280"/>
              <a:ext cx="1812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dset Bluetooth</a:t>
              </a:r>
              <a:r>
                <a:rPr b="1" i="1" lang="en-US" sz="10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ereo HHB-7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1630440" y="2516040"/>
            <a:ext cx="1468440" cy="507960"/>
            <a:chOff x="1630440" y="2516040"/>
            <a:chExt cx="1468440" cy="507960"/>
          </a:xfrm>
        </p:grpSpPr>
        <p:sp>
          <p:nvSpPr>
            <p:cNvPr id="629" name=""/>
            <p:cNvSpPr/>
            <p:nvPr/>
          </p:nvSpPr>
          <p:spPr>
            <a:xfrm>
              <a:off x="1630440" y="2516040"/>
              <a:ext cx="1468440" cy="507960"/>
            </a:xfrm>
            <a:prstGeom prst="rect">
              <a:avLst/>
            </a:prstGeom>
            <a:solidFill>
              <a:srgbClr val="4c9bc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946520" y="2686320"/>
              <a:ext cx="844560" cy="15264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ravel Charger EU/U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TC-100/1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1630440" y="3025800"/>
            <a:ext cx="1468440" cy="507600"/>
            <a:chOff x="1630440" y="3025800"/>
            <a:chExt cx="1468440" cy="507600"/>
          </a:xfrm>
        </p:grpSpPr>
        <p:sp>
          <p:nvSpPr>
            <p:cNvPr id="632" name=""/>
            <p:cNvSpPr/>
            <p:nvPr/>
          </p:nvSpPr>
          <p:spPr>
            <a:xfrm>
              <a:off x="1630440" y="3025800"/>
              <a:ext cx="1468440" cy="507600"/>
            </a:xfrm>
            <a:prstGeom prst="rect">
              <a:avLst/>
            </a:prstGeom>
            <a:solidFill>
              <a:srgbClr val="4c9bc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79920" y="3197520"/>
              <a:ext cx="977760" cy="15264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r Charger Pl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CC-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4" name=""/>
          <p:cNvSpPr/>
          <p:nvPr/>
        </p:nvSpPr>
        <p:spPr>
          <a:xfrm>
            <a:off x="1636560" y="3562200"/>
            <a:ext cx="1468440" cy="508320"/>
          </a:xfrm>
          <a:prstGeom prst="rect">
            <a:avLst/>
          </a:prstGeom>
          <a:solidFill>
            <a:srgbClr val="4c9b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886040" y="3705120"/>
            <a:ext cx="977760" cy="154080"/>
          </a:xfrm>
          <a:prstGeom prst="rect">
            <a:avLst/>
          </a:prstGeom>
          <a:solidFill>
            <a:srgbClr val="4c9b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kTop St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DS-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2975400" y="3025800"/>
            <a:ext cx="1720080" cy="507600"/>
            <a:chOff x="2975400" y="3025800"/>
            <a:chExt cx="1720080" cy="507600"/>
          </a:xfrm>
        </p:grpSpPr>
        <p:sp>
          <p:nvSpPr>
            <p:cNvPr id="637" name=""/>
            <p:cNvSpPr/>
            <p:nvPr/>
          </p:nvSpPr>
          <p:spPr>
            <a:xfrm>
              <a:off x="3095640" y="3025800"/>
              <a:ext cx="1468440" cy="50760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975400" y="3120840"/>
              <a:ext cx="1720080" cy="30492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dset Puresty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HS-1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3088440" y="1996920"/>
            <a:ext cx="1502280" cy="508320"/>
            <a:chOff x="3088440" y="1996920"/>
            <a:chExt cx="1502280" cy="508320"/>
          </a:xfrm>
        </p:grpSpPr>
        <p:sp>
          <p:nvSpPr>
            <p:cNvPr id="640" name=""/>
            <p:cNvSpPr/>
            <p:nvPr/>
          </p:nvSpPr>
          <p:spPr>
            <a:xfrm>
              <a:off x="3110040" y="1996920"/>
              <a:ext cx="1447560" cy="50832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088440" y="2093760"/>
              <a:ext cx="1502280" cy="30492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dset Basi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HS-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3097080" y="2514600"/>
            <a:ext cx="1457280" cy="507600"/>
            <a:chOff x="3097080" y="2514600"/>
            <a:chExt cx="1457280" cy="507600"/>
          </a:xfrm>
        </p:grpSpPr>
        <p:sp>
          <p:nvSpPr>
            <p:cNvPr id="643" name=""/>
            <p:cNvSpPr/>
            <p:nvPr/>
          </p:nvSpPr>
          <p:spPr>
            <a:xfrm>
              <a:off x="3097080" y="2514600"/>
              <a:ext cx="1457280" cy="50760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207960" y="2607840"/>
              <a:ext cx="1241640" cy="30492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ds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HS-1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4564080" y="2486160"/>
            <a:ext cx="1468440" cy="548640"/>
            <a:chOff x="4564080" y="2486160"/>
            <a:chExt cx="1468440" cy="548640"/>
          </a:xfrm>
        </p:grpSpPr>
        <p:sp>
          <p:nvSpPr>
            <p:cNvPr id="646" name=""/>
            <p:cNvSpPr/>
            <p:nvPr/>
          </p:nvSpPr>
          <p:spPr>
            <a:xfrm>
              <a:off x="4564080" y="2486160"/>
              <a:ext cx="1468440" cy="54864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090400" y="2589480"/>
              <a:ext cx="423000" cy="32976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r Kit Portabl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KP-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7428600" y="2495520"/>
            <a:ext cx="1612080" cy="507600"/>
            <a:chOff x="7428600" y="2495520"/>
            <a:chExt cx="1612080" cy="507600"/>
          </a:xfrm>
        </p:grpSpPr>
        <p:sp>
          <p:nvSpPr>
            <p:cNvPr id="649" name=""/>
            <p:cNvSpPr/>
            <p:nvPr/>
          </p:nvSpPr>
          <p:spPr>
            <a:xfrm>
              <a:off x="7507440" y="2495520"/>
              <a:ext cx="1468440" cy="50760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428600" y="2603160"/>
              <a:ext cx="1612080" cy="30492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 Cable US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A-1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1" name=""/>
          <p:cNvSpPr/>
          <p:nvPr/>
        </p:nvSpPr>
        <p:spPr>
          <a:xfrm>
            <a:off x="8799480" y="2670120"/>
            <a:ext cx="1792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2943720" y="4038480"/>
            <a:ext cx="1759680" cy="507600"/>
            <a:chOff x="2943720" y="4038480"/>
            <a:chExt cx="1759680" cy="507600"/>
          </a:xfrm>
        </p:grpSpPr>
        <p:sp>
          <p:nvSpPr>
            <p:cNvPr id="653" name=""/>
            <p:cNvSpPr/>
            <p:nvPr/>
          </p:nvSpPr>
          <p:spPr>
            <a:xfrm>
              <a:off x="3084480" y="4038480"/>
              <a:ext cx="1468440" cy="50760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943720" y="4131720"/>
              <a:ext cx="1759680" cy="30492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dset Bluetooth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ASI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2940480" y="4559400"/>
            <a:ext cx="1759680" cy="507600"/>
            <a:chOff x="2940480" y="4559400"/>
            <a:chExt cx="1759680" cy="507600"/>
          </a:xfrm>
        </p:grpSpPr>
        <p:sp>
          <p:nvSpPr>
            <p:cNvPr id="656" name=""/>
            <p:cNvSpPr/>
            <p:nvPr/>
          </p:nvSpPr>
          <p:spPr>
            <a:xfrm>
              <a:off x="3081240" y="4559400"/>
              <a:ext cx="1468440" cy="50760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940480" y="4652640"/>
              <a:ext cx="1759680" cy="30492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dset Bluetooth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EMIU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8" name=""/>
          <p:cNvSpPr/>
          <p:nvPr/>
        </p:nvSpPr>
        <p:spPr>
          <a:xfrm>
            <a:off x="4411800" y="4340160"/>
            <a:ext cx="1792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427640" y="4889520"/>
            <a:ext cx="1220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4565520" y="1992240"/>
            <a:ext cx="1468440" cy="507600"/>
            <a:chOff x="4565520" y="1992240"/>
            <a:chExt cx="1468440" cy="507600"/>
          </a:xfrm>
        </p:grpSpPr>
        <p:sp>
          <p:nvSpPr>
            <p:cNvPr id="661" name=""/>
            <p:cNvSpPr/>
            <p:nvPr/>
          </p:nvSpPr>
          <p:spPr>
            <a:xfrm>
              <a:off x="4565520" y="1992240"/>
              <a:ext cx="1468440" cy="50760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091840" y="2087640"/>
              <a:ext cx="423000" cy="30528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ssive Holder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nivers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5881680" y="2293920"/>
            <a:ext cx="1792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037200" y="1995480"/>
            <a:ext cx="1468440" cy="525600"/>
          </a:xfrm>
          <a:prstGeom prst="rect">
            <a:avLst/>
          </a:prstGeom>
          <a:solidFill>
            <a:srgbClr val="4c9bc6"/>
          </a:solidFill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943240" y="2149560"/>
            <a:ext cx="1647000" cy="304920"/>
          </a:xfrm>
          <a:prstGeom prst="rect">
            <a:avLst/>
          </a:prstGeom>
          <a:solidFill>
            <a:srgbClr val="4c9b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uetooth   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Music S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346880" y="2232000"/>
            <a:ext cx="2001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499520" y="3017880"/>
            <a:ext cx="1468440" cy="515880"/>
          </a:xfrm>
          <a:prstGeom prst="rect">
            <a:avLst/>
          </a:prstGeom>
          <a:solidFill>
            <a:srgbClr val="4c9b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511040" y="3116160"/>
            <a:ext cx="1430640" cy="304920"/>
          </a:xfrm>
          <a:prstGeom prst="rect">
            <a:avLst/>
          </a:prstGeom>
          <a:solidFill>
            <a:srgbClr val="4c9b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nc St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-100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7508880" y="1986120"/>
            <a:ext cx="1468440" cy="507600"/>
            <a:chOff x="7508880" y="1986120"/>
            <a:chExt cx="1468440" cy="507600"/>
          </a:xfrm>
        </p:grpSpPr>
        <p:sp>
          <p:nvSpPr>
            <p:cNvPr id="670" name=""/>
            <p:cNvSpPr/>
            <p:nvPr/>
          </p:nvSpPr>
          <p:spPr>
            <a:xfrm>
              <a:off x="7508880" y="1986120"/>
              <a:ext cx="1468440" cy="50760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035200" y="2081520"/>
              <a:ext cx="423000" cy="30528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 Cable serial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CA-1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7507440" y="3540240"/>
            <a:ext cx="1468440" cy="507600"/>
            <a:chOff x="7507440" y="3540240"/>
            <a:chExt cx="1468440" cy="507600"/>
          </a:xfrm>
        </p:grpSpPr>
        <p:sp>
          <p:nvSpPr>
            <p:cNvPr id="673" name=""/>
            <p:cNvSpPr/>
            <p:nvPr/>
          </p:nvSpPr>
          <p:spPr>
            <a:xfrm>
              <a:off x="7507440" y="3540240"/>
              <a:ext cx="1468440" cy="50760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542720" y="3724200"/>
              <a:ext cx="1381680" cy="15264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usic Cab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5" name=""/>
          <p:cNvSpPr/>
          <p:nvPr/>
        </p:nvSpPr>
        <p:spPr>
          <a:xfrm>
            <a:off x="8825040" y="3863880"/>
            <a:ext cx="1792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4562640" y="3537000"/>
            <a:ext cx="1468440" cy="507600"/>
            <a:chOff x="4562640" y="3537000"/>
            <a:chExt cx="1468440" cy="507600"/>
          </a:xfrm>
        </p:grpSpPr>
        <p:sp>
          <p:nvSpPr>
            <p:cNvPr id="677" name=""/>
            <p:cNvSpPr/>
            <p:nvPr/>
          </p:nvSpPr>
          <p:spPr>
            <a:xfrm>
              <a:off x="4562640" y="3537000"/>
              <a:ext cx="1468440" cy="50760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088960" y="3632400"/>
              <a:ext cx="423000" cy="30528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r Kit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luetooth Portab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5900760" y="3855960"/>
            <a:ext cx="1792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53880" y="4665600"/>
            <a:ext cx="2030400" cy="45720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mpatibility only if CR for support of BT Stereo without Gimmick chip will be implemen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2940480" y="5073480"/>
            <a:ext cx="1759680" cy="507960"/>
            <a:chOff x="2940480" y="5073480"/>
            <a:chExt cx="1759680" cy="507960"/>
          </a:xfrm>
        </p:grpSpPr>
        <p:sp>
          <p:nvSpPr>
            <p:cNvPr id="682" name=""/>
            <p:cNvSpPr/>
            <p:nvPr/>
          </p:nvSpPr>
          <p:spPr>
            <a:xfrm>
              <a:off x="3081240" y="5073480"/>
              <a:ext cx="1468440" cy="50796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940480" y="5166720"/>
              <a:ext cx="1759680" cy="30492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dset Bluetooth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I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4" name=""/>
          <p:cNvSpPr/>
          <p:nvPr/>
        </p:nvSpPr>
        <p:spPr>
          <a:xfrm>
            <a:off x="4419720" y="5373720"/>
            <a:ext cx="1220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713720" y="882720"/>
            <a:ext cx="1328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. Fis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d2435"/>
                </a:solidFill>
                <a:latin typeface="Arial"/>
              </a:rPr>
              <a:t>2.11 Sales Strateg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Sales Strateg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8" name=""/>
          <p:cNvGraphicFramePr/>
          <p:nvPr/>
        </p:nvGraphicFramePr>
        <p:xfrm>
          <a:off x="147600" y="1197000"/>
          <a:ext cx="8816760" cy="4594320"/>
        </p:xfrm>
        <a:graphic>
          <a:graphicData uri="http://schemas.openxmlformats.org/drawingml/2006/table">
            <a:tbl>
              <a:tblPr/>
              <a:tblGrid>
                <a:gridCol w="786960"/>
                <a:gridCol w="886680"/>
                <a:gridCol w="878760"/>
                <a:gridCol w="905760"/>
                <a:gridCol w="888480"/>
                <a:gridCol w="896040"/>
                <a:gridCol w="888480"/>
                <a:gridCol w="894600"/>
                <a:gridCol w="888480"/>
                <a:gridCol w="902520"/>
              </a:tblGrid>
              <a:tr h="696960"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du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</a:tr>
              <a:tr h="3897360"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‘47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876"/>
                        </a:spcBef>
                        <a:buClr>
                          <a:srgbClr val="000000"/>
                        </a:buClr>
                        <a:buSzPct val="125000"/>
                        <a:buFont typeface="Times New Roman"/>
                        <a:buChar char="•"/>
                        <a:tabLst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01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876"/>
                        </a:spcBef>
                        <a:buClr>
                          <a:srgbClr val="000000"/>
                        </a:buClr>
                        <a:buSzPct val="125000"/>
                        <a:buFont typeface="Times New Roman"/>
                        <a:buChar char="•"/>
                        <a:tabLst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6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876"/>
                        </a:spcBef>
                        <a:buClr>
                          <a:srgbClr val="000000"/>
                        </a:buClr>
                        <a:buSzPct val="125000"/>
                        <a:buFont typeface="Times New Roman"/>
                        <a:buChar char="•"/>
                        <a:tabLst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876"/>
                        </a:spcBef>
                        <a:buClr>
                          <a:srgbClr val="000000"/>
                        </a:buClr>
                        <a:buSzPct val="125000"/>
                        <a:buFont typeface="Times New Roman"/>
                        <a:buChar char="•"/>
                        <a:tabLst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876"/>
                        </a:spcBef>
                        <a:buClr>
                          <a:srgbClr val="000000"/>
                        </a:buClr>
                        <a:buSzPct val="125000"/>
                        <a:buFont typeface="Times New Roman"/>
                        <a:buChar char="•"/>
                        <a:tabLst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876"/>
                        </a:spcBef>
                        <a:buClr>
                          <a:srgbClr val="000000"/>
                        </a:buClr>
                        <a:buSzPct val="125000"/>
                        <a:buFont typeface="Times New Roman"/>
                        <a:buChar char="•"/>
                        <a:tabLst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3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876"/>
                        </a:spcBef>
                        <a:buClr>
                          <a:srgbClr val="000000"/>
                        </a:buClr>
                        <a:buSzPct val="125000"/>
                        <a:buFont typeface="Times New Roman"/>
                        <a:buChar char="•"/>
                        <a:tabLst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1125"/>
                        </a:spcBef>
                        <a:buClr>
                          <a:srgbClr val="000000"/>
                        </a:buClr>
                        <a:buSzPct val="125000"/>
                        <a:buFont typeface="Times New Roman"/>
                        <a:buChar char="•"/>
                        <a:tabLst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1125"/>
                        </a:spcBef>
                        <a:buClr>
                          <a:srgbClr val="000000"/>
                        </a:buClr>
                        <a:buSzPct val="125000"/>
                        <a:buFont typeface="Times New Roman"/>
                        <a:buChar char="•"/>
                        <a:tabLst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1125"/>
                        </a:spcBef>
                        <a:buClr>
                          <a:srgbClr val="000000"/>
                        </a:buClr>
                        <a:buSzPct val="125000"/>
                        <a:buFont typeface="Times New Roman"/>
                        <a:buChar char="•"/>
                        <a:tabLst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Featur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3.2 Featuring (1/3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 of Features - 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14200" y="1090440"/>
            <a:ext cx="8759880" cy="46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recondi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X75/X85 SW platform provides the feature set for all devices of X85 SGold2 produ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X75 SGold2 is basis feature set (Minos&amp;Hydra) for X85 SGold2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X85 SGold2 adds additional features to the X75 SGold2 platfor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in added SW features for Swift based on X75 SGold2 platfor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QVGA display resolution and permanent Status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pscaling of videos to QVGA re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ltimedia features in SW w/o Gimmik C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no-I/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croSD card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speaker concept (incl. acoustic shock preven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splay power off in standby mode and support of Signal 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MA PoC (TB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.264 Video Decoding (TB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d LED Fla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rect calling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eaker independent Name and Digit Dialling (SIND/SID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X75 SGold2 SW Feature lis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en-US" sz="1500" spc="-1" strike="noStrike" u="sng">
                <a:solidFill>
                  <a:srgbClr val="d46028"/>
                </a:solidFill>
                <a:uFillTx/>
                <a:latin typeface="Arial"/>
                <a:hlinkClick r:id="rId1"/>
              </a:rPr>
              <a:t>https://ims.icn.siemens.de/livelink/livelink/Open/32989734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wift „Steckbrief“: </a:t>
            </a:r>
            <a:r>
              <a:rPr b="1" lang="en-US" sz="1500" spc="-1" strike="noStrike" u="sng">
                <a:solidFill>
                  <a:srgbClr val="d46028"/>
                </a:solidFill>
                <a:uFillTx/>
                <a:latin typeface="Arial"/>
                <a:hlinkClick r:id="rId2"/>
              </a:rPr>
              <a:t>https://ims.icn.siemens.de/livelink/livelink/Open/332091627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8115480" y="961920"/>
            <a:ext cx="7808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Source: Hi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7T17:12:05Z</dcterms:created>
  <dc:creator> </dc:creator>
  <dc:description/>
  <dc:language>en-US</dc:language>
  <cp:lastModifiedBy>Heike Evangelista</cp:lastModifiedBy>
  <dcterms:modified xsi:type="dcterms:W3CDTF">2005-07-08T11:09:46Z</dcterms:modified>
  <cp:revision>118</cp:revision>
  <dc:subject/>
  <dc:title>Foreword: Powerpoint Template for  Siemens Communications</dc:title>
</cp:coreProperties>
</file>